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gif" ContentType="image/gif"/>
  <Override PartName="/ppt/media/image16.gif" ContentType="image/gif"/>
  <Override PartName="/ppt/media/image15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media/image5.png" ContentType="image/png"/>
  <Override PartName="/ppt/media/image10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AF1-B3A4-4045-AA88-8E7F9E24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30C-944A-40BF-80BA-4291963A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5EB-8DEE-481A-8277-D4A47B92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CC6-D1EF-4E35-86F7-E415A75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FED-380B-492A-9038-BDAD1EF0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148-A3B0-4238-9539-30C444C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827-917F-4BEE-AB2E-56DD040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5A9-47F9-445A-AA96-10B3B341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AEF-0680-4099-B233-868662B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A82-5453-48CE-9D31-5A1E3D4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EDC-FC86-4AFF-8F38-04FFB22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7E7-4C25-469A-A19E-22DC4500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C9D2-3523-4AD5-A79F-79F8E7D8B1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24880" y="695160"/>
            <a:ext cx="7016760" cy="4749840"/>
            <a:chOff x="1424880" y="695160"/>
            <a:chExt cx="7016760" cy="4749840"/>
          </a:xfrm>
        </p:grpSpPr>
        <p:pic>
          <p:nvPicPr>
            <p:cNvPr id="42" name="わーい" descr=""/>
            <p:cNvPicPr/>
            <p:nvPr/>
          </p:nvPicPr>
          <p:blipFill>
            <a:blip r:embed="rId1"/>
            <a:stretch/>
          </p:blipFill>
          <p:spPr>
            <a:xfrm>
              <a:off x="3352680" y="2209680"/>
              <a:ext cx="308628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 rot="20062200">
              <a:off x="1447920" y="1143000"/>
              <a:ext cx="220968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HG創英角ﾎﾟｯﾌﾟ体"/>
                </a:rPr>
                <a:t>わーい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創英角ﾎﾟｯﾌﾟ体"/>
                <a:ea typeface="HG創英角ﾎﾟｯﾌﾟ体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2590920" y="1371600"/>
              <a:ext cx="5029200" cy="178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HG創英角ﾎﾟｯﾌﾟ体"/>
                </a:rPr>
                <a:t>インターネットで調べるの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創英角ﾎﾟｯﾌﾟ体"/>
                <a:ea typeface="HG創英角ﾎﾟｯﾌﾟ体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812600">
              <a:off x="5763960" y="2588760"/>
              <a:ext cx="2666880" cy="762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HG創英角ﾎﾟｯﾌﾟ体"/>
                </a:rPr>
                <a:t>だーいすき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創英角ﾎﾟｯﾌﾟ体"/>
                <a:ea typeface="HG創英角ﾎﾟｯﾌﾟ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28954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76520" y="0"/>
            <a:ext cx="6019560" cy="6858000"/>
            <a:chOff x="1676520" y="0"/>
            <a:chExt cx="6019560" cy="6858000"/>
          </a:xfrm>
        </p:grpSpPr>
        <p:sp>
          <p:nvSpPr>
            <p:cNvPr id="139" name=""/>
            <p:cNvSpPr/>
            <p:nvPr/>
          </p:nvSpPr>
          <p:spPr>
            <a:xfrm>
              <a:off x="1676520" y="0"/>
              <a:ext cx="60195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505320" y="2743200"/>
              <a:ext cx="26096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solidFill>
                    <a:srgbClr val="ff0000"/>
                  </a:solidFill>
                  <a:latin typeface="ＭＳ Ｐゴシック"/>
                </a:rPr>
                <a:t>ありがとうございました。</a:t>
              </a:r>
              <a:endParaRPr b="1" lang="en-US" sz="2000" spc="1" strike="noStrike">
                <a:ln w="0">
                  <a:noFill/>
                </a:ln>
                <a:solidFill>
                  <a:srgbClr val="ff0000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38680" y="4648320"/>
            <a:ext cx="1857600" cy="1922400"/>
            <a:chOff x="5638680" y="4648320"/>
            <a:chExt cx="1857600" cy="1922400"/>
          </a:xfrm>
        </p:grpSpPr>
        <p:pic>
          <p:nvPicPr>
            <p:cNvPr id="142" name="わーい" descr=""/>
            <p:cNvPicPr/>
            <p:nvPr/>
          </p:nvPicPr>
          <p:blipFill>
            <a:blip r:embed="rId1"/>
            <a:stretch/>
          </p:blipFill>
          <p:spPr>
            <a:xfrm>
              <a:off x="5867280" y="5105520"/>
              <a:ext cx="139716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5638680" y="4648320"/>
              <a:ext cx="1857600" cy="51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ＭＳ Ｐゴシック"/>
                </a:rPr>
                <a:t>わーい　楽しみぃ～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523880" y="2666880"/>
            <a:ext cx="5950080" cy="795240"/>
            <a:chOff x="1523880" y="2666880"/>
            <a:chExt cx="5950080" cy="795240"/>
          </a:xfrm>
        </p:grpSpPr>
        <p:pic>
          <p:nvPicPr>
            <p:cNvPr id="145" name="情報集める鳥" descr=""/>
            <p:cNvPicPr/>
            <p:nvPr/>
          </p:nvPicPr>
          <p:blipFill>
            <a:blip r:embed="rId1"/>
            <a:stretch/>
          </p:blipFill>
          <p:spPr>
            <a:xfrm>
              <a:off x="1523880" y="2666880"/>
              <a:ext cx="11430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 txBox="1"/>
            <p:nvPr/>
          </p:nvSpPr>
          <p:spPr>
            <a:xfrm rot="105600">
              <a:off x="2818800" y="2895120"/>
              <a:ext cx="464832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6986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ff00"/>
                  </a:solidFill>
                  <a:latin typeface="HG創英角ﾎﾟｯﾌﾟ体"/>
                </a:rPr>
                <a:t>また一つ個人情報が手に入ったぞぉ～</a:t>
              </a:r>
              <a:endPara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HG創英角ﾎﾟｯﾌﾟ体"/>
                <a:ea typeface="HG創英角ﾎﾟｯﾌﾟ体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24080" y="4267080"/>
            <a:ext cx="4876920" cy="2590920"/>
            <a:chOff x="3124080" y="4267080"/>
            <a:chExt cx="4876920" cy="2590920"/>
          </a:xfrm>
        </p:grpSpPr>
        <p:pic>
          <p:nvPicPr>
            <p:cNvPr id="148" name="なにこれ" descr=""/>
            <p:cNvPicPr/>
            <p:nvPr/>
          </p:nvPicPr>
          <p:blipFill>
            <a:blip r:embed="rId2"/>
            <a:stretch/>
          </p:blipFill>
          <p:spPr>
            <a:xfrm>
              <a:off x="3124080" y="4511520"/>
              <a:ext cx="25146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791320" y="4267080"/>
              <a:ext cx="2209680" cy="838440"/>
            </a:xfrm>
            <a:prstGeom prst="wedgeEllipseCallout">
              <a:avLst>
                <a:gd name="adj1" fmla="val -55819"/>
                <a:gd name="adj2" fmla="val 81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HG創英角ﾎﾟｯﾌﾟ体"/>
                </a:rPr>
                <a:t>えっ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  <a:ea typeface="HG創英角ﾎﾟｯﾌﾟ体"/>
                </a:rPr>
                <a:t>どういうこと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3429000" y="1905120"/>
            <a:ext cx="2362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0000"/>
                </a:solidFill>
                <a:latin typeface="ＤＨＰ行書体"/>
              </a:rPr>
              <a:t>ありがとうね…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latin typeface="ＤＨＰ行書体"/>
              <a:ea typeface="ＤＨＰ行書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971800" y="609480"/>
            <a:ext cx="3162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個人情報とは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47840" y="2438280"/>
            <a:ext cx="2209680" cy="2971800"/>
            <a:chOff x="447840" y="2438280"/>
            <a:chExt cx="2209680" cy="2971800"/>
          </a:xfrm>
        </p:grpSpPr>
        <p:grpSp>
          <p:nvGrpSpPr>
            <p:cNvPr id="153" name=""/>
            <p:cNvGrpSpPr/>
            <p:nvPr/>
          </p:nvGrpSpPr>
          <p:grpSpPr>
            <a:xfrm>
              <a:off x="447840" y="2438280"/>
              <a:ext cx="2209680" cy="2971800"/>
              <a:chOff x="447840" y="2438280"/>
              <a:chExt cx="2209680" cy="2971800"/>
            </a:xfrm>
          </p:grpSpPr>
          <p:sp>
            <p:nvSpPr>
              <p:cNvPr id="154" name=""/>
              <p:cNvSpPr/>
              <p:nvPr/>
            </p:nvSpPr>
            <p:spPr>
              <a:xfrm>
                <a:off x="447840" y="2438280"/>
                <a:ext cx="2209680" cy="1905120"/>
              </a:xfrm>
              <a:prstGeom prst="ellipse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62240" y="4343400"/>
                <a:ext cx="266760" cy="1066680"/>
              </a:xfrm>
              <a:custGeom>
                <a:avLst/>
                <a:gdLst/>
                <a:ahLst/>
                <a:rect l="l" t="t" r="r" b="b"/>
                <a:pathLst>
                  <a:path w="168" h="672">
                    <a:moveTo>
                      <a:pt x="104" y="0"/>
                    </a:moveTo>
                    <a:cubicBezTo>
                      <a:pt x="52" y="124"/>
                      <a:pt x="0" y="248"/>
                      <a:pt x="8" y="336"/>
                    </a:cubicBezTo>
                    <a:cubicBezTo>
                      <a:pt x="16" y="424"/>
                      <a:pt x="136" y="472"/>
                      <a:pt x="152" y="528"/>
                    </a:cubicBezTo>
                    <a:cubicBezTo>
                      <a:pt x="168" y="584"/>
                      <a:pt x="136" y="628"/>
                      <a:pt x="104" y="67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38560" y="426708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 txBox="1"/>
            <p:nvPr/>
          </p:nvSpPr>
          <p:spPr>
            <a:xfrm>
              <a:off x="828720" y="3048120"/>
              <a:ext cx="1371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3333ff"/>
                  </a:solidFill>
                  <a:latin typeface="HG創英角ﾎﾟｯﾌﾟ体"/>
                </a:rPr>
                <a:t>氏　名</a:t>
              </a:r>
              <a:endParaRPr b="0" lang="en-US" sz="2400" spc="1" strike="noStrike">
                <a:ln w="0">
                  <a:noFill/>
                </a:ln>
                <a:solidFill>
                  <a:srgbClr val="3333ff"/>
                </a:solidFill>
                <a:latin typeface="HG創英角ﾎﾟｯﾌﾟ体"/>
                <a:ea typeface="HG創英角ﾎﾟｯﾌﾟ体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133720" y="2743200"/>
              <a:ext cx="410040" cy="486360"/>
              <a:chOff x="2133720" y="2743200"/>
              <a:chExt cx="410040" cy="486360"/>
            </a:xfrm>
          </p:grpSpPr>
          <p:sp>
            <p:nvSpPr>
              <p:cNvPr id="159" name=""/>
              <p:cNvSpPr/>
              <p:nvPr/>
            </p:nvSpPr>
            <p:spPr>
              <a:xfrm>
                <a:off x="2133720" y="274320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66800">
                <a:off x="2361960" y="304776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743200" y="2057400"/>
            <a:ext cx="2209680" cy="2971800"/>
            <a:chOff x="2743200" y="2057400"/>
            <a:chExt cx="2209680" cy="2971800"/>
          </a:xfrm>
        </p:grpSpPr>
        <p:grpSp>
          <p:nvGrpSpPr>
            <p:cNvPr id="162" name=""/>
            <p:cNvGrpSpPr/>
            <p:nvPr/>
          </p:nvGrpSpPr>
          <p:grpSpPr>
            <a:xfrm>
              <a:off x="2743200" y="2057400"/>
              <a:ext cx="2209680" cy="2971800"/>
              <a:chOff x="2743200" y="2057400"/>
              <a:chExt cx="2209680" cy="2971800"/>
            </a:xfrm>
          </p:grpSpPr>
          <p:sp>
            <p:nvSpPr>
              <p:cNvPr id="163" name=""/>
              <p:cNvSpPr/>
              <p:nvPr/>
            </p:nvSpPr>
            <p:spPr>
              <a:xfrm>
                <a:off x="3657600" y="3962520"/>
                <a:ext cx="266760" cy="1066680"/>
              </a:xfrm>
              <a:custGeom>
                <a:avLst/>
                <a:gdLst/>
                <a:ahLst/>
                <a:rect l="l" t="t" r="r" b="b"/>
                <a:pathLst>
                  <a:path w="168" h="672">
                    <a:moveTo>
                      <a:pt x="104" y="0"/>
                    </a:moveTo>
                    <a:cubicBezTo>
                      <a:pt x="52" y="124"/>
                      <a:pt x="0" y="248"/>
                      <a:pt x="8" y="336"/>
                    </a:cubicBezTo>
                    <a:cubicBezTo>
                      <a:pt x="16" y="424"/>
                      <a:pt x="136" y="472"/>
                      <a:pt x="152" y="528"/>
                    </a:cubicBezTo>
                    <a:cubicBezTo>
                      <a:pt x="168" y="584"/>
                      <a:pt x="136" y="628"/>
                      <a:pt x="104" y="67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43200" y="2057400"/>
                <a:ext cx="2209680" cy="1905120"/>
              </a:xfrm>
              <a:prstGeom prst="ellipse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33920" y="38862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 txBox="1"/>
            <p:nvPr/>
          </p:nvSpPr>
          <p:spPr>
            <a:xfrm>
              <a:off x="3124080" y="2743200"/>
              <a:ext cx="1371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HG創英角ﾎﾟｯﾌﾟ体"/>
                </a:rPr>
                <a:t>住　所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HG創英角ﾎﾟｯﾌﾟ体"/>
                <a:ea typeface="HG創英角ﾎﾟｯﾌﾟ体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419720" y="2362320"/>
              <a:ext cx="410040" cy="486360"/>
              <a:chOff x="4419720" y="2362320"/>
              <a:chExt cx="410040" cy="486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419720" y="23623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6800">
                <a:off x="4647960" y="26668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743360" y="2514600"/>
            <a:ext cx="2210040" cy="2971800"/>
            <a:chOff x="4743360" y="2514600"/>
            <a:chExt cx="2210040" cy="2971800"/>
          </a:xfrm>
        </p:grpSpPr>
        <p:grpSp>
          <p:nvGrpSpPr>
            <p:cNvPr id="171" name=""/>
            <p:cNvGrpSpPr/>
            <p:nvPr/>
          </p:nvGrpSpPr>
          <p:grpSpPr>
            <a:xfrm>
              <a:off x="4743360" y="2514600"/>
              <a:ext cx="2210040" cy="2971800"/>
              <a:chOff x="4743360" y="2514600"/>
              <a:chExt cx="2210040" cy="2971800"/>
            </a:xfrm>
          </p:grpSpPr>
          <p:sp>
            <p:nvSpPr>
              <p:cNvPr id="172" name=""/>
              <p:cNvSpPr/>
              <p:nvPr/>
            </p:nvSpPr>
            <p:spPr>
              <a:xfrm>
                <a:off x="5657760" y="4419720"/>
                <a:ext cx="266760" cy="1066680"/>
              </a:xfrm>
              <a:custGeom>
                <a:avLst/>
                <a:gdLst/>
                <a:ahLst/>
                <a:rect l="l" t="t" r="r" b="b"/>
                <a:pathLst>
                  <a:path w="168" h="672">
                    <a:moveTo>
                      <a:pt x="104" y="0"/>
                    </a:moveTo>
                    <a:cubicBezTo>
                      <a:pt x="52" y="124"/>
                      <a:pt x="0" y="248"/>
                      <a:pt x="8" y="336"/>
                    </a:cubicBezTo>
                    <a:cubicBezTo>
                      <a:pt x="16" y="424"/>
                      <a:pt x="136" y="472"/>
                      <a:pt x="152" y="528"/>
                    </a:cubicBezTo>
                    <a:cubicBezTo>
                      <a:pt x="168" y="584"/>
                      <a:pt x="136" y="628"/>
                      <a:pt x="104" y="67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3360" y="2514600"/>
                <a:ext cx="2210040" cy="1905120"/>
              </a:xfrm>
              <a:prstGeom prst="ellipse">
                <a:avLst/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34080" y="43434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 txBox="1"/>
            <p:nvPr/>
          </p:nvSpPr>
          <p:spPr>
            <a:xfrm>
              <a:off x="5124600" y="3124080"/>
              <a:ext cx="1371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HG創英角ﾎﾟｯﾌﾟ体"/>
                </a:rPr>
                <a:t>電話番号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HG創英角ﾎﾟｯﾌﾟ体"/>
                <a:ea typeface="HG創英角ﾎﾟｯﾌﾟ体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324480" y="2743200"/>
              <a:ext cx="410040" cy="486360"/>
              <a:chOff x="6324480" y="2743200"/>
              <a:chExt cx="410040" cy="486360"/>
            </a:xfrm>
          </p:grpSpPr>
          <p:sp>
            <p:nvSpPr>
              <p:cNvPr id="177" name=""/>
              <p:cNvSpPr/>
              <p:nvPr/>
            </p:nvSpPr>
            <p:spPr>
              <a:xfrm>
                <a:off x="6324480" y="274320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66800">
                <a:off x="6552720" y="304776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6477120" y="1219320"/>
            <a:ext cx="2209680" cy="2971800"/>
            <a:chOff x="6477120" y="1219320"/>
            <a:chExt cx="2209680" cy="2971800"/>
          </a:xfrm>
        </p:grpSpPr>
        <p:grpSp>
          <p:nvGrpSpPr>
            <p:cNvPr id="180" name=""/>
            <p:cNvGrpSpPr/>
            <p:nvPr/>
          </p:nvGrpSpPr>
          <p:grpSpPr>
            <a:xfrm>
              <a:off x="6477120" y="1219320"/>
              <a:ext cx="2209680" cy="2971800"/>
              <a:chOff x="6477120" y="1219320"/>
              <a:chExt cx="2209680" cy="2971800"/>
            </a:xfrm>
          </p:grpSpPr>
          <p:sp>
            <p:nvSpPr>
              <p:cNvPr id="181" name=""/>
              <p:cNvSpPr/>
              <p:nvPr/>
            </p:nvSpPr>
            <p:spPr>
              <a:xfrm>
                <a:off x="7467480" y="3124080"/>
                <a:ext cx="266760" cy="1067040"/>
              </a:xfrm>
              <a:custGeom>
                <a:avLst/>
                <a:gdLst/>
                <a:ahLst/>
                <a:rect l="l" t="t" r="r" b="b"/>
                <a:pathLst>
                  <a:path w="168" h="672">
                    <a:moveTo>
                      <a:pt x="104" y="0"/>
                    </a:moveTo>
                    <a:cubicBezTo>
                      <a:pt x="52" y="124"/>
                      <a:pt x="0" y="248"/>
                      <a:pt x="8" y="336"/>
                    </a:cubicBezTo>
                    <a:cubicBezTo>
                      <a:pt x="16" y="424"/>
                      <a:pt x="136" y="472"/>
                      <a:pt x="152" y="528"/>
                    </a:cubicBezTo>
                    <a:cubicBezTo>
                      <a:pt x="168" y="584"/>
                      <a:pt x="136" y="628"/>
                      <a:pt x="104" y="67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77120" y="1219320"/>
                <a:ext cx="2209680" cy="1904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43800" y="304812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 txBox="1"/>
            <p:nvPr/>
          </p:nvSpPr>
          <p:spPr>
            <a:xfrm>
              <a:off x="6934320" y="1905120"/>
              <a:ext cx="1371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3333ff"/>
                  </a:solidFill>
                  <a:latin typeface="HG創英角ﾎﾟｯﾌﾟ体"/>
                </a:rPr>
                <a:t>職　業</a:t>
              </a:r>
              <a:endParaRPr b="0" lang="en-US" sz="2400" spc="1" strike="noStrike">
                <a:ln w="0">
                  <a:noFill/>
                </a:ln>
                <a:solidFill>
                  <a:srgbClr val="3333ff"/>
                </a:solidFill>
                <a:latin typeface="HG創英角ﾎﾟｯﾌﾟ体"/>
                <a:ea typeface="HG創英角ﾎﾟｯﾌﾟ体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8153280" y="1600200"/>
              <a:ext cx="410040" cy="486360"/>
              <a:chOff x="8153280" y="1600200"/>
              <a:chExt cx="410040" cy="486360"/>
            </a:xfrm>
          </p:grpSpPr>
          <p:sp>
            <p:nvSpPr>
              <p:cNvPr id="186" name=""/>
              <p:cNvSpPr/>
              <p:nvPr/>
            </p:nvSpPr>
            <p:spPr>
              <a:xfrm>
                <a:off x="8153280" y="160020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966800">
                <a:off x="8381520" y="190476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0"/>
                    </a:moveTo>
                    <a:cubicBezTo>
                      <a:pt x="36" y="12"/>
                      <a:pt x="72" y="24"/>
                      <a:pt x="96" y="48"/>
                    </a:cubicBezTo>
                    <a:cubicBezTo>
                      <a:pt x="120" y="72"/>
                      <a:pt x="132" y="108"/>
                      <a:pt x="144" y="144"/>
                    </a:cubicBezTo>
                  </a:path>
                </a:pathLst>
              </a:custGeom>
              <a:noFill/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 txBox="1"/>
          <p:nvPr/>
        </p:nvSpPr>
        <p:spPr>
          <a:xfrm>
            <a:off x="838080" y="5638680"/>
            <a:ext cx="7391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P創英角ﾎﾟｯﾌﾟ体"/>
              </a:rPr>
              <a:t>プライバシーにかかわる大事な情報です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P創英角ﾎﾟｯﾌﾟ体"/>
              <a:ea typeface="HGP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なにこれ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235320" cy="3017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905120" y="1828800"/>
            <a:ext cx="54864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latin typeface="HG創英角ﾎﾟｯﾌﾟ体"/>
              </a:rPr>
              <a:t>だから　何がいけないの？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438280" y="5257800"/>
            <a:ext cx="4953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ＪＳＰゴシック"/>
              </a:rPr>
              <a:t>名簿そのものが高く売れ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ＪＳＰゴシック"/>
              <a:ea typeface="ＪＳＰゴシック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438280" y="28195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ＪＳＰゴシック"/>
              </a:rPr>
              <a:t>架空の請求書を送ってお金をだましと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ＪＳＰゴシック"/>
              <a:ea typeface="ＪＳＰゴシック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38280" y="39625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ＪＳＰゴシック"/>
              </a:rPr>
              <a:t>訪問販売をしたり電話で商品を勧誘したりす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ＪＳＰゴシック"/>
              <a:ea typeface="ＪＳＰゴシック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14400" y="1143000"/>
            <a:ext cx="6552720" cy="990720"/>
            <a:chOff x="914400" y="1143000"/>
            <a:chExt cx="6552720" cy="990720"/>
          </a:xfrm>
        </p:grpSpPr>
        <p:grpSp>
          <p:nvGrpSpPr>
            <p:cNvPr id="195" name=""/>
            <p:cNvGrpSpPr/>
            <p:nvPr/>
          </p:nvGrpSpPr>
          <p:grpSpPr>
            <a:xfrm>
              <a:off x="914400" y="1523880"/>
              <a:ext cx="6552720" cy="609840"/>
              <a:chOff x="914400" y="1523880"/>
              <a:chExt cx="6552720" cy="609840"/>
            </a:xfrm>
          </p:grpSpPr>
          <p:pic>
            <p:nvPicPr>
              <p:cNvPr id="196" name="情報集める鳥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1523880"/>
                <a:ext cx="114264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 txBox="1"/>
              <p:nvPr/>
            </p:nvSpPr>
            <p:spPr>
              <a:xfrm>
                <a:off x="2514240" y="1523880"/>
                <a:ext cx="4952880" cy="609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0">
                      <a:noFill/>
                    </a:ln>
                    <a:solidFill>
                      <a:srgbClr val="3333ff"/>
                    </a:solidFill>
                    <a:latin typeface="ＪＳＰゴシック"/>
                  </a:rPr>
                  <a:t>お金もうけに使うんだよ！</a:t>
                </a:r>
                <a:endParaRPr b="1" lang="en-US" sz="2400" spc="1" strike="noStrike">
                  <a:ln w="0">
                    <a:noFill/>
                  </a:ln>
                  <a:solidFill>
                    <a:srgbClr val="3333ff"/>
                  </a:solidFill>
                  <a:latin typeface="ＪＳＰゴシック"/>
                  <a:ea typeface="ＪＳＰゴシック"/>
                </a:endParaRPr>
              </a:p>
            </p:txBody>
          </p:sp>
        </p:grpSp>
        <p:sp>
          <p:nvSpPr>
            <p:cNvPr id="198" name=""/>
            <p:cNvSpPr txBox="1"/>
            <p:nvPr/>
          </p:nvSpPr>
          <p:spPr>
            <a:xfrm>
              <a:off x="2209680" y="1143000"/>
              <a:ext cx="71388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3333ff"/>
                  </a:solidFill>
                  <a:latin typeface="HG丸ｺﾞｼｯｸM-PRO"/>
                </a:rPr>
                <a:t>それを</a:t>
              </a:r>
              <a:endParaRPr b="1" lang="en-US" sz="1800" spc="1" strike="noStrike">
                <a:ln w="0">
                  <a:noFill/>
                </a:ln>
                <a:solidFill>
                  <a:srgbClr val="3333ff"/>
                </a:solidFill>
                <a:latin typeface="HG丸ｺﾞｼｯｸM-PRO"/>
                <a:ea typeface="HG丸ｺﾞｼｯｸM-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2514600"/>
            <a:ext cx="777240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ウェブページの中には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「懸賞やプレゼントが当たる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などと呼びか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アンケートに答えさせることによっ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個人情報を集めようとするもの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景品や賞金につられ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個人情報を入力する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悪いことに使われた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こわい目にあわされたりし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ＤＨＰ特太ゴシック体"/>
              </a:rPr>
              <a:t>とても危険で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295280"/>
            <a:ext cx="2590560" cy="7621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9880" y="1447920"/>
            <a:ext cx="1143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latin typeface="HGP創英角ﾎﾟｯﾌﾟ体"/>
              </a:rPr>
              <a:t>注意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HGP創英角ﾎﾟｯﾌﾟ体"/>
              </a:rPr>
              <a:t>!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3880" y="220968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先生や親など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許可を受けないまま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アンケートに答えた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住所や電話番号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入力してはいけませ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286000" y="1981080"/>
            <a:ext cx="4800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0000"/>
                </a:solidFill>
                <a:latin typeface="HGS創英角ﾎﾟｯﾌﾟ体"/>
              </a:rPr>
              <a:t>うまい話にのせられないで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latin typeface="HGS創英角ﾎﾟｯﾌﾟ体"/>
              <a:ea typeface="HGS創英角ﾎﾟｯﾌﾟ体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95480" y="3124080"/>
            <a:ext cx="3276720" cy="2324160"/>
            <a:chOff x="2895480" y="3124080"/>
            <a:chExt cx="3276720" cy="2324160"/>
          </a:xfrm>
        </p:grpSpPr>
        <p:pic>
          <p:nvPicPr>
            <p:cNvPr id="205" name="動くかえる" descr=""/>
            <p:cNvPicPr/>
            <p:nvPr/>
          </p:nvPicPr>
          <p:blipFill>
            <a:blip r:embed="rId2"/>
            <a:stretch/>
          </p:blipFill>
          <p:spPr>
            <a:xfrm>
              <a:off x="3657600" y="312408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 txBox="1"/>
            <p:nvPr/>
          </p:nvSpPr>
          <p:spPr>
            <a:xfrm>
              <a:off x="2895480" y="5105520"/>
              <a:ext cx="32767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0">
                    <a:noFill/>
                  </a:ln>
                  <a:solidFill>
                    <a:srgbClr val="ff0000"/>
                  </a:solidFill>
                  <a:latin typeface="HGS創英角ﾎﾟｯﾌﾟ体"/>
                </a:rPr>
                <a:t>調べ活動にカエル</a:t>
              </a:r>
              <a:r>
                <a:rPr b="0" lang="en-US" sz="2000" spc="1" strike="noStrike">
                  <a:ln w="0">
                    <a:noFill/>
                  </a:ln>
                  <a:solidFill>
                    <a:srgbClr val="ff0000"/>
                  </a:solidFill>
                  <a:latin typeface="HGS創英角ﾎﾟｯﾌﾟ体"/>
                </a:rPr>
                <a:t>!!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HGS創英角ﾎﾟｯﾌﾟ体"/>
                <a:ea typeface="HGS創英角ﾎﾟｯﾌﾟ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0" y="1981080"/>
            <a:ext cx="4800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0000"/>
                </a:solidFill>
                <a:latin typeface="HGS創英角ﾎﾟｯﾌﾟ体"/>
              </a:rPr>
              <a:t>うまい話にのせられないで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latin typeface="HGS創英角ﾎﾟｯﾌﾟ体"/>
              <a:ea typeface="HGS創英角ﾎﾟｯﾌﾟ体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981080" y="3124080"/>
            <a:ext cx="5410440" cy="2857680"/>
            <a:chOff x="1981080" y="3124080"/>
            <a:chExt cx="5410440" cy="2857680"/>
          </a:xfrm>
        </p:grpSpPr>
        <p:pic>
          <p:nvPicPr>
            <p:cNvPr id="209" name="動くかえる" descr=""/>
            <p:cNvPicPr/>
            <p:nvPr/>
          </p:nvPicPr>
          <p:blipFill>
            <a:blip r:embed="rId2"/>
            <a:stretch/>
          </p:blipFill>
          <p:spPr>
            <a:xfrm>
              <a:off x="3657600" y="312408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 txBox="1"/>
            <p:nvPr/>
          </p:nvSpPr>
          <p:spPr>
            <a:xfrm>
              <a:off x="1981080" y="5257800"/>
              <a:ext cx="541044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0">
                    <a:noFill/>
                  </a:ln>
                  <a:solidFill>
                    <a:srgbClr val="ff0000"/>
                  </a:solidFill>
                  <a:latin typeface="HGS創英角ﾎﾟｯﾌﾟ体"/>
                </a:rPr>
                <a:t>調べ活動にカエルってわけだね！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HGS創英角ﾎﾟｯﾌﾟ体"/>
                <a:ea typeface="HGS創英角ﾎﾟｯﾌﾟ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HGS創英角ﾎﾟｯﾌﾟ体"/>
                <a:ea typeface="HGS創英角ﾎﾟｯﾌﾟ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0">
                    <a:noFill/>
                  </a:ln>
                  <a:solidFill>
                    <a:srgbClr val="ff0000"/>
                  </a:solidFill>
                  <a:latin typeface="HGS創英角ﾎﾟｯﾌﾟ体"/>
                </a:rPr>
                <a:t>正解</a:t>
              </a:r>
              <a:r>
                <a:rPr b="0" lang="en-US" sz="2000" spc="1" strike="noStrike">
                  <a:ln w="0">
                    <a:noFill/>
                  </a:ln>
                  <a:solidFill>
                    <a:srgbClr val="ff0000"/>
                  </a:solidFill>
                  <a:latin typeface="HGS創英角ﾎﾟｯﾌﾟ体"/>
                </a:rPr>
                <a:t>!!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HGS創英角ﾎﾟｯﾌﾟ体"/>
                <a:ea typeface="HGS創英角ﾎﾟｯﾌﾟ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286000" y="2666880"/>
            <a:ext cx="4952880" cy="1067040"/>
            <a:chOff x="2286000" y="2666880"/>
            <a:chExt cx="4952880" cy="1067040"/>
          </a:xfrm>
        </p:grpSpPr>
        <p:sp>
          <p:nvSpPr>
            <p:cNvPr id="47" name=""/>
            <p:cNvSpPr/>
            <p:nvPr/>
          </p:nvSpPr>
          <p:spPr>
            <a:xfrm>
              <a:off x="2286000" y="2666880"/>
              <a:ext cx="4952880" cy="106704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90560" y="2895480"/>
              <a:ext cx="3276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2200" y="2971800"/>
              <a:ext cx="91440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66"/>
                  </a:solidFill>
                  <a:latin typeface="Times New Roman"/>
                </a:rPr>
                <a:t>検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3525200">
              <a:off x="2514600" y="3047760"/>
              <a:ext cx="304560" cy="304560"/>
            </a:xfrm>
            <a:prstGeom prst="rtTriangl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1600200" y="114300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創英角ﾎﾟｯﾌﾟ体"/>
              </a:rPr>
              <a:t>キーワードを記入していると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8120" y="2286000"/>
            <a:ext cx="2943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こんなメッセージや広告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38280" y="33526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偶然目にとまることもあります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181480"/>
            <a:ext cx="693432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万円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のチャンスです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!!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0" lang="ja-JP" sz="9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ここをクリッ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24080" y="6172200"/>
            <a:ext cx="2943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こんなふうに現れることもあります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すてきな景品がもらえるよ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インターネット上に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～　懸賞やプレゼント情報　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キャンディーアニメ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571680" cy="708120"/>
          </a:xfrm>
          <a:prstGeom prst="rect">
            <a:avLst/>
          </a:prstGeom>
          <a:ln w="0">
            <a:noFill/>
          </a:ln>
        </p:spPr>
      </p:pic>
      <p:pic>
        <p:nvPicPr>
          <p:cNvPr id="59" name="サッカーボール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ピンクのベスト" descr=""/>
          <p:cNvPicPr/>
          <p:nvPr/>
        </p:nvPicPr>
        <p:blipFill>
          <a:blip r:embed="rId3"/>
          <a:stretch/>
        </p:blipFill>
        <p:spPr>
          <a:xfrm>
            <a:off x="1523880" y="28195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マウンテンバイク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1096920" cy="639720"/>
          </a:xfrm>
          <a:prstGeom prst="rect">
            <a:avLst/>
          </a:prstGeom>
          <a:ln w="0">
            <a:noFill/>
          </a:ln>
        </p:spPr>
      </p:pic>
      <p:pic>
        <p:nvPicPr>
          <p:cNvPr id="62" name="携帯ゲーム" descr=""/>
          <p:cNvPicPr/>
          <p:nvPr/>
        </p:nvPicPr>
        <p:blipFill>
          <a:blip r:embed="rId5"/>
          <a:stretch/>
        </p:blipFill>
        <p:spPr>
          <a:xfrm>
            <a:off x="6858000" y="2819520"/>
            <a:ext cx="647640" cy="114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038480" y="1905120"/>
            <a:ext cx="1047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たとえば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09680" y="4648320"/>
            <a:ext cx="4648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HG丸ｺﾞｼｯｸM-PRO"/>
                <a:ea typeface="HG丸ｺﾞｼｯｸM-PRO"/>
              </a:rPr>
              <a:t>かんたんなアンケート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HG丸ｺﾞｼｯｸM-PRO"/>
                <a:ea typeface="HG丸ｺﾞｼｯｸM-PRO"/>
              </a:rPr>
              <a:t>答えるだけ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HG丸ｺﾞｼｯｸM-PRO"/>
                <a:ea typeface="HG丸ｺﾞｼｯｸM-PRO"/>
              </a:rPr>
              <a:t>誰にで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HG丸ｺﾞｼｯｸM-PRO"/>
                <a:ea typeface="HG丸ｺﾞｼｯｸM-PRO"/>
              </a:rPr>
              <a:t>チャンスがあるんです</a:t>
            </a:r>
            <a:r>
              <a:rPr b="1" lang="ja-JP" sz="1800" spc="-1" strike="noStrike">
                <a:solidFill>
                  <a:srgbClr val="0066ff"/>
                </a:solidFill>
                <a:latin typeface="HG丸ｺﾞｼｯｸM-PRO"/>
                <a:ea typeface="HG丸ｺﾞｼｯｸM-PRO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サルのダンス" descr=""/>
          <p:cNvPicPr/>
          <p:nvPr/>
        </p:nvPicPr>
        <p:blipFill>
          <a:blip r:embed="rId1"/>
          <a:stretch/>
        </p:blipFill>
        <p:spPr>
          <a:xfrm>
            <a:off x="3809880" y="3809880"/>
            <a:ext cx="1371600" cy="69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1295280"/>
            <a:ext cx="7239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43000" y="304920"/>
            <a:ext cx="6858000" cy="3733560"/>
            <a:chOff x="1143000" y="304920"/>
            <a:chExt cx="6858000" cy="3733560"/>
          </a:xfrm>
        </p:grpSpPr>
        <p:sp>
          <p:nvSpPr>
            <p:cNvPr id="68" name=""/>
            <p:cNvSpPr/>
            <p:nvPr/>
          </p:nvSpPr>
          <p:spPr>
            <a:xfrm>
              <a:off x="1143000" y="304920"/>
              <a:ext cx="6858000" cy="37335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 rot="20887800">
              <a:off x="2666520" y="2590560"/>
              <a:ext cx="3276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906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00ff00"/>
                  </a:solidFill>
                  <a:latin typeface="HG創英角ﾎﾟｯﾌﾟ体"/>
                </a:rPr>
                <a:t>い～っぱい</a:t>
              </a:r>
              <a:r>
                <a:rPr b="0" lang="en-US" sz="2400" spc="1" strike="noStrike">
                  <a:ln w="0">
                    <a:noFill/>
                  </a:ln>
                  <a:solidFill>
                    <a:srgbClr val="00ff00"/>
                  </a:solidFill>
                  <a:latin typeface="HG創英角ﾎﾟｯﾌﾟ体"/>
                </a:rPr>
                <a:t>!!</a:t>
              </a:r>
              <a:endParaRPr b="0" lang="en-US" sz="2400" spc="1" strike="noStrike">
                <a:ln w="0">
                  <a:noFill/>
                </a:ln>
                <a:solidFill>
                  <a:srgbClr val="00ff00"/>
                </a:solidFill>
                <a:latin typeface="HG創英角ﾎﾟｯﾌﾟ体"/>
                <a:ea typeface="HG創英角ﾎﾟｯﾌﾟ体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21028200">
              <a:off x="2437920" y="1675800"/>
              <a:ext cx="373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586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ff"/>
                  </a:solidFill>
                  <a:latin typeface="HG創英角ﾎﾟｯﾌﾟ体"/>
                </a:rPr>
                <a:t>魅力的な品物が</a:t>
              </a:r>
              <a:endParaRPr b="0" lang="en-US" sz="2400" spc="1" strike="noStrike">
                <a:ln w="0">
                  <a:noFill/>
                </a:ln>
                <a:solidFill>
                  <a:srgbClr val="ff00ff"/>
                </a:solidFill>
                <a:latin typeface="HG創英角ﾎﾟｯﾌﾟ体"/>
                <a:ea typeface="HG創英角ﾎﾟｯﾌﾟ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5181480"/>
            <a:ext cx="693432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万円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のチャンスです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!!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0" lang="ja-JP" sz="9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ここをクリッ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24080" y="6172200"/>
            <a:ext cx="2943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こんなふうに現れることもあります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09680" y="2590920"/>
            <a:ext cx="4952880" cy="1066680"/>
            <a:chOff x="2209680" y="2590920"/>
            <a:chExt cx="4952880" cy="1066680"/>
          </a:xfrm>
        </p:grpSpPr>
        <p:sp>
          <p:nvSpPr>
            <p:cNvPr id="74" name=""/>
            <p:cNvSpPr/>
            <p:nvPr/>
          </p:nvSpPr>
          <p:spPr>
            <a:xfrm>
              <a:off x="2209680" y="2590920"/>
              <a:ext cx="4952880" cy="106668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240" y="2819160"/>
              <a:ext cx="327672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2895480"/>
              <a:ext cx="91440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66"/>
                  </a:solidFill>
                  <a:latin typeface="Times New Roman"/>
                </a:rPr>
                <a:t>検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3525200">
              <a:off x="2438280" y="2971080"/>
              <a:ext cx="304200" cy="304560"/>
            </a:xfrm>
            <a:prstGeom prst="rtTriangl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943600" y="4648320"/>
            <a:ext cx="1295280" cy="761760"/>
            <a:chOff x="5943600" y="4648320"/>
            <a:chExt cx="1295280" cy="761760"/>
          </a:xfrm>
        </p:grpSpPr>
        <p:sp>
          <p:nvSpPr>
            <p:cNvPr id="79" name=""/>
            <p:cNvSpPr txBox="1"/>
            <p:nvPr/>
          </p:nvSpPr>
          <p:spPr>
            <a:xfrm>
              <a:off x="5943600" y="4648320"/>
              <a:ext cx="12952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0000ff"/>
                  </a:solidFill>
                  <a:latin typeface="ＤＦ特太ゴシック体"/>
                </a:rPr>
                <a:t>クリックすると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ＤＦ特太ゴシック体"/>
                <a:ea typeface="ＤＦ特太ゴシック体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50292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1080" y="28954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76520" y="0"/>
            <a:ext cx="6019560" cy="6858000"/>
            <a:chOff x="1676520" y="0"/>
            <a:chExt cx="6019560" cy="6858000"/>
          </a:xfrm>
        </p:grpSpPr>
        <p:sp>
          <p:nvSpPr>
            <p:cNvPr id="83" name=""/>
            <p:cNvSpPr/>
            <p:nvPr/>
          </p:nvSpPr>
          <p:spPr>
            <a:xfrm>
              <a:off x="1676520" y="0"/>
              <a:ext cx="60195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28800" y="304920"/>
              <a:ext cx="99072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ＤＦ特太ゴシック体"/>
                  <a:ea typeface="ＤＦ特太ゴシック体"/>
                </a:rPr>
                <a:t>緊急</a:t>
              </a:r>
              <a:r>
                <a:rPr b="1" lang="ja-JP" sz="2400" spc="-1" strike="noStrike">
                  <a:solidFill>
                    <a:srgbClr val="ff0000"/>
                  </a:solidFill>
                  <a:latin typeface="ＤＦ特太ゴシック体"/>
                  <a:ea typeface="ＤＦ特太ゴシック体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819520" y="609480"/>
              <a:ext cx="4038480" cy="114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00ff"/>
                  </a:solidFill>
                  <a:latin typeface="ＭＳ Ｐゴシック"/>
                </a:rPr>
                <a:t>なつかしいあの味をもう一度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209680"/>
              <a:ext cx="51814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2666880"/>
              <a:ext cx="51814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438280" y="2286000"/>
              <a:ext cx="4572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000000"/>
                  </a:solidFill>
                  <a:latin typeface="ＭＳ Ｐゴシック"/>
                </a:rPr>
                <a:t>食べてみたいメニューに投票して，　　　　            を当てよう！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505320" y="1066680"/>
              <a:ext cx="24382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359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 P明朝体U"/>
                </a:rPr>
                <a:t>給食風ランチセット発売準備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 P明朝体U"/>
                <a:ea typeface="AR P明朝体U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2895480"/>
              <a:ext cx="3505320" cy="22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　このたび当店では新企画といたしまして，給食風ランチセットを発売することにいたしました。そこで“</a:t>
              </a: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「食べてみた～い」キャンペーン</a:t>
              </a: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”を開催し，その結果をメニューに反映させていきたいと考えております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　今回のキャンペーンにおいて，あなたの　</a:t>
              </a:r>
              <a:r>
                <a:rPr b="1" lang="ja-JP" sz="1400" spc="-1" strike="noStrike">
                  <a:solidFill>
                    <a:srgbClr val="ff0000"/>
                  </a:solidFill>
                  <a:latin typeface="Times New Roman"/>
                </a:rPr>
                <a:t>食べてみたいメューを選んで専用フォーム　から投票して</a:t>
              </a: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ください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　応募者全員の中から</a:t>
              </a:r>
              <a:r>
                <a:rPr b="1" lang="ja-JP" sz="1400" spc="-1" strike="noStrike">
                  <a:solidFill>
                    <a:srgbClr val="ff0000"/>
                  </a:solidFill>
                  <a:latin typeface="Times New Roman"/>
                </a:rPr>
                <a:t>抽選で１０名様</a:t>
              </a: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に　　</a:t>
              </a:r>
              <a:r>
                <a:rPr b="1" lang="ja-JP" sz="1400" spc="-1" strike="noStrike">
                  <a:solidFill>
                    <a:srgbClr val="ff0000"/>
                  </a:solidFill>
                  <a:latin typeface="Times New Roman"/>
                </a:rPr>
                <a:t>お食事代として現金</a:t>
              </a:r>
              <a:r>
                <a:rPr b="1" lang="ja-JP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ja-JP" sz="1400" spc="-1" strike="noStrike">
                  <a:solidFill>
                    <a:srgbClr val="ff0000"/>
                  </a:solidFill>
                  <a:latin typeface="Times New Roman"/>
                </a:rPr>
                <a:t>万円</a:t>
              </a: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をプレゼント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imes New Roman"/>
                </a:rPr>
                <a:t>　皆さん奮ってご応募下さい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DSCF3594" descr=""/>
            <p:cNvPicPr/>
            <p:nvPr/>
          </p:nvPicPr>
          <p:blipFill>
            <a:blip r:embed="rId1"/>
            <a:stretch/>
          </p:blipFill>
          <p:spPr>
            <a:xfrm>
              <a:off x="5486400" y="2971800"/>
              <a:ext cx="1828800" cy="148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92" name="DSCF3620" descr=""/>
            <p:cNvPicPr/>
            <p:nvPr/>
          </p:nvPicPr>
          <p:blipFill>
            <a:blip r:embed="rId2"/>
            <a:stretch/>
          </p:blipFill>
          <p:spPr>
            <a:xfrm>
              <a:off x="5486400" y="4648320"/>
              <a:ext cx="1828800" cy="1371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93" name="応募フォームのアイコン" descr=""/>
            <p:cNvPicPr/>
            <p:nvPr/>
          </p:nvPicPr>
          <p:blipFill>
            <a:blip r:embed="rId3"/>
            <a:stretch/>
          </p:blipFill>
          <p:spPr>
            <a:xfrm>
              <a:off x="2743200" y="6019920"/>
              <a:ext cx="17827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2438280" y="1523880"/>
              <a:ext cx="4724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ＤＦ特太ゴシック体"/>
                </a:rPr>
                <a:t>食べてみた～いキャンペーン</a:t>
              </a:r>
              <a:endPara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ＤＦ特太ゴシック体"/>
                <a:ea typeface="ＤＦ特太ゴシック体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29200" y="2286000"/>
            <a:ext cx="990720" cy="30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万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124080"/>
            <a:ext cx="304920" cy="7632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4952880"/>
            <a:ext cx="304560" cy="0"/>
          </a:xfrm>
          <a:prstGeom prst="line">
            <a:avLst/>
          </a:prstGeom>
          <a:ln w="572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81080" y="28954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0"/>
            <a:ext cx="60195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28800" y="304920"/>
            <a:ext cx="5486400" cy="6400800"/>
            <a:chOff x="1828800" y="304920"/>
            <a:chExt cx="5486400" cy="6400800"/>
          </a:xfrm>
        </p:grpSpPr>
        <p:sp>
          <p:nvSpPr>
            <p:cNvPr id="101" name=""/>
            <p:cNvSpPr/>
            <p:nvPr/>
          </p:nvSpPr>
          <p:spPr>
            <a:xfrm>
              <a:off x="1828800" y="304920"/>
              <a:ext cx="99072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ＤＦ特太ゴシック体"/>
                  <a:ea typeface="ＤＦ特太ゴシック体"/>
                </a:rPr>
                <a:t>緊急</a:t>
              </a:r>
              <a:r>
                <a:rPr b="1" lang="ja-JP" sz="2400" spc="-1" strike="noStrike">
                  <a:solidFill>
                    <a:srgbClr val="ff0000"/>
                  </a:solidFill>
                  <a:latin typeface="ＤＦ特太ゴシック体"/>
                  <a:ea typeface="ＤＦ特太ゴシック体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819520" y="609480"/>
              <a:ext cx="4038480" cy="114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00ff"/>
                  </a:solidFill>
                  <a:latin typeface="ＭＳ Ｐゴシック"/>
                </a:rPr>
                <a:t>なつかしいあの味をもう一度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2209680"/>
              <a:ext cx="51814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2666880"/>
              <a:ext cx="51814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886200" y="2286000"/>
              <a:ext cx="17524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000000"/>
                  </a:solidFill>
                  <a:latin typeface="ＭＳ Ｐゴシック"/>
                </a:rPr>
                <a:t>応募フォーム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505320" y="1066680"/>
              <a:ext cx="24382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359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 P明朝体U"/>
                </a:rPr>
                <a:t>給食風ランチセット発売準備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 P明朝体U"/>
                <a:ea typeface="AR P明朝体U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438280" y="1523880"/>
              <a:ext cx="4724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ＤＦ特太ゴシック体"/>
                </a:rPr>
                <a:t>食べてみた～いキャンペーン</a:t>
              </a:r>
              <a:endPara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ＤＦ特太ゴシック体"/>
                <a:ea typeface="ＤＦ特太ゴシック体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1080" y="2895480"/>
              <a:ext cx="5334120" cy="33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まず，</a:t>
              </a:r>
              <a:r>
                <a:rPr b="0" lang="ja-JP" sz="1000" spc="-1" strike="noStrike" u="sng">
                  <a:solidFill>
                    <a:srgbClr val="ff0000"/>
                  </a:solidFill>
                  <a:uFillTx/>
                  <a:latin typeface="Times New Roman"/>
                  <a:ea typeface="ＭＳ Ｐゴシック"/>
                </a:rPr>
                <a:t>メニューカテゴリーリスト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から食べてみたいメニュー選び、クリック。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　　　　主食，汁物，おかず，デザートを５～６品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セットとする。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食べてみたい理由：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文字以内でご記入ください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cc0000"/>
                  </a:solidFill>
                  <a:latin typeface="Times New Roman"/>
                </a:rPr>
                <a:t>＜その他，以下の必要事項にご記入後、送信ボタンを押して下さい。＞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氏名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年齢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　　　　　　　　　　　　　　　　　　　　　　　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性別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 男 女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郵便番号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『郵便番号７桁を半角数字で入力して下さい。』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住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電話番号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メール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必須）『半角英数字で入力して下さい。』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職業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学生の場合は学校名と学年をお書きください。又，保護者の方のご職業もお書きください。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3962520"/>
              <a:ext cx="3962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4267080"/>
              <a:ext cx="9144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5000" y="4267080"/>
              <a:ext cx="1371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4572000"/>
              <a:ext cx="1371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5181480"/>
              <a:ext cx="3962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5486400"/>
              <a:ext cx="2286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6019920"/>
              <a:ext cx="3962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6324480"/>
              <a:ext cx="1371600" cy="3812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送信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4080" y="4876920"/>
              <a:ext cx="3962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1080" y="28954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60195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28800" y="304920"/>
            <a:ext cx="5486400" cy="6400800"/>
            <a:chOff x="1828800" y="304920"/>
            <a:chExt cx="5486400" cy="6400800"/>
          </a:xfrm>
        </p:grpSpPr>
        <p:sp>
          <p:nvSpPr>
            <p:cNvPr id="121" name=""/>
            <p:cNvSpPr/>
            <p:nvPr/>
          </p:nvSpPr>
          <p:spPr>
            <a:xfrm>
              <a:off x="1828800" y="304920"/>
              <a:ext cx="99072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ＤＦ特太ゴシック体"/>
                  <a:ea typeface="ＤＦ特太ゴシック体"/>
                </a:rPr>
                <a:t>緊急</a:t>
              </a:r>
              <a:r>
                <a:rPr b="1" lang="ja-JP" sz="2400" spc="-1" strike="noStrike">
                  <a:solidFill>
                    <a:srgbClr val="ff0000"/>
                  </a:solidFill>
                  <a:latin typeface="ＤＦ特太ゴシック体"/>
                  <a:ea typeface="ＤＦ特太ゴシック体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19520" y="609480"/>
              <a:ext cx="4038480" cy="1143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00ff"/>
                  </a:solidFill>
                  <a:latin typeface="ＭＳ Ｐゴシック"/>
                </a:rPr>
                <a:t>なつかしいあの味をもう一度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2209680"/>
              <a:ext cx="51814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2666880"/>
              <a:ext cx="51814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886200" y="2286000"/>
              <a:ext cx="13431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000000"/>
                  </a:solidFill>
                  <a:latin typeface="ＭＳ Ｐゴシック"/>
                </a:rPr>
                <a:t>内容のご確認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505320" y="1066680"/>
              <a:ext cx="24382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359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 P明朝体U"/>
                </a:rPr>
                <a:t>給食風ランチセット発売準備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 P明朝体U"/>
                <a:ea typeface="AR P明朝体U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438280" y="1523880"/>
              <a:ext cx="4724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ＤＦ特太ゴシック体"/>
                </a:rPr>
                <a:t>食べてみた～いキャンペーン</a:t>
              </a:r>
              <a:endPara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ＤＦ特太ゴシック体"/>
                <a:ea typeface="ＤＦ特太ゴシック体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4038480"/>
              <a:ext cx="533412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食べてみたい理由： 　学校で食べるメニューは自分で決めることができないので，自分の　　　　　　　　　好きなものだけ選んで食べてみたかったからです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　　　　　　　　　　　　  　　それに・・・・・・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氏名　　　　石川　太郎　　　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年齢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歳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性別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 　　　　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男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郵便番号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 　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92△-×××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住所　　　　石川県○○市◇◇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丁目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番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電話番号　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076-△△△-×××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メール　　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taro@happy.co.jp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職業　　　　○○市立△△小学校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</a:rPr>
                <a:t>年　　　　　お父さんは市役所　　お母さんは会社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これでよければ送信します。下のボタンを押してくださ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6324480"/>
              <a:ext cx="1371600" cy="3812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0" lang="ja-JP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 action="ppaction://hlinksldjump"/>
                </a:rPr>
                <a:t>送信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2819520"/>
              <a:ext cx="19810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主　食　：　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しそご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3200400"/>
              <a:ext cx="19810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汁　物　：　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くるま麩の卵と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4280" y="3200400"/>
              <a:ext cx="19814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おかず　：　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ハンバー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4280" y="2819520"/>
              <a:ext cx="19814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おかず　：　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ポテトサラ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14600" y="3657600"/>
              <a:ext cx="19810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デザート：　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メロ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3657600"/>
              <a:ext cx="19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牛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6324480"/>
              <a:ext cx="1371600" cy="381240"/>
            </a:xfrm>
            <a:prstGeom prst="roundRect">
              <a:avLst>
                <a:gd name="adj" fmla="val 50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0" lang="ja-JP" sz="16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 action="ppaction://hlinksldjump"/>
                </a:rPr>
                <a:t>リセット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04:30:09Z</dcterms:created>
  <dc:creator>Sueyoshi</dc:creator>
  <dc:description/>
  <dc:language>en-US</dc:language>
  <cp:lastModifiedBy>syoku06</cp:lastModifiedBy>
  <dcterms:modified xsi:type="dcterms:W3CDTF">2007-02-19T03:59:46Z</dcterms:modified>
  <cp:revision>54</cp:revision>
  <dc:subject/>
  <dc:title>すてきな景品がもらえるよ！</dc:title>
</cp:coreProperties>
</file>