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voltage.wav" ContentType="audio/x-wav"/>
  <Override PartName="/ppt/media/explode.wav" ContentType="audio/x-wav"/>
  <Override PartName="/ppt/media/chimes.wav" ContentType="audio/x-wav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2C03-0FFC-4575-A9D7-AEA8410A6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BE32-B16D-4F1C-A164-A3F05046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1EA8-2B07-42E5-A72F-10C34EDCE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B735-EFD3-4D4D-9372-F3767131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9C6F-C693-4FC3-82E6-E10FAC65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2729-8528-4FCD-959D-0F4584BE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C964-25DB-4A50-8714-BDB8FBDF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A94E-685A-4D13-B848-607751A5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3FC8-A30E-41DF-A83B-F2DC4B95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B981-A73E-40AA-85E5-BF45C22D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6FB9-5845-47F3-9A5F-0A43ED9B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6FB3-631C-473E-B7D4-F40B24B5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E054-C04A-4080-857E-DF44A3A63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コンピュータウイルスってなんだろ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03640" y="2952720"/>
            <a:ext cx="280836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943600" y="1981080"/>
            <a:ext cx="2666880" cy="434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1981080"/>
            <a:ext cx="2667240" cy="4343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981080"/>
            <a:ext cx="2666880" cy="43434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さて、あなたはどうしますか？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81952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HG創英角ﾎﾟｯﾌﾟ体"/>
                <a:ea typeface="HG創英角ﾎﾟｯﾌﾟ体"/>
              </a:rPr>
              <a:t>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何がてん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されてきたの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わからないけ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興味があるの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HG創英角ﾎﾟｯﾌﾟ体"/>
                <a:ea typeface="HG創英角ﾎﾟｯﾌﾟ体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開いてみ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40000" y="1988640"/>
            <a:ext cx="2590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HG創英角ﾎﾟｯﾌﾟ体"/>
                <a:ea typeface="HG創英角ﾎﾟｯﾌﾟ体"/>
              </a:rPr>
              <a:t>　　</a:t>
            </a:r>
            <a:r>
              <a:rPr b="0" lang="zh-CN" sz="4000" spc="-1" strike="noStrike">
                <a:solidFill>
                  <a:srgbClr val="0000ff"/>
                </a:solidFill>
                <a:latin typeface="HG創英角ﾎﾟｯﾌﾟ体"/>
                <a:ea typeface="HG創英角ﾎﾟｯﾌﾟ体"/>
              </a:rPr>
              <a:t>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何かわから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てん付ファイ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は開かず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友達にま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　確認してみ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900000" y="5661000"/>
            <a:ext cx="1440000" cy="463680"/>
          </a:xfrm>
          <a:custGeom>
            <a:avLst/>
            <a:gdLst>
              <a:gd name="textAreaLeft" fmla="*/ 29880 w 1440000"/>
              <a:gd name="textAreaRight" fmla="*/ 1410120 w 1440000"/>
              <a:gd name="textAreaTop" fmla="*/ 29880 h 463680"/>
              <a:gd name="textAreaBottom" fmla="*/ 433800 h 463680"/>
            </a:gdLst>
            <a:ahLst/>
            <a:rect l="textAreaLeft" t="textAreaTop" r="textAreaRight" b="textAreaBottom"/>
            <a:pathLst>
              <a:path w="67045" h="21600">
                <a:moveTo>
                  <a:pt x="0" y="0"/>
                </a:moveTo>
                <a:lnTo>
                  <a:pt x="67045" y="0"/>
                </a:lnTo>
                <a:lnTo>
                  <a:pt x="67045" y="21600"/>
                </a:lnTo>
                <a:lnTo>
                  <a:pt x="0" y="21600"/>
                </a:lnTo>
                <a:close/>
              </a:path>
              <a:path fill="lightenLess" w="67045" h="21600">
                <a:moveTo>
                  <a:pt x="0" y="0"/>
                </a:moveTo>
                <a:lnTo>
                  <a:pt x="67045" y="0"/>
                </a:lnTo>
                <a:lnTo>
                  <a:pt x="65646" y="1400"/>
                </a:lnTo>
                <a:lnTo>
                  <a:pt x="1400" y="1400"/>
                </a:lnTo>
                <a:close/>
              </a:path>
              <a:path fill="darken" w="67045" h="21600">
                <a:moveTo>
                  <a:pt x="67045" y="0"/>
                </a:moveTo>
                <a:lnTo>
                  <a:pt x="67045" y="21600"/>
                </a:lnTo>
                <a:lnTo>
                  <a:pt x="65646" y="20200"/>
                </a:lnTo>
                <a:lnTo>
                  <a:pt x="65646" y="1400"/>
                </a:lnTo>
                <a:close/>
              </a:path>
              <a:path fill="darkenLess" w="67045" h="21600">
                <a:moveTo>
                  <a:pt x="670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646" y="20200"/>
                </a:lnTo>
                <a:close/>
              </a:path>
              <a:path fill="lighten" w="670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HGｺﾞｼｯｸE"/>
              </a:rPr>
              <a:t>クリ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9280" y="1989000"/>
            <a:ext cx="28191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HG創英角ﾎﾟｯﾌﾟ体"/>
                <a:ea typeface="HG創英角ﾎﾟｯﾌﾟ体"/>
              </a:rPr>
              <a:t>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メールに、こ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添付ファイル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安全だと書い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あったの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　開いてみ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6659640" y="5661000"/>
            <a:ext cx="1368360" cy="463680"/>
          </a:xfrm>
          <a:custGeom>
            <a:avLst/>
            <a:gdLst>
              <a:gd name="textAreaLeft" fmla="*/ 29880 w 1368360"/>
              <a:gd name="textAreaRight" fmla="*/ 1338480 w 1368360"/>
              <a:gd name="textAreaTop" fmla="*/ 29880 h 463680"/>
              <a:gd name="textAreaBottom" fmla="*/ 433800 h 463680"/>
            </a:gdLst>
            <a:ahLst/>
            <a:rect l="textAreaLeft" t="textAreaTop" r="textAreaRight" b="textAreaBottom"/>
            <a:pathLst>
              <a:path w="63711" h="21600">
                <a:moveTo>
                  <a:pt x="0" y="0"/>
                </a:moveTo>
                <a:lnTo>
                  <a:pt x="63711" y="0"/>
                </a:lnTo>
                <a:lnTo>
                  <a:pt x="63711" y="21600"/>
                </a:lnTo>
                <a:lnTo>
                  <a:pt x="0" y="21600"/>
                </a:lnTo>
                <a:close/>
              </a:path>
              <a:path fill="lightenLess" w="63711" h="21600">
                <a:moveTo>
                  <a:pt x="0" y="0"/>
                </a:moveTo>
                <a:lnTo>
                  <a:pt x="63711" y="0"/>
                </a:lnTo>
                <a:lnTo>
                  <a:pt x="62311" y="1400"/>
                </a:lnTo>
                <a:lnTo>
                  <a:pt x="1400" y="1400"/>
                </a:lnTo>
                <a:close/>
              </a:path>
              <a:path fill="darken" w="63711" h="21600">
                <a:moveTo>
                  <a:pt x="63711" y="0"/>
                </a:moveTo>
                <a:lnTo>
                  <a:pt x="63711" y="21600"/>
                </a:lnTo>
                <a:lnTo>
                  <a:pt x="62311" y="20200"/>
                </a:lnTo>
                <a:lnTo>
                  <a:pt x="62311" y="1400"/>
                </a:lnTo>
                <a:close/>
              </a:path>
              <a:path fill="darkenLess" w="63711" h="21600">
                <a:moveTo>
                  <a:pt x="637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311" y="20200"/>
                </a:lnTo>
                <a:close/>
              </a:path>
              <a:path fill="lighten" w="637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  <a:ea typeface="HGｺﾞｼｯｸE"/>
              </a:rPr>
              <a:t>クリ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3780000" y="5661000"/>
            <a:ext cx="1439640" cy="463680"/>
          </a:xfrm>
          <a:custGeom>
            <a:avLst/>
            <a:gdLst>
              <a:gd name="textAreaLeft" fmla="*/ 29880 w 1439640"/>
              <a:gd name="textAreaRight" fmla="*/ 1409760 w 1439640"/>
              <a:gd name="textAreaTop" fmla="*/ 29880 h 463680"/>
              <a:gd name="textAreaBottom" fmla="*/ 433800 h 463680"/>
            </a:gdLst>
            <a:ahLst/>
            <a:rect l="textAreaLeft" t="textAreaTop" r="textAreaRight" b="textAreaBottom"/>
            <a:pathLst>
              <a:path w="67029" h="21600">
                <a:moveTo>
                  <a:pt x="0" y="0"/>
                </a:moveTo>
                <a:lnTo>
                  <a:pt x="67029" y="0"/>
                </a:lnTo>
                <a:lnTo>
                  <a:pt x="67029" y="21600"/>
                </a:lnTo>
                <a:lnTo>
                  <a:pt x="0" y="21600"/>
                </a:lnTo>
                <a:close/>
              </a:path>
              <a:path fill="lightenLess" w="67029" h="21600">
                <a:moveTo>
                  <a:pt x="0" y="0"/>
                </a:moveTo>
                <a:lnTo>
                  <a:pt x="67029" y="0"/>
                </a:lnTo>
                <a:lnTo>
                  <a:pt x="65629" y="1400"/>
                </a:lnTo>
                <a:lnTo>
                  <a:pt x="1400" y="1400"/>
                </a:lnTo>
                <a:close/>
              </a:path>
              <a:path fill="darken" w="67029" h="21600">
                <a:moveTo>
                  <a:pt x="67029" y="0"/>
                </a:moveTo>
                <a:lnTo>
                  <a:pt x="67029" y="21600"/>
                </a:lnTo>
                <a:lnTo>
                  <a:pt x="65629" y="20200"/>
                </a:lnTo>
                <a:lnTo>
                  <a:pt x="65629" y="1400"/>
                </a:lnTo>
                <a:close/>
              </a:path>
              <a:path fill="darkenLess" w="67029" h="21600">
                <a:moveTo>
                  <a:pt x="670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629" y="20200"/>
                </a:lnTo>
                <a:close/>
              </a:path>
              <a:path fill="lighten" w="670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HGｺﾞｼｯｸE"/>
              </a:rPr>
              <a:t>クリ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4" action="ppaction://hlinksldjump"/>
          </p:cNvPr>
          <p:cNvSpPr/>
          <p:nvPr/>
        </p:nvSpPr>
        <p:spPr>
          <a:xfrm>
            <a:off x="900000" y="5661000"/>
            <a:ext cx="1440000" cy="504720"/>
          </a:xfrm>
          <a:custGeom>
            <a:avLst/>
            <a:gdLst>
              <a:gd name="textAreaLeft" fmla="*/ 32400 w 1440000"/>
              <a:gd name="textAreaRight" fmla="*/ 1407600 w 1440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1598" h="21600">
                <a:moveTo>
                  <a:pt x="0" y="0"/>
                </a:moveTo>
                <a:lnTo>
                  <a:pt x="61598" y="0"/>
                </a:lnTo>
                <a:lnTo>
                  <a:pt x="61598" y="21600"/>
                </a:lnTo>
                <a:lnTo>
                  <a:pt x="0" y="21600"/>
                </a:lnTo>
                <a:close/>
              </a:path>
              <a:path fill="lightenLess" w="61598" h="21600">
                <a:moveTo>
                  <a:pt x="0" y="0"/>
                </a:moveTo>
                <a:lnTo>
                  <a:pt x="61598" y="0"/>
                </a:lnTo>
                <a:lnTo>
                  <a:pt x="60198" y="1400"/>
                </a:lnTo>
                <a:lnTo>
                  <a:pt x="1400" y="1400"/>
                </a:lnTo>
                <a:close/>
              </a:path>
              <a:path fill="darken" w="61598" h="21600">
                <a:moveTo>
                  <a:pt x="61598" y="0"/>
                </a:moveTo>
                <a:lnTo>
                  <a:pt x="61598" y="21600"/>
                </a:lnTo>
                <a:lnTo>
                  <a:pt x="60198" y="20200"/>
                </a:lnTo>
                <a:lnTo>
                  <a:pt x="60198" y="1400"/>
                </a:lnTo>
                <a:close/>
              </a:path>
              <a:path fill="darkenLess" w="61598" h="21600">
                <a:moveTo>
                  <a:pt x="61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198" y="20200"/>
                </a:lnTo>
                <a:close/>
              </a:path>
              <a:path fill="lighten" w="61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5661000"/>
            <a:ext cx="1439640" cy="504720"/>
          </a:xfrm>
          <a:custGeom>
            <a:avLst/>
            <a:gdLst>
              <a:gd name="textAreaLeft" fmla="*/ 32400 w 1439640"/>
              <a:gd name="textAreaRight" fmla="*/ 1407240 w 143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1582" h="21600">
                <a:moveTo>
                  <a:pt x="0" y="0"/>
                </a:moveTo>
                <a:lnTo>
                  <a:pt x="61582" y="0"/>
                </a:lnTo>
                <a:lnTo>
                  <a:pt x="61582" y="21600"/>
                </a:lnTo>
                <a:lnTo>
                  <a:pt x="0" y="21600"/>
                </a:lnTo>
                <a:close/>
              </a:path>
              <a:path fill="lightenLess" w="61582" h="21600">
                <a:moveTo>
                  <a:pt x="0" y="0"/>
                </a:moveTo>
                <a:lnTo>
                  <a:pt x="61582" y="0"/>
                </a:lnTo>
                <a:lnTo>
                  <a:pt x="60182" y="1400"/>
                </a:lnTo>
                <a:lnTo>
                  <a:pt x="1400" y="1400"/>
                </a:lnTo>
                <a:close/>
              </a:path>
              <a:path fill="darken" w="61582" h="21600">
                <a:moveTo>
                  <a:pt x="61582" y="0"/>
                </a:moveTo>
                <a:lnTo>
                  <a:pt x="61582" y="21600"/>
                </a:lnTo>
                <a:lnTo>
                  <a:pt x="60182" y="20200"/>
                </a:lnTo>
                <a:lnTo>
                  <a:pt x="60182" y="1400"/>
                </a:lnTo>
                <a:close/>
              </a:path>
              <a:path fill="darkenLess" w="61582" h="21600">
                <a:moveTo>
                  <a:pt x="61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182" y="20200"/>
                </a:lnTo>
                <a:close/>
              </a:path>
              <a:path fill="lighten" w="61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9640" y="5661000"/>
            <a:ext cx="1368360" cy="504720"/>
          </a:xfrm>
          <a:custGeom>
            <a:avLst/>
            <a:gdLst>
              <a:gd name="textAreaLeft" fmla="*/ 32400 w 1368360"/>
              <a:gd name="textAreaRight" fmla="*/ 1335960 w 1368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58534" h="21600">
                <a:moveTo>
                  <a:pt x="0" y="0"/>
                </a:moveTo>
                <a:lnTo>
                  <a:pt x="58534" y="0"/>
                </a:lnTo>
                <a:lnTo>
                  <a:pt x="58534" y="21600"/>
                </a:lnTo>
                <a:lnTo>
                  <a:pt x="0" y="21600"/>
                </a:lnTo>
                <a:close/>
              </a:path>
              <a:path fill="lightenLess" w="58534" h="21600">
                <a:moveTo>
                  <a:pt x="0" y="0"/>
                </a:moveTo>
                <a:lnTo>
                  <a:pt x="58534" y="0"/>
                </a:lnTo>
                <a:lnTo>
                  <a:pt x="57134" y="1400"/>
                </a:lnTo>
                <a:lnTo>
                  <a:pt x="1400" y="1400"/>
                </a:lnTo>
                <a:close/>
              </a:path>
              <a:path fill="darken" w="58534" h="21600">
                <a:moveTo>
                  <a:pt x="58534" y="0"/>
                </a:moveTo>
                <a:lnTo>
                  <a:pt x="58534" y="21600"/>
                </a:lnTo>
                <a:lnTo>
                  <a:pt x="57134" y="20200"/>
                </a:lnTo>
                <a:lnTo>
                  <a:pt x="57134" y="1400"/>
                </a:lnTo>
                <a:close/>
              </a:path>
              <a:path fill="darkenLess" w="58534" h="21600">
                <a:moveTo>
                  <a:pt x="58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134" y="20200"/>
                </a:lnTo>
                <a:close/>
              </a:path>
              <a:path fill="lighten" w="58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Ａを選んだあなたは・・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3068640"/>
            <a:ext cx="8280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 P丸ゴシック体E"/>
              </a:rPr>
              <a:t>相手にかくにんせずに、てん付ファイル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 P丸ゴシック体E"/>
              </a:rPr>
              <a:t>開いてしまうと、ウイルス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 P丸ゴシック体E"/>
              </a:rPr>
              <a:t>感染してしまう危険性がありま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16000" y="1197000"/>
            <a:ext cx="6769080" cy="25369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HG創英角ﾎﾟｯﾌﾟ体"/>
              </a:rPr>
              <a:t>危険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3780000" y="5805360"/>
            <a:ext cx="1439640" cy="463680"/>
          </a:xfrm>
          <a:custGeom>
            <a:avLst/>
            <a:gdLst>
              <a:gd name="textAreaLeft" fmla="*/ 29880 w 1439640"/>
              <a:gd name="textAreaRight" fmla="*/ 1409760 w 1439640"/>
              <a:gd name="textAreaTop" fmla="*/ 29880 h 463680"/>
              <a:gd name="textAreaBottom" fmla="*/ 433800 h 463680"/>
            </a:gdLst>
            <a:ahLst/>
            <a:rect l="textAreaLeft" t="textAreaTop" r="textAreaRight" b="textAreaBottom"/>
            <a:pathLst>
              <a:path w="67029" h="21600">
                <a:moveTo>
                  <a:pt x="0" y="0"/>
                </a:moveTo>
                <a:lnTo>
                  <a:pt x="67029" y="0"/>
                </a:lnTo>
                <a:lnTo>
                  <a:pt x="67029" y="21600"/>
                </a:lnTo>
                <a:lnTo>
                  <a:pt x="0" y="21600"/>
                </a:lnTo>
                <a:close/>
              </a:path>
              <a:path fill="lightenLess" w="67029" h="21600">
                <a:moveTo>
                  <a:pt x="0" y="0"/>
                </a:moveTo>
                <a:lnTo>
                  <a:pt x="67029" y="0"/>
                </a:lnTo>
                <a:lnTo>
                  <a:pt x="65629" y="1400"/>
                </a:lnTo>
                <a:lnTo>
                  <a:pt x="1400" y="1400"/>
                </a:lnTo>
                <a:close/>
              </a:path>
              <a:path fill="darken" w="67029" h="21600">
                <a:moveTo>
                  <a:pt x="67029" y="0"/>
                </a:moveTo>
                <a:lnTo>
                  <a:pt x="67029" y="21600"/>
                </a:lnTo>
                <a:lnTo>
                  <a:pt x="65629" y="20200"/>
                </a:lnTo>
                <a:lnTo>
                  <a:pt x="65629" y="1400"/>
                </a:lnTo>
                <a:close/>
              </a:path>
              <a:path fill="darkenLess" w="67029" h="21600">
                <a:moveTo>
                  <a:pt x="670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629" y="20200"/>
                </a:lnTo>
                <a:close/>
              </a:path>
              <a:path fill="lighten" w="670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HGｺﾞｼｯｸE"/>
              </a:rPr>
              <a:t>もど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80000" y="5805360"/>
            <a:ext cx="1439640" cy="503280"/>
          </a:xfrm>
          <a:custGeom>
            <a:avLst/>
            <a:gdLst>
              <a:gd name="textAreaLeft" fmla="*/ 32400 w 1439640"/>
              <a:gd name="textAreaRight" fmla="*/ 1407240 w 1439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1758" h="21600">
                <a:moveTo>
                  <a:pt x="0" y="0"/>
                </a:moveTo>
                <a:lnTo>
                  <a:pt x="61758" y="0"/>
                </a:lnTo>
                <a:lnTo>
                  <a:pt x="61758" y="21600"/>
                </a:lnTo>
                <a:lnTo>
                  <a:pt x="0" y="21600"/>
                </a:lnTo>
                <a:close/>
              </a:path>
              <a:path fill="lightenLess" w="61758" h="21600">
                <a:moveTo>
                  <a:pt x="0" y="0"/>
                </a:moveTo>
                <a:lnTo>
                  <a:pt x="61758" y="0"/>
                </a:lnTo>
                <a:lnTo>
                  <a:pt x="60358" y="1400"/>
                </a:lnTo>
                <a:lnTo>
                  <a:pt x="1400" y="1400"/>
                </a:lnTo>
                <a:close/>
              </a:path>
              <a:path fill="darken" w="61758" h="21600">
                <a:moveTo>
                  <a:pt x="61758" y="0"/>
                </a:moveTo>
                <a:lnTo>
                  <a:pt x="61758" y="21600"/>
                </a:lnTo>
                <a:lnTo>
                  <a:pt x="60358" y="20200"/>
                </a:lnTo>
                <a:lnTo>
                  <a:pt x="60358" y="1400"/>
                </a:lnTo>
                <a:close/>
              </a:path>
              <a:path fill="darkenLess" w="61758" h="21600">
                <a:moveTo>
                  <a:pt x="61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358" y="20200"/>
                </a:lnTo>
                <a:close/>
              </a:path>
              <a:path fill="lighten" w="61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Ｂを選んだあなたは・・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3809880"/>
            <a:ext cx="815328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 P丸ゴシック体E"/>
              </a:rPr>
              <a:t>安全だというのはウイルスによ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 P丸ゴシック体E"/>
              </a:rPr>
              <a:t>引っかけの可能性があり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 P丸ゴシック体E"/>
              </a:rPr>
              <a:t>信用しててん付ファイルを開いてしまうと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 P丸ゴシック体E"/>
              </a:rPr>
              <a:t>ウイルスに感染してしまう危険性があり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1197000"/>
            <a:ext cx="6769080" cy="25369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Arial"/>
                <a:ea typeface="HG創英角ﾎﾟｯﾌﾟ体"/>
              </a:rPr>
              <a:t>危険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3708360" y="6165720"/>
            <a:ext cx="1440000" cy="463680"/>
          </a:xfrm>
          <a:custGeom>
            <a:avLst/>
            <a:gdLst>
              <a:gd name="textAreaLeft" fmla="*/ 29880 w 1440000"/>
              <a:gd name="textAreaRight" fmla="*/ 1410120 w 1440000"/>
              <a:gd name="textAreaTop" fmla="*/ 29880 h 463680"/>
              <a:gd name="textAreaBottom" fmla="*/ 433800 h 463680"/>
            </a:gdLst>
            <a:ahLst/>
            <a:rect l="textAreaLeft" t="textAreaTop" r="textAreaRight" b="textAreaBottom"/>
            <a:pathLst>
              <a:path w="67045" h="21600">
                <a:moveTo>
                  <a:pt x="0" y="0"/>
                </a:moveTo>
                <a:lnTo>
                  <a:pt x="67045" y="0"/>
                </a:lnTo>
                <a:lnTo>
                  <a:pt x="67045" y="21600"/>
                </a:lnTo>
                <a:lnTo>
                  <a:pt x="0" y="21600"/>
                </a:lnTo>
                <a:close/>
              </a:path>
              <a:path fill="lightenLess" w="67045" h="21600">
                <a:moveTo>
                  <a:pt x="0" y="0"/>
                </a:moveTo>
                <a:lnTo>
                  <a:pt x="67045" y="0"/>
                </a:lnTo>
                <a:lnTo>
                  <a:pt x="65646" y="1400"/>
                </a:lnTo>
                <a:lnTo>
                  <a:pt x="1400" y="1400"/>
                </a:lnTo>
                <a:close/>
              </a:path>
              <a:path fill="darken" w="67045" h="21600">
                <a:moveTo>
                  <a:pt x="67045" y="0"/>
                </a:moveTo>
                <a:lnTo>
                  <a:pt x="67045" y="21600"/>
                </a:lnTo>
                <a:lnTo>
                  <a:pt x="65646" y="20200"/>
                </a:lnTo>
                <a:lnTo>
                  <a:pt x="65646" y="1400"/>
                </a:lnTo>
                <a:close/>
              </a:path>
              <a:path fill="darkenLess" w="67045" h="21600">
                <a:moveTo>
                  <a:pt x="670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646" y="20200"/>
                </a:lnTo>
                <a:close/>
              </a:path>
              <a:path fill="lighten" w="670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HGｺﾞｼｯｸE"/>
              </a:rPr>
              <a:t>もど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6165720"/>
            <a:ext cx="1440000" cy="503280"/>
          </a:xfrm>
          <a:custGeom>
            <a:avLst/>
            <a:gdLst>
              <a:gd name="textAreaLeft" fmla="*/ 32400 w 1440000"/>
              <a:gd name="textAreaRight" fmla="*/ 1407600 w 1440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1774" h="21600">
                <a:moveTo>
                  <a:pt x="0" y="0"/>
                </a:moveTo>
                <a:lnTo>
                  <a:pt x="61774" y="0"/>
                </a:lnTo>
                <a:lnTo>
                  <a:pt x="61774" y="21600"/>
                </a:lnTo>
                <a:lnTo>
                  <a:pt x="0" y="21600"/>
                </a:lnTo>
                <a:close/>
              </a:path>
              <a:path fill="lightenLess" w="61774" h="21600">
                <a:moveTo>
                  <a:pt x="0" y="0"/>
                </a:moveTo>
                <a:lnTo>
                  <a:pt x="61774" y="0"/>
                </a:lnTo>
                <a:lnTo>
                  <a:pt x="60374" y="1400"/>
                </a:lnTo>
                <a:lnTo>
                  <a:pt x="1400" y="1400"/>
                </a:lnTo>
                <a:close/>
              </a:path>
              <a:path fill="darken" w="61774" h="21600">
                <a:moveTo>
                  <a:pt x="61774" y="0"/>
                </a:moveTo>
                <a:lnTo>
                  <a:pt x="61774" y="21600"/>
                </a:lnTo>
                <a:lnTo>
                  <a:pt x="60374" y="20200"/>
                </a:lnTo>
                <a:lnTo>
                  <a:pt x="60374" y="1400"/>
                </a:lnTo>
                <a:close/>
              </a:path>
              <a:path fill="darkenLess" w="61774" h="21600">
                <a:moveTo>
                  <a:pt x="61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374" y="20200"/>
                </a:lnTo>
                <a:close/>
              </a:path>
              <a:path fill="lighten" w="61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9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Ｃを選んだあなたは・・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 P丸ゴシック体E"/>
              </a:rPr>
              <a:t>何かわからないファイル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 P丸ゴシック体E"/>
              </a:rPr>
              <a:t>　開かないのが一番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 P丸ゴシック体E"/>
              </a:rPr>
              <a:t>　かならず相手にかくにんしてか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 P丸ゴシック体E"/>
              </a:rPr>
              <a:t>　開くようにしましょ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92360" y="1413000"/>
            <a:ext cx="5832360" cy="1584360"/>
          </a:xfrm>
          <a:prstGeom prst="flowChartAlternateProcess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HG創英角ﾎﾟｯﾌﾟ体"/>
              </a:rPr>
              <a:t>安　全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3924360" y="6021360"/>
            <a:ext cx="1439640" cy="463680"/>
          </a:xfrm>
          <a:custGeom>
            <a:avLst/>
            <a:gdLst>
              <a:gd name="textAreaLeft" fmla="*/ 29880 w 1439640"/>
              <a:gd name="textAreaRight" fmla="*/ 1409760 w 1439640"/>
              <a:gd name="textAreaTop" fmla="*/ 29880 h 463680"/>
              <a:gd name="textAreaBottom" fmla="*/ 433800 h 463680"/>
            </a:gdLst>
            <a:ahLst/>
            <a:rect l="textAreaLeft" t="textAreaTop" r="textAreaRight" b="textAreaBottom"/>
            <a:pathLst>
              <a:path w="67029" h="21600">
                <a:moveTo>
                  <a:pt x="0" y="0"/>
                </a:moveTo>
                <a:lnTo>
                  <a:pt x="67029" y="0"/>
                </a:lnTo>
                <a:lnTo>
                  <a:pt x="67029" y="21600"/>
                </a:lnTo>
                <a:lnTo>
                  <a:pt x="0" y="21600"/>
                </a:lnTo>
                <a:close/>
              </a:path>
              <a:path fill="lightenLess" w="67029" h="21600">
                <a:moveTo>
                  <a:pt x="0" y="0"/>
                </a:moveTo>
                <a:lnTo>
                  <a:pt x="67029" y="0"/>
                </a:lnTo>
                <a:lnTo>
                  <a:pt x="65629" y="1400"/>
                </a:lnTo>
                <a:lnTo>
                  <a:pt x="1400" y="1400"/>
                </a:lnTo>
                <a:close/>
              </a:path>
              <a:path fill="darken" w="67029" h="21600">
                <a:moveTo>
                  <a:pt x="67029" y="0"/>
                </a:moveTo>
                <a:lnTo>
                  <a:pt x="67029" y="21600"/>
                </a:lnTo>
                <a:lnTo>
                  <a:pt x="65629" y="20200"/>
                </a:lnTo>
                <a:lnTo>
                  <a:pt x="65629" y="1400"/>
                </a:lnTo>
                <a:close/>
              </a:path>
              <a:path fill="darkenLess" w="67029" h="21600">
                <a:moveTo>
                  <a:pt x="670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629" y="20200"/>
                </a:lnTo>
                <a:close/>
              </a:path>
              <a:path fill="lighten" w="670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HGｺﾞｼｯｸE"/>
              </a:rPr>
              <a:t>次 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3924360" y="6021360"/>
            <a:ext cx="1439640" cy="503280"/>
          </a:xfrm>
          <a:custGeom>
            <a:avLst/>
            <a:gdLst>
              <a:gd name="textAreaLeft" fmla="*/ 32400 w 1439640"/>
              <a:gd name="textAreaRight" fmla="*/ 1407240 w 1439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1758" h="21600">
                <a:moveTo>
                  <a:pt x="0" y="0"/>
                </a:moveTo>
                <a:lnTo>
                  <a:pt x="61758" y="0"/>
                </a:lnTo>
                <a:lnTo>
                  <a:pt x="61758" y="21600"/>
                </a:lnTo>
                <a:lnTo>
                  <a:pt x="0" y="21600"/>
                </a:lnTo>
                <a:close/>
              </a:path>
              <a:path fill="lightenLess" w="61758" h="21600">
                <a:moveTo>
                  <a:pt x="0" y="0"/>
                </a:moveTo>
                <a:lnTo>
                  <a:pt x="61758" y="0"/>
                </a:lnTo>
                <a:lnTo>
                  <a:pt x="60358" y="1400"/>
                </a:lnTo>
                <a:lnTo>
                  <a:pt x="1400" y="1400"/>
                </a:lnTo>
                <a:close/>
              </a:path>
              <a:path fill="darken" w="61758" h="21600">
                <a:moveTo>
                  <a:pt x="61758" y="0"/>
                </a:moveTo>
                <a:lnTo>
                  <a:pt x="61758" y="21600"/>
                </a:lnTo>
                <a:lnTo>
                  <a:pt x="60358" y="20200"/>
                </a:lnTo>
                <a:lnTo>
                  <a:pt x="60358" y="1400"/>
                </a:lnTo>
                <a:close/>
              </a:path>
              <a:path fill="darkenLess" w="61758" h="21600">
                <a:moveTo>
                  <a:pt x="61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358" y="20200"/>
                </a:lnTo>
                <a:close/>
              </a:path>
              <a:path fill="lighten" w="61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20"/>
                            </p:stCondLst>
                            <p:childTnLst>
                              <p:par>
                                <p:cTn id="1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920"/>
                            </p:stCondLst>
                            <p:childTnLst>
                              <p:par>
                                <p:cTn id="1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600"/>
                            </p:stCondLst>
                            <p:childTnLst>
                              <p:par>
                                <p:cTn id="1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8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被害者の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686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その日に来たメールは全部で５通。そのうちの１通には件名がなく、添付ファイルを示すクリップが表示されていた。送信者のアドレスは以前届いた友達のものと同じであった。「この前のメールで忘れたことを、追加して送ってきたんだ。何だろう？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私は友達からのメールだという気持ちから、うっかりとその添付ファイルを開いてしまったの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しかし実はこの「知り合いからのメール」に添付されてきたものは友達のコンピュータに感染したウイルスが勝手に送りつけてきたものだっ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私は一瞬の気のゆるみから、大事なコンピュータをウイルスに感染させてしまっ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533520"/>
            <a:ext cx="3581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38280" y="457200"/>
            <a:ext cx="4038840" cy="83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"/>
            <a:ext cx="350532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被害者の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938920" y="5337000"/>
            <a:ext cx="3205080" cy="1521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4647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感染を防ぐため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2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5000"/>
              </a:lnSpc>
              <a:spcBef>
                <a:spcPts val="1125"/>
              </a:spcBef>
              <a:spcAft>
                <a:spcPts val="15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AR P丸ゴシック体E"/>
              </a:rPr>
              <a:t>大人に、コンピュータウイルス対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1125"/>
              </a:spcBef>
              <a:spcAft>
                <a:spcPts val="15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AR P丸ゴシック体E"/>
              </a:rPr>
              <a:t>　ソフトをインストールしてもらい最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1125"/>
              </a:spcBef>
              <a:spcAft>
                <a:spcPts val="15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AR P丸ゴシック体E"/>
              </a:rPr>
              <a:t>　の状態に保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5000"/>
              </a:lnSpc>
              <a:spcBef>
                <a:spcPts val="1125"/>
              </a:spcBef>
              <a:spcAft>
                <a:spcPts val="15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AR P丸ゴシック体E"/>
              </a:rPr>
              <a:t>対策ソフトを入れたからといっ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1125"/>
              </a:spcBef>
              <a:spcAft>
                <a:spcPts val="15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AR P丸ゴシック体E"/>
              </a:rPr>
              <a:t>　油断せず、不しんな電子メール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1125"/>
              </a:spcBef>
              <a:spcAft>
                <a:spcPts val="15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AR P丸ゴシック体E"/>
              </a:rPr>
              <a:t>　開かな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5000"/>
              </a:lnSpc>
              <a:spcBef>
                <a:spcPts val="1125"/>
              </a:spcBef>
              <a:spcAft>
                <a:spcPts val="15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AR P丸ゴシック体E"/>
              </a:rPr>
              <a:t>あやしいホームページには、アクセス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1125"/>
              </a:spcBef>
              <a:spcAft>
                <a:spcPts val="15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AR P丸ゴシック体E"/>
              </a:rPr>
              <a:t>　しない。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380880"/>
            <a:ext cx="449604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感染を防ぐため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ウイルスが侵入した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コンピュータを見てみよ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2916360" y="3573360"/>
            <a:ext cx="3457440" cy="2160720"/>
          </a:xfrm>
          <a:custGeom>
            <a:avLst/>
            <a:gdLst>
              <a:gd name="textAreaLeft" fmla="*/ 140040 w 3457440"/>
              <a:gd name="textAreaRight" fmla="*/ 3317400 w 3457440"/>
              <a:gd name="textAreaTop" fmla="*/ 140040 h 2160720"/>
              <a:gd name="textAreaBottom" fmla="*/ 2020680 h 2160720"/>
            </a:gdLst>
            <a:ahLst/>
            <a:rect l="textAreaLeft" t="textAreaTop" r="textAreaRight" b="textAreaBottom"/>
            <a:pathLst>
              <a:path w="34561" h="21600">
                <a:moveTo>
                  <a:pt x="0" y="0"/>
                </a:moveTo>
                <a:lnTo>
                  <a:pt x="34561" y="0"/>
                </a:lnTo>
                <a:lnTo>
                  <a:pt x="34561" y="21600"/>
                </a:lnTo>
                <a:lnTo>
                  <a:pt x="0" y="21600"/>
                </a:lnTo>
                <a:close/>
              </a:path>
              <a:path fill="lightenLess" w="34561" h="21600">
                <a:moveTo>
                  <a:pt x="0" y="0"/>
                </a:moveTo>
                <a:lnTo>
                  <a:pt x="34561" y="0"/>
                </a:lnTo>
                <a:lnTo>
                  <a:pt x="33161" y="1400"/>
                </a:lnTo>
                <a:lnTo>
                  <a:pt x="1400" y="1400"/>
                </a:lnTo>
                <a:close/>
              </a:path>
              <a:path fill="darken" w="34561" h="21600">
                <a:moveTo>
                  <a:pt x="34561" y="0"/>
                </a:moveTo>
                <a:lnTo>
                  <a:pt x="34561" y="21600"/>
                </a:lnTo>
                <a:lnTo>
                  <a:pt x="33161" y="20200"/>
                </a:lnTo>
                <a:lnTo>
                  <a:pt x="33161" y="1400"/>
                </a:lnTo>
                <a:close/>
              </a:path>
              <a:path fill="darkenLess" w="34561" h="21600">
                <a:moveTo>
                  <a:pt x="345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1" y="20200"/>
                </a:lnTo>
                <a:close/>
              </a:path>
              <a:path fill="lighten" w="345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1" h="21600">
                <a:moveTo>
                  <a:pt x="10274" y="7301"/>
                </a:moveTo>
                <a:lnTo>
                  <a:pt x="11188" y="7301"/>
                </a:lnTo>
                <a:lnTo>
                  <a:pt x="11571" y="7667"/>
                </a:lnTo>
                <a:lnTo>
                  <a:pt x="20779" y="7667"/>
                </a:lnTo>
                <a:lnTo>
                  <a:pt x="21336" y="8224"/>
                </a:lnTo>
                <a:lnTo>
                  <a:pt x="21336" y="8772"/>
                </a:lnTo>
                <a:lnTo>
                  <a:pt x="23181" y="8772"/>
                </a:lnTo>
                <a:lnTo>
                  <a:pt x="23547" y="8224"/>
                </a:lnTo>
                <a:lnTo>
                  <a:pt x="24287" y="8224"/>
                </a:lnTo>
                <a:lnTo>
                  <a:pt x="24287" y="13376"/>
                </a:lnTo>
                <a:lnTo>
                  <a:pt x="23547" y="13376"/>
                </a:lnTo>
                <a:lnTo>
                  <a:pt x="23181" y="12828"/>
                </a:lnTo>
                <a:lnTo>
                  <a:pt x="21336" y="12828"/>
                </a:lnTo>
                <a:lnTo>
                  <a:pt x="21336" y="14107"/>
                </a:lnTo>
                <a:lnTo>
                  <a:pt x="11754" y="14107"/>
                </a:lnTo>
                <a:lnTo>
                  <a:pt x="11754" y="9877"/>
                </a:lnTo>
                <a:lnTo>
                  <a:pt x="11571" y="9877"/>
                </a:lnTo>
                <a:lnTo>
                  <a:pt x="11188" y="10243"/>
                </a:lnTo>
                <a:lnTo>
                  <a:pt x="10274" y="10243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775280" cy="5472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59280" y="6165720"/>
            <a:ext cx="3168360" cy="432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終わったら次のページ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87640" y="6165720"/>
            <a:ext cx="3240000" cy="432000"/>
          </a:xfrm>
          <a:custGeom>
            <a:avLst/>
            <a:gdLst>
              <a:gd name="textAreaLeft" fmla="*/ 27720 w 3240000"/>
              <a:gd name="textAreaRight" fmla="*/ 3212280 w 3240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61883" h="21600">
                <a:moveTo>
                  <a:pt x="0" y="0"/>
                </a:moveTo>
                <a:lnTo>
                  <a:pt x="161883" y="0"/>
                </a:lnTo>
                <a:lnTo>
                  <a:pt x="161883" y="21600"/>
                </a:lnTo>
                <a:lnTo>
                  <a:pt x="0" y="21600"/>
                </a:lnTo>
                <a:close/>
              </a:path>
              <a:path fill="lightenLess" w="161883" h="21600">
                <a:moveTo>
                  <a:pt x="0" y="0"/>
                </a:moveTo>
                <a:lnTo>
                  <a:pt x="161883" y="0"/>
                </a:lnTo>
                <a:lnTo>
                  <a:pt x="160483" y="1400"/>
                </a:lnTo>
                <a:lnTo>
                  <a:pt x="1400" y="1400"/>
                </a:lnTo>
                <a:close/>
              </a:path>
              <a:path fill="darken" w="161883" h="21600">
                <a:moveTo>
                  <a:pt x="161883" y="0"/>
                </a:moveTo>
                <a:lnTo>
                  <a:pt x="161883" y="21600"/>
                </a:lnTo>
                <a:lnTo>
                  <a:pt x="160483" y="20200"/>
                </a:lnTo>
                <a:lnTo>
                  <a:pt x="160483" y="1400"/>
                </a:lnTo>
                <a:close/>
              </a:path>
              <a:path fill="darkenLess" w="161883" h="21600">
                <a:moveTo>
                  <a:pt x="161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0483" y="20200"/>
                </a:lnTo>
                <a:close/>
              </a:path>
              <a:path fill="lighten" w="161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5266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他にもどんな悪いことをするの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5640" y="5013000"/>
            <a:ext cx="8634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825"/>
              </a:spcBef>
              <a:spcAft>
                <a:spcPts val="22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Arial"/>
                <a:ea typeface="AR P丸ゴシック体E"/>
              </a:rPr>
              <a:t>　　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Aft>
                <a:spcPts val="22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Aft>
                <a:spcPts val="22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firstslide"/>
          </p:cNvPr>
          <p:cNvSpPr/>
          <p:nvPr/>
        </p:nvSpPr>
        <p:spPr>
          <a:xfrm>
            <a:off x="6227640" y="5589720"/>
            <a:ext cx="1513080" cy="503280"/>
          </a:xfrm>
          <a:custGeom>
            <a:avLst/>
            <a:gdLst>
              <a:gd name="textAreaLeft" fmla="*/ 32400 w 1513080"/>
              <a:gd name="textAreaRight" fmla="*/ 1480680 w 1513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4908" h="21600">
                <a:moveTo>
                  <a:pt x="0" y="0"/>
                </a:moveTo>
                <a:lnTo>
                  <a:pt x="64908" y="0"/>
                </a:lnTo>
                <a:lnTo>
                  <a:pt x="64908" y="21600"/>
                </a:lnTo>
                <a:lnTo>
                  <a:pt x="0" y="21600"/>
                </a:lnTo>
                <a:close/>
              </a:path>
              <a:path fill="lightenLess" w="64908" h="21600">
                <a:moveTo>
                  <a:pt x="0" y="0"/>
                </a:moveTo>
                <a:lnTo>
                  <a:pt x="64908" y="0"/>
                </a:lnTo>
                <a:lnTo>
                  <a:pt x="63508" y="1400"/>
                </a:lnTo>
                <a:lnTo>
                  <a:pt x="1400" y="1400"/>
                </a:lnTo>
                <a:close/>
              </a:path>
              <a:path fill="darken" w="64908" h="21600">
                <a:moveTo>
                  <a:pt x="64908" y="0"/>
                </a:moveTo>
                <a:lnTo>
                  <a:pt x="64908" y="21600"/>
                </a:lnTo>
                <a:lnTo>
                  <a:pt x="63508" y="20200"/>
                </a:lnTo>
                <a:lnTo>
                  <a:pt x="63508" y="1400"/>
                </a:lnTo>
                <a:close/>
              </a:path>
              <a:path fill="darkenLess" w="64908" h="21600">
                <a:moveTo>
                  <a:pt x="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08" y="20200"/>
                </a:lnTo>
                <a:close/>
              </a:path>
              <a:path fill="lighten" w="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908" h="21600">
                <a:moveTo>
                  <a:pt x="28955" y="10800"/>
                </a:moveTo>
                <a:lnTo>
                  <a:pt x="39461" y="3794"/>
                </a:lnTo>
                <a:lnTo>
                  <a:pt x="39461" y="17806"/>
                </a:lnTo>
                <a:close/>
              </a:path>
              <a:path fill="darken" w="64908" h="21600">
                <a:moveTo>
                  <a:pt x="25448" y="3794"/>
                </a:moveTo>
                <a:lnTo>
                  <a:pt x="27110" y="3794"/>
                </a:lnTo>
                <a:lnTo>
                  <a:pt x="27110" y="17806"/>
                </a:lnTo>
                <a:lnTo>
                  <a:pt x="2544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6920" y="1484280"/>
            <a:ext cx="316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1484280"/>
            <a:ext cx="251928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87280" y="1773360"/>
            <a:ext cx="2808360" cy="2016000"/>
          </a:xfrm>
          <a:prstGeom prst="pentag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6920" y="1341360"/>
            <a:ext cx="7490160" cy="4824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84280"/>
            <a:ext cx="4032360" cy="1800360"/>
          </a:xfrm>
          <a:custGeom>
            <a:avLst/>
            <a:gdLst>
              <a:gd name="textAreaLeft" fmla="*/ 920520 w 4032360"/>
              <a:gd name="textAreaRight" fmla="*/ 3111840 w 4032360"/>
              <a:gd name="textAreaTop" fmla="*/ 410760 h 1800360"/>
              <a:gd name="textAreaBottom" fmla="*/ 138960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ディスプレイ表示を乱す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56000" y="4437000"/>
            <a:ext cx="4176720" cy="1656000"/>
          </a:xfrm>
          <a:custGeom>
            <a:avLst/>
            <a:gdLst>
              <a:gd name="textAreaLeft" fmla="*/ 953280 w 4176720"/>
              <a:gd name="textAreaRight" fmla="*/ 3223440 w 4176720"/>
              <a:gd name="textAreaTop" fmla="*/ 378000 h 1656000"/>
              <a:gd name="textAreaBottom" fmla="*/ 127800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動作不能におとしいれる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197000"/>
            <a:ext cx="4464000" cy="2376360"/>
          </a:xfrm>
          <a:custGeom>
            <a:avLst/>
            <a:gdLst>
              <a:gd name="textAreaLeft" fmla="*/ 1018800 w 4464000"/>
              <a:gd name="textAreaRight" fmla="*/ 3445200 w 4464000"/>
              <a:gd name="textAreaTop" fmla="*/ 542520 h 2376360"/>
              <a:gd name="textAreaBottom" fmla="*/ 183384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　　　　　　　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　　　　　感染に気づかずにコンピュータを　　　　　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　　　　使っていると、他のコンピュータに　　　　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ウイルスを感染させる危険性が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4365720"/>
            <a:ext cx="3958920" cy="1728720"/>
          </a:xfrm>
          <a:custGeom>
            <a:avLst/>
            <a:gdLst>
              <a:gd name="textAreaLeft" fmla="*/ 903600 w 3958920"/>
              <a:gd name="textAreaRight" fmla="*/ 3055320 w 3958920"/>
              <a:gd name="textAreaTop" fmla="*/ 394560 h 1728720"/>
              <a:gd name="textAreaBottom" fmla="*/ 133416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ffffff"/>
                </a:solidFill>
                <a:latin typeface="Arial"/>
              </a:rPr>
              <a:t>個人情報を盗まれる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64000" y="2997360"/>
            <a:ext cx="3168720" cy="172692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394200 h 1726920"/>
              <a:gd name="textAreaBottom" fmla="*/ 1332720 h 1726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11280" y="2781360"/>
            <a:ext cx="4465800" cy="2232000"/>
          </a:xfrm>
          <a:custGeom>
            <a:avLst/>
            <a:gdLst>
              <a:gd name="textAreaLeft" fmla="*/ 1019520 w 4465800"/>
              <a:gd name="textAreaRight" fmla="*/ 3446280 w 4465800"/>
              <a:gd name="textAreaTop" fmla="*/ 509400 h 2232000"/>
              <a:gd name="textAreaBottom" fmla="*/ 17226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コンピュータのパフォーマン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　　（実行速度）を　低下させ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　“今日は、動作がすごく重たい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こんなとき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あなたならどうする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0" y="3429000"/>
            <a:ext cx="3960720" cy="295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3429000"/>
            <a:ext cx="3816360" cy="295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 P丸ゴシック体E"/>
              </a:rPr>
              <a:t>好きなサイトのホームページを見ていたときに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 P丸ゴシック体E"/>
              </a:rPr>
              <a:t>あなたはこんな表示を見つけまし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403848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3500280"/>
            <a:ext cx="403848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HG創英角ﾎﾟｯﾌﾟ体"/>
                <a:ea typeface="HG創英角ﾎﾟｯﾌﾟ体"/>
              </a:rPr>
              <a:t>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これはあやしい･･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とうたがっ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クリックせ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　無視す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1989000"/>
            <a:ext cx="8229600" cy="122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最新のゲーム情報をゲットしたい方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　　いますぐ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HG創英角ﾎﾟｯﾌﾟ体"/>
              </a:rPr>
              <a:t>ここをクリック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3429000"/>
            <a:ext cx="396072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HG創英角ﾎﾟｯﾌﾟ体"/>
                <a:ea typeface="HG創英角ﾎﾟｯﾌﾟ体"/>
              </a:rPr>
              <a:t>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最新情報をゲ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するために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必要なの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　クリックす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5867280" y="5877000"/>
            <a:ext cx="1224000" cy="433440"/>
          </a:xfrm>
          <a:custGeom>
            <a:avLst/>
            <a:gdLst>
              <a:gd name="textAreaLeft" fmla="*/ 28080 w 1224000"/>
              <a:gd name="textAreaRight" fmla="*/ 1195920 w 122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60964" h="21600">
                <a:moveTo>
                  <a:pt x="0" y="0"/>
                </a:moveTo>
                <a:lnTo>
                  <a:pt x="60964" y="0"/>
                </a:lnTo>
                <a:lnTo>
                  <a:pt x="60964" y="21600"/>
                </a:lnTo>
                <a:lnTo>
                  <a:pt x="0" y="21600"/>
                </a:lnTo>
                <a:close/>
              </a:path>
              <a:path fill="lightenLess" w="60964" h="21600">
                <a:moveTo>
                  <a:pt x="0" y="0"/>
                </a:moveTo>
                <a:lnTo>
                  <a:pt x="60964" y="0"/>
                </a:lnTo>
                <a:lnTo>
                  <a:pt x="59564" y="1400"/>
                </a:lnTo>
                <a:lnTo>
                  <a:pt x="1400" y="1400"/>
                </a:lnTo>
                <a:close/>
              </a:path>
              <a:path fill="darken" w="60964" h="21600">
                <a:moveTo>
                  <a:pt x="60964" y="0"/>
                </a:moveTo>
                <a:lnTo>
                  <a:pt x="60964" y="21600"/>
                </a:lnTo>
                <a:lnTo>
                  <a:pt x="59564" y="20200"/>
                </a:lnTo>
                <a:lnTo>
                  <a:pt x="59564" y="1400"/>
                </a:lnTo>
                <a:close/>
              </a:path>
              <a:path fill="darkenLess" w="60964" h="21600">
                <a:moveTo>
                  <a:pt x="60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564" y="20200"/>
                </a:lnTo>
                <a:close/>
              </a:path>
              <a:path fill="lighten" w="60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99"/>
                </a:solidFill>
                <a:latin typeface="Arial"/>
                <a:ea typeface="HGPｺﾞｼｯｸE"/>
              </a:rPr>
              <a:t>クリ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1763640" y="5877000"/>
            <a:ext cx="1224000" cy="43164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1218" h="21600">
                <a:moveTo>
                  <a:pt x="0" y="0"/>
                </a:moveTo>
                <a:lnTo>
                  <a:pt x="61218" y="0"/>
                </a:lnTo>
                <a:lnTo>
                  <a:pt x="61218" y="21600"/>
                </a:lnTo>
                <a:lnTo>
                  <a:pt x="0" y="21600"/>
                </a:lnTo>
                <a:close/>
              </a:path>
              <a:path fill="lightenLess" w="61218" h="21600">
                <a:moveTo>
                  <a:pt x="0" y="0"/>
                </a:moveTo>
                <a:lnTo>
                  <a:pt x="61218" y="0"/>
                </a:lnTo>
                <a:lnTo>
                  <a:pt x="59818" y="1400"/>
                </a:lnTo>
                <a:lnTo>
                  <a:pt x="1400" y="1400"/>
                </a:lnTo>
                <a:close/>
              </a:path>
              <a:path fill="darken" w="61218" h="21600">
                <a:moveTo>
                  <a:pt x="61218" y="0"/>
                </a:moveTo>
                <a:lnTo>
                  <a:pt x="61218" y="21600"/>
                </a:lnTo>
                <a:lnTo>
                  <a:pt x="59818" y="20200"/>
                </a:lnTo>
                <a:lnTo>
                  <a:pt x="59818" y="1400"/>
                </a:lnTo>
                <a:close/>
              </a:path>
              <a:path fill="darkenLess" w="61218" h="21600">
                <a:moveTo>
                  <a:pt x="61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18" y="20200"/>
                </a:lnTo>
                <a:close/>
              </a:path>
              <a:path fill="lighten" w="61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99"/>
                </a:solidFill>
                <a:latin typeface="Arial"/>
                <a:ea typeface="HGPｺﾞｼｯｸE"/>
              </a:rPr>
              <a:t>クリ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1692360" y="5877000"/>
            <a:ext cx="1366920" cy="431640"/>
          </a:xfrm>
          <a:custGeom>
            <a:avLst/>
            <a:gdLst>
              <a:gd name="textAreaLeft" fmla="*/ 27720 w 1366920"/>
              <a:gd name="textAreaRight" fmla="*/ 1339200 w 1366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8364" h="21600">
                <a:moveTo>
                  <a:pt x="0" y="0"/>
                </a:moveTo>
                <a:lnTo>
                  <a:pt x="68364" y="0"/>
                </a:lnTo>
                <a:lnTo>
                  <a:pt x="68364" y="21600"/>
                </a:lnTo>
                <a:lnTo>
                  <a:pt x="0" y="21600"/>
                </a:lnTo>
                <a:close/>
              </a:path>
              <a:path fill="lightenLess" w="68364" h="21600">
                <a:moveTo>
                  <a:pt x="0" y="0"/>
                </a:moveTo>
                <a:lnTo>
                  <a:pt x="68364" y="0"/>
                </a:lnTo>
                <a:lnTo>
                  <a:pt x="66964" y="1400"/>
                </a:lnTo>
                <a:lnTo>
                  <a:pt x="1400" y="1400"/>
                </a:lnTo>
                <a:close/>
              </a:path>
              <a:path fill="darken" w="68364" h="21600">
                <a:moveTo>
                  <a:pt x="68364" y="0"/>
                </a:moveTo>
                <a:lnTo>
                  <a:pt x="68364" y="21600"/>
                </a:lnTo>
                <a:lnTo>
                  <a:pt x="66964" y="20200"/>
                </a:lnTo>
                <a:lnTo>
                  <a:pt x="66964" y="1400"/>
                </a:lnTo>
                <a:close/>
              </a:path>
              <a:path fill="darkenLess" w="68364" h="21600">
                <a:moveTo>
                  <a:pt x="68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4" y="20200"/>
                </a:lnTo>
                <a:close/>
              </a:path>
              <a:path fill="lighten" w="68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5796000" y="5877000"/>
            <a:ext cx="1368360" cy="431640"/>
          </a:xfrm>
          <a:custGeom>
            <a:avLst/>
            <a:gdLst>
              <a:gd name="textAreaLeft" fmla="*/ 27720 w 1368360"/>
              <a:gd name="textAreaRight" fmla="*/ 1340640 w 1368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8436" h="21600">
                <a:moveTo>
                  <a:pt x="0" y="0"/>
                </a:moveTo>
                <a:lnTo>
                  <a:pt x="68436" y="0"/>
                </a:lnTo>
                <a:lnTo>
                  <a:pt x="68436" y="21600"/>
                </a:lnTo>
                <a:lnTo>
                  <a:pt x="0" y="21600"/>
                </a:lnTo>
                <a:close/>
              </a:path>
              <a:path fill="lightenLess" w="68436" h="21600">
                <a:moveTo>
                  <a:pt x="0" y="0"/>
                </a:moveTo>
                <a:lnTo>
                  <a:pt x="68436" y="0"/>
                </a:lnTo>
                <a:lnTo>
                  <a:pt x="67036" y="1400"/>
                </a:lnTo>
                <a:lnTo>
                  <a:pt x="1400" y="1400"/>
                </a:lnTo>
                <a:close/>
              </a:path>
              <a:path fill="darken" w="68436" h="21600">
                <a:moveTo>
                  <a:pt x="68436" y="0"/>
                </a:moveTo>
                <a:lnTo>
                  <a:pt x="68436" y="21600"/>
                </a:lnTo>
                <a:lnTo>
                  <a:pt x="67036" y="20200"/>
                </a:lnTo>
                <a:lnTo>
                  <a:pt x="67036" y="1400"/>
                </a:lnTo>
                <a:close/>
              </a:path>
              <a:path fill="darkenLess" w="68436" h="21600">
                <a:moveTo>
                  <a:pt x="68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036" y="20200"/>
                </a:lnTo>
                <a:close/>
              </a:path>
              <a:path fill="lighten" w="68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Ａを選んだあなたは・・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3640" y="3860640"/>
            <a:ext cx="821052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 P丸ゴシック体E"/>
              </a:rPr>
              <a:t>すぐに何でも信用して、クリックした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 P丸ゴシック体E"/>
              </a:rPr>
              <a:t>ダウンロードしたりすると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 P丸ゴシック体E"/>
              </a:rPr>
              <a:t>ウイルスに感染してしま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 P丸ゴシック体E"/>
              </a:rPr>
              <a:t>　危険性があります。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1413000"/>
            <a:ext cx="8497800" cy="2016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HG創英角ﾎﾟｯﾌﾟ体"/>
              </a:rPr>
              <a:t>危険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162864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previousslide"/>
          </p:cNvPr>
          <p:cNvSpPr/>
          <p:nvPr/>
        </p:nvSpPr>
        <p:spPr>
          <a:xfrm>
            <a:off x="6948360" y="6021360"/>
            <a:ext cx="1440000" cy="463680"/>
          </a:xfrm>
          <a:custGeom>
            <a:avLst/>
            <a:gdLst>
              <a:gd name="textAreaLeft" fmla="*/ 29880 w 1440000"/>
              <a:gd name="textAreaRight" fmla="*/ 1410120 w 1440000"/>
              <a:gd name="textAreaTop" fmla="*/ 29880 h 463680"/>
              <a:gd name="textAreaBottom" fmla="*/ 433800 h 463680"/>
            </a:gdLst>
            <a:ahLst/>
            <a:rect l="textAreaLeft" t="textAreaTop" r="textAreaRight" b="textAreaBottom"/>
            <a:pathLst>
              <a:path w="67045" h="21600">
                <a:moveTo>
                  <a:pt x="0" y="0"/>
                </a:moveTo>
                <a:lnTo>
                  <a:pt x="67045" y="0"/>
                </a:lnTo>
                <a:lnTo>
                  <a:pt x="67045" y="21600"/>
                </a:lnTo>
                <a:lnTo>
                  <a:pt x="0" y="21600"/>
                </a:lnTo>
                <a:close/>
              </a:path>
              <a:path fill="lightenLess" w="67045" h="21600">
                <a:moveTo>
                  <a:pt x="0" y="0"/>
                </a:moveTo>
                <a:lnTo>
                  <a:pt x="67045" y="0"/>
                </a:lnTo>
                <a:lnTo>
                  <a:pt x="65646" y="1400"/>
                </a:lnTo>
                <a:lnTo>
                  <a:pt x="1400" y="1400"/>
                </a:lnTo>
                <a:close/>
              </a:path>
              <a:path fill="darken" w="67045" h="21600">
                <a:moveTo>
                  <a:pt x="67045" y="0"/>
                </a:moveTo>
                <a:lnTo>
                  <a:pt x="67045" y="21600"/>
                </a:lnTo>
                <a:lnTo>
                  <a:pt x="65646" y="20200"/>
                </a:lnTo>
                <a:lnTo>
                  <a:pt x="65646" y="1400"/>
                </a:lnTo>
                <a:close/>
              </a:path>
              <a:path fill="darkenLess" w="67045" h="21600">
                <a:moveTo>
                  <a:pt x="670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646" y="20200"/>
                </a:lnTo>
                <a:close/>
              </a:path>
              <a:path fill="lighten" w="670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HGｺﾞｼｯｸE"/>
              </a:rPr>
              <a:t>もど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948360" y="6021360"/>
            <a:ext cx="1440000" cy="503280"/>
          </a:xfrm>
          <a:custGeom>
            <a:avLst/>
            <a:gdLst>
              <a:gd name="textAreaLeft" fmla="*/ 32400 w 1440000"/>
              <a:gd name="textAreaRight" fmla="*/ 1407600 w 1440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1774" h="21600">
                <a:moveTo>
                  <a:pt x="0" y="0"/>
                </a:moveTo>
                <a:lnTo>
                  <a:pt x="61774" y="0"/>
                </a:lnTo>
                <a:lnTo>
                  <a:pt x="61774" y="21600"/>
                </a:lnTo>
                <a:lnTo>
                  <a:pt x="0" y="21600"/>
                </a:lnTo>
                <a:close/>
              </a:path>
              <a:path fill="lightenLess" w="61774" h="21600">
                <a:moveTo>
                  <a:pt x="0" y="0"/>
                </a:moveTo>
                <a:lnTo>
                  <a:pt x="61774" y="0"/>
                </a:lnTo>
                <a:lnTo>
                  <a:pt x="60374" y="1400"/>
                </a:lnTo>
                <a:lnTo>
                  <a:pt x="1400" y="1400"/>
                </a:lnTo>
                <a:close/>
              </a:path>
              <a:path fill="darken" w="61774" h="21600">
                <a:moveTo>
                  <a:pt x="61774" y="0"/>
                </a:moveTo>
                <a:lnTo>
                  <a:pt x="61774" y="21600"/>
                </a:lnTo>
                <a:lnTo>
                  <a:pt x="60374" y="20200"/>
                </a:lnTo>
                <a:lnTo>
                  <a:pt x="60374" y="1400"/>
                </a:lnTo>
                <a:close/>
              </a:path>
              <a:path fill="darkenLess" w="61774" h="21600">
                <a:moveTo>
                  <a:pt x="61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374" y="20200"/>
                </a:lnTo>
                <a:close/>
              </a:path>
              <a:path fill="lighten" w="61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Ｂを選んだあなたは・・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 P丸ゴシック体E"/>
              </a:rPr>
              <a:t>無視するのが一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 P丸ゴシック体E"/>
              </a:rPr>
              <a:t>　あやしいと感じたら、その時点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 P丸ゴシック体E"/>
              </a:rPr>
              <a:t>　ストップすることにしましょ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92360" y="1413000"/>
            <a:ext cx="5832360" cy="1584360"/>
          </a:xfrm>
          <a:prstGeom prst="flowChartAlternateProcess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HG創英角ﾎﾟｯﾌﾟ体"/>
              </a:rPr>
              <a:t>安　全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3851280" y="5805360"/>
            <a:ext cx="1440000" cy="463680"/>
          </a:xfrm>
          <a:custGeom>
            <a:avLst/>
            <a:gdLst>
              <a:gd name="textAreaLeft" fmla="*/ 29880 w 1440000"/>
              <a:gd name="textAreaRight" fmla="*/ 1410120 w 1440000"/>
              <a:gd name="textAreaTop" fmla="*/ 29880 h 463680"/>
              <a:gd name="textAreaBottom" fmla="*/ 433800 h 463680"/>
            </a:gdLst>
            <a:ahLst/>
            <a:rect l="textAreaLeft" t="textAreaTop" r="textAreaRight" b="textAreaBottom"/>
            <a:pathLst>
              <a:path w="67045" h="21600">
                <a:moveTo>
                  <a:pt x="0" y="0"/>
                </a:moveTo>
                <a:lnTo>
                  <a:pt x="67045" y="0"/>
                </a:lnTo>
                <a:lnTo>
                  <a:pt x="67045" y="21600"/>
                </a:lnTo>
                <a:lnTo>
                  <a:pt x="0" y="21600"/>
                </a:lnTo>
                <a:close/>
              </a:path>
              <a:path fill="lightenLess" w="67045" h="21600">
                <a:moveTo>
                  <a:pt x="0" y="0"/>
                </a:moveTo>
                <a:lnTo>
                  <a:pt x="67045" y="0"/>
                </a:lnTo>
                <a:lnTo>
                  <a:pt x="65646" y="1400"/>
                </a:lnTo>
                <a:lnTo>
                  <a:pt x="1400" y="1400"/>
                </a:lnTo>
                <a:close/>
              </a:path>
              <a:path fill="darken" w="67045" h="21600">
                <a:moveTo>
                  <a:pt x="67045" y="0"/>
                </a:moveTo>
                <a:lnTo>
                  <a:pt x="67045" y="21600"/>
                </a:lnTo>
                <a:lnTo>
                  <a:pt x="65646" y="20200"/>
                </a:lnTo>
                <a:lnTo>
                  <a:pt x="65646" y="1400"/>
                </a:lnTo>
                <a:close/>
              </a:path>
              <a:path fill="darkenLess" w="67045" h="21600">
                <a:moveTo>
                  <a:pt x="670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646" y="20200"/>
                </a:lnTo>
                <a:close/>
              </a:path>
              <a:path fill="lighten" w="670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HGｺﾞｼｯｸE"/>
              </a:rPr>
              <a:t>次 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3851280" y="5805360"/>
            <a:ext cx="1441440" cy="503280"/>
          </a:xfrm>
          <a:custGeom>
            <a:avLst/>
            <a:gdLst>
              <a:gd name="textAreaLeft" fmla="*/ 32400 w 1441440"/>
              <a:gd name="textAreaRight" fmla="*/ 1409040 w 14414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1836" h="21600">
                <a:moveTo>
                  <a:pt x="0" y="0"/>
                </a:moveTo>
                <a:lnTo>
                  <a:pt x="61836" y="0"/>
                </a:lnTo>
                <a:lnTo>
                  <a:pt x="61836" y="21600"/>
                </a:lnTo>
                <a:lnTo>
                  <a:pt x="0" y="21600"/>
                </a:lnTo>
                <a:close/>
              </a:path>
              <a:path fill="lightenLess" w="61836" h="21600">
                <a:moveTo>
                  <a:pt x="0" y="0"/>
                </a:moveTo>
                <a:lnTo>
                  <a:pt x="61836" y="0"/>
                </a:lnTo>
                <a:lnTo>
                  <a:pt x="60436" y="1400"/>
                </a:lnTo>
                <a:lnTo>
                  <a:pt x="1400" y="1400"/>
                </a:lnTo>
                <a:close/>
              </a:path>
              <a:path fill="darken" w="61836" h="21600">
                <a:moveTo>
                  <a:pt x="61836" y="0"/>
                </a:moveTo>
                <a:lnTo>
                  <a:pt x="61836" y="21600"/>
                </a:lnTo>
                <a:lnTo>
                  <a:pt x="60436" y="20200"/>
                </a:lnTo>
                <a:lnTo>
                  <a:pt x="60436" y="1400"/>
                </a:lnTo>
                <a:close/>
              </a:path>
              <a:path fill="darkenLess" w="61836" h="21600">
                <a:moveTo>
                  <a:pt x="61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436" y="20200"/>
                </a:lnTo>
                <a:close/>
              </a:path>
              <a:path fill="lighten" w="61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AR P丸ゴシック体E"/>
              </a:rPr>
              <a:t>友達から届いたメール。よく見ると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AR P丸ゴシック体E"/>
              </a:rPr>
              <a:t>てん付ファイル　　　のマークが・・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03280" y="1628640"/>
            <a:ext cx="6913800" cy="4608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5013360"/>
            <a:ext cx="1224000" cy="863640"/>
          </a:xfrm>
          <a:prstGeom prst="rightArrow">
            <a:avLst>
              <a:gd name="adj1" fmla="val 50000"/>
              <a:gd name="adj2" fmla="val 35431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067280" y="907920"/>
            <a:ext cx="769680" cy="59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8T01:58:16Z</dcterms:created>
  <dc:creator>津幡町立津幡小学校</dc:creator>
  <dc:description/>
  <dc:language>en-US</dc:language>
  <cp:lastModifiedBy>石川教育センター</cp:lastModifiedBy>
  <dcterms:modified xsi:type="dcterms:W3CDTF">2007-04-10T03:13:12Z</dcterms:modified>
  <cp:revision>138</cp:revision>
  <dc:subject/>
  <dc:title>コンピューターウイルスの 感染例</dc:title>
</cp:coreProperties>
</file>