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8B76-C79C-4DB5-B629-833FFE24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4FAA-44BF-4C68-9DFD-8B4F9AC5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1F56-473D-4218-8806-F94FD0CD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DF27-A9A4-4B04-A672-420CB7C11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B242-76B7-43B4-A7DC-2D2EDB96D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5BD1-E7E2-48E0-A21F-2FBEA5DA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4EE9-A9E8-4DBC-B581-13F7ACD6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3CB6-3482-4E1B-AA59-862EBFF2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15CF-CB06-4E4E-A453-6C771701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A954-44B5-4CBC-86DA-2083DBAD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86D8-05E6-4E30-93FD-7B0A6F79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8C69-0E57-497F-B674-387AAD86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30DD-9A3A-4FC8-B999-5C213E55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CF25-B12B-44C4-8C21-B75F5A9D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DFF1-E3BF-4C4E-9CD3-0BF4074A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174A-863C-465D-9716-EEDF5984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BEFB-7456-41B1-A1C1-C3E13D7FC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51FB-E5EF-4C7F-BDD7-7BF865AB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6274-26F6-4D47-8D9B-5C52D2AC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7D30-8B92-4789-AAC1-A2E52963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B486-4BD1-4F18-B487-EF983CCB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D152-BF53-4E1C-A181-F3079B04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7288-03A7-4DCC-982F-CB0D9442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1FC8-0F68-4730-8B72-12EB543F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EF24-1062-4D91-94A3-4580C13DC9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844E-E195-4962-95D4-CE2FC5159F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1.png"/><Relationship Id="rId4" Type="http://schemas.openxmlformats.org/officeDocument/2006/relationships/slide" Target="slide1.xml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image" Target="../media/image1.png"/><Relationship Id="rId5" Type="http://schemas.openxmlformats.org/officeDocument/2006/relationships/slide" Target="slide2.xm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52480" y="765000"/>
            <a:ext cx="6769080" cy="7642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imes New Roman"/>
                <a:ea typeface="ＤＦＧ極太楷書体"/>
              </a:rPr>
              <a:t>「チャットで、悪口？？？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153280" y="64771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7236000" y="152280"/>
            <a:ext cx="175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308720" y="5734080"/>
            <a:ext cx="1362240" cy="439560"/>
            <a:chOff x="7308720" y="5734080"/>
            <a:chExt cx="1362240" cy="439560"/>
          </a:xfrm>
        </p:grpSpPr>
        <p:sp>
          <p:nvSpPr>
            <p:cNvPr id="103" name=""/>
            <p:cNvSpPr/>
            <p:nvPr/>
          </p:nvSpPr>
          <p:spPr>
            <a:xfrm>
              <a:off x="7742160" y="573408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次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7308720" y="5734080"/>
              <a:ext cx="439920" cy="43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 txBox="1"/>
          <p:nvPr/>
        </p:nvSpPr>
        <p:spPr>
          <a:xfrm>
            <a:off x="5651640" y="4221000"/>
            <a:ext cx="831600" cy="352440"/>
          </a:xfrm>
          <a:prstGeom prst="rect">
            <a:avLst/>
          </a:prstGeom>
        </p:spPr>
        <p:txBody>
          <a:bodyPr wrap="none" lIns="74160" rIns="74160" tIns="8640" bIns="8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ＭＳ Ｐゴシック"/>
              </a:rPr>
              <a:t>Ｙ子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ＭＳ Ｐゴシック"/>
              <a:ea typeface="ＭＳ Ｐゴシック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>
            <a:lum bright="16000"/>
          </a:blip>
          <a:stretch/>
        </p:blipFill>
        <p:spPr>
          <a:xfrm>
            <a:off x="851040" y="1978200"/>
            <a:ext cx="4898880" cy="3914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508720" y="1862280"/>
            <a:ext cx="2795400" cy="2592360"/>
          </a:xfrm>
          <a:prstGeom prst="wedgeRoundRectCallout">
            <a:avLst>
              <a:gd name="adj1" fmla="val -53861"/>
              <a:gd name="adj2" fmla="val 7461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あるオンラインゲームのホームページの中に設置されている「チャット」のコーナーで、知り合いの友だちに、言いたいことがあるので、書き込んで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054840" y="5165640"/>
            <a:ext cx="803160" cy="403200"/>
          </a:xfrm>
          <a:prstGeom prst="rect">
            <a:avLst/>
          </a:prstGeom>
        </p:spPr>
        <p:txBody>
          <a:bodyPr wrap="none" lIns="74160" rIns="74160" tIns="8640" bIns="8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ＭＳ Ｐゴシック"/>
              </a:rPr>
              <a:t>Ｙ子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ＭＳ Ｐゴシック"/>
              <a:ea typeface="ＭＳ Ｐゴシック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7308720" y="5734080"/>
            <a:ext cx="1362240" cy="439560"/>
            <a:chOff x="7308720" y="5734080"/>
            <a:chExt cx="1362240" cy="439560"/>
          </a:xfrm>
        </p:grpSpPr>
        <p:sp>
          <p:nvSpPr>
            <p:cNvPr id="110" name="">
              <a:hlinkClick r:id="rId1" action="ppaction://hlinksldjump"/>
            </p:cNvPr>
            <p:cNvSpPr/>
            <p:nvPr/>
          </p:nvSpPr>
          <p:spPr>
            <a:xfrm>
              <a:off x="7742160" y="573408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次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308720" y="5734080"/>
              <a:ext cx="439920" cy="4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900000" y="5805360"/>
            <a:ext cx="1362240" cy="439920"/>
            <a:chOff x="900000" y="5805360"/>
            <a:chExt cx="1362240" cy="439920"/>
          </a:xfrm>
        </p:grpSpPr>
        <p:sp>
          <p:nvSpPr>
            <p:cNvPr id="113" name=""/>
            <p:cNvSpPr/>
            <p:nvPr/>
          </p:nvSpPr>
          <p:spPr>
            <a:xfrm>
              <a:off x="1333440" y="580536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前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00000" y="5805360"/>
              <a:ext cx="439920" cy="4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laptop"/>
          <p:cNvSpPr/>
          <p:nvPr/>
        </p:nvSpPr>
        <p:spPr>
          <a:xfrm>
            <a:off x="395280" y="404640"/>
            <a:ext cx="7883640" cy="51850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79640" y="907920"/>
            <a:ext cx="4753080" cy="249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Ｙ子　 ＞　あんた、今日、学校でなぜあんな言い方し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　　　　　　　自分は悪くない…みたいなこと言ったのよ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zh-CN" sz="1400" spc="-1" strike="noStrike">
                <a:solidFill>
                  <a:srgbClr val="ff0000"/>
                </a:solidFill>
                <a:latin typeface="Tahoma"/>
              </a:rPr>
              <a:t>Ｂ子　 ＞　だって私は関係ないもん！　あんた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Tahoma"/>
              </a:rPr>
              <a:t>　　　　　　　みんなにあんなふうにさせたんでしょ！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Ｙ子　 ＞　あんたって最低ね！　自分が一番悪いのに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2852640"/>
            <a:ext cx="3816360" cy="2160720"/>
          </a:xfrm>
          <a:prstGeom prst="wedgeRoundRectCallout">
            <a:avLst>
              <a:gd name="adj1" fmla="val -54490"/>
              <a:gd name="adj2" fmla="val -7329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学校であったことを、Ｙ子とＢ子は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チャット上で言い争って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ふだん、Ｙ子とＢ子は、学校で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ほとんど口をきかない二人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でもチャット上では、たまに会話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して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6738840" y="406440"/>
            <a:ext cx="1693800" cy="2235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76040" y="2260440"/>
            <a:ext cx="2694240" cy="2044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32640" y="1366920"/>
            <a:ext cx="7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971840" y="249120"/>
            <a:ext cx="79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B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901800" y="1917720"/>
            <a:ext cx="4894200" cy="36702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7308720" y="5734080"/>
            <a:ext cx="1362240" cy="439560"/>
            <a:chOff x="7308720" y="5734080"/>
            <a:chExt cx="1362240" cy="439560"/>
          </a:xfrm>
        </p:grpSpPr>
        <p:sp>
          <p:nvSpPr>
            <p:cNvPr id="124" name="">
              <a:hlinkClick r:id="rId2" action="ppaction://hlinksldjump"/>
            </p:cNvPr>
            <p:cNvSpPr/>
            <p:nvPr/>
          </p:nvSpPr>
          <p:spPr>
            <a:xfrm>
              <a:off x="7742160" y="573408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次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7308720" y="5734080"/>
              <a:ext cx="439920" cy="4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"/>
          <p:cNvGrpSpPr/>
          <p:nvPr/>
        </p:nvGrpSpPr>
        <p:grpSpPr>
          <a:xfrm>
            <a:off x="900000" y="5805360"/>
            <a:ext cx="1362240" cy="439920"/>
            <a:chOff x="900000" y="5805360"/>
            <a:chExt cx="1362240" cy="439920"/>
          </a:xfrm>
        </p:grpSpPr>
        <p:sp>
          <p:nvSpPr>
            <p:cNvPr id="127" name=""/>
            <p:cNvSpPr/>
            <p:nvPr/>
          </p:nvSpPr>
          <p:spPr>
            <a:xfrm>
              <a:off x="1333440" y="580536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前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00000" y="5805360"/>
              <a:ext cx="439920" cy="4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"/>
          <p:cNvSpPr txBox="1"/>
          <p:nvPr/>
        </p:nvSpPr>
        <p:spPr>
          <a:xfrm>
            <a:off x="6016680" y="4543560"/>
            <a:ext cx="803160" cy="428400"/>
          </a:xfrm>
          <a:prstGeom prst="rect">
            <a:avLst/>
          </a:prstGeom>
        </p:spPr>
        <p:txBody>
          <a:bodyPr wrap="none" lIns="74160" rIns="74160" tIns="8640" bIns="8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ＭＳ Ｐゴシック"/>
              </a:rPr>
              <a:t>Ｂ子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130" name=""/>
          <p:cNvSpPr/>
          <p:nvPr/>
        </p:nvSpPr>
        <p:spPr>
          <a:xfrm>
            <a:off x="5219640" y="692280"/>
            <a:ext cx="3240000" cy="2592360"/>
          </a:xfrm>
          <a:prstGeom prst="wedgeRoundRectCallout">
            <a:avLst>
              <a:gd name="adj1" fmla="val -46472"/>
              <a:gd name="adj2" fmla="val 88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相手が目の前にいないと、だんだん言葉が乱暴になったり、相手を思いやる気持ちが無くなったりして、好き勝手に言ってしま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危険があり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16000" y="333360"/>
            <a:ext cx="3745080" cy="1800360"/>
          </a:xfrm>
          <a:prstGeom prst="cloudCallout">
            <a:avLst>
              <a:gd name="adj1" fmla="val -23421"/>
              <a:gd name="adj2" fmla="val 8694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47640" y="836640"/>
            <a:ext cx="2489400" cy="965160"/>
          </a:xfrm>
          <a:prstGeom prst="rect">
            <a:avLst/>
          </a:prstGeom>
        </p:spPr>
        <p:txBody>
          <a:bodyPr wrap="none" lIns="74160" rIns="74160" tIns="8640" bIns="8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ＭＳ Ｐゴシック"/>
              </a:rPr>
              <a:t>一番悪いのはＹ子なのに・・・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ＭＳ Ｐゴシック"/>
              <a:ea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ＭＳ Ｐゴシック"/>
              </a:rPr>
              <a:t>よし、ついでにＹ子の悪いとこ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ＭＳ Ｐゴシック"/>
              <a:ea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ＭＳ Ｐゴシック"/>
              </a:rPr>
              <a:t>全部言ってやれ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ＭＳ Ｐゴシック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7308720" y="5734080"/>
            <a:ext cx="1362240" cy="439560"/>
            <a:chOff x="7308720" y="5734080"/>
            <a:chExt cx="1362240" cy="439560"/>
          </a:xfrm>
        </p:grpSpPr>
        <p:sp>
          <p:nvSpPr>
            <p:cNvPr id="134" name=""/>
            <p:cNvSpPr/>
            <p:nvPr/>
          </p:nvSpPr>
          <p:spPr>
            <a:xfrm>
              <a:off x="7742160" y="573408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次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308720" y="5734080"/>
              <a:ext cx="439920" cy="4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"/>
          <p:cNvGrpSpPr/>
          <p:nvPr/>
        </p:nvGrpSpPr>
        <p:grpSpPr>
          <a:xfrm>
            <a:off x="900000" y="5805360"/>
            <a:ext cx="1362240" cy="439920"/>
            <a:chOff x="900000" y="5805360"/>
            <a:chExt cx="1362240" cy="439920"/>
          </a:xfrm>
        </p:grpSpPr>
        <p:sp>
          <p:nvSpPr>
            <p:cNvPr id="137" name=""/>
            <p:cNvSpPr/>
            <p:nvPr/>
          </p:nvSpPr>
          <p:spPr>
            <a:xfrm>
              <a:off x="1333440" y="580536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前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00000" y="5805360"/>
              <a:ext cx="439920" cy="4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laptop"/>
          <p:cNvSpPr/>
          <p:nvPr/>
        </p:nvSpPr>
        <p:spPr>
          <a:xfrm>
            <a:off x="250920" y="476280"/>
            <a:ext cx="7883280" cy="5184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35280" y="1052640"/>
            <a:ext cx="475272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Tahoma"/>
              </a:rPr>
              <a:t>Ｂ子　＞ あんた、そうやっていつも、リーダーづらして先生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Tahoma"/>
              </a:rPr>
              <a:t>　　　　　　前ではいい子ぶって、ウラでは、自分の言うこと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Tahoma"/>
              </a:rPr>
              <a:t>　　　　　　きかない子の悪口を言ったり広めたりして、その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Tahoma"/>
              </a:rPr>
              <a:t>　　　　　　の立場を悪くしていく・・・、最低の人間ね！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Tahoma"/>
              </a:rPr>
              <a:t>　　　　　　みんな、あんたのこと、そう思ってるのよ！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Ｙ子　＞　あんただって、頭のいい子ぶって、テストの点を見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　　　　　　びらかしたり、内容の無い自主勉をいっぱい提出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　　　　　　たりして・・・。 みんな、「ぶりっ子」って言ってるよ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67160" y="3182760"/>
            <a:ext cx="3022920" cy="2233800"/>
          </a:xfrm>
          <a:prstGeom prst="wedgeRoundRectCallout">
            <a:avLst>
              <a:gd name="adj1" fmla="val -76944"/>
              <a:gd name="adj2" fmla="val -5277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だんだん言い争い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エスカレートしていっ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ますね。言葉もストレー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過ぎます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こんなチャット会話は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してもいいのでしょう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6929280" y="774720"/>
            <a:ext cx="1694160" cy="22352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-166680" y="2514600"/>
            <a:ext cx="2693880" cy="2044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971840" y="249120"/>
            <a:ext cx="79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B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8200" y="1709640"/>
            <a:ext cx="7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7308720" y="5734080"/>
            <a:ext cx="1362240" cy="439560"/>
            <a:chOff x="7308720" y="5734080"/>
            <a:chExt cx="1362240" cy="439560"/>
          </a:xfrm>
        </p:grpSpPr>
        <p:sp>
          <p:nvSpPr>
            <p:cNvPr id="147" name=""/>
            <p:cNvSpPr/>
            <p:nvPr/>
          </p:nvSpPr>
          <p:spPr>
            <a:xfrm>
              <a:off x="7742160" y="573408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次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7308720" y="5734080"/>
              <a:ext cx="439920" cy="4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"/>
          <p:cNvGrpSpPr/>
          <p:nvPr/>
        </p:nvGrpSpPr>
        <p:grpSpPr>
          <a:xfrm>
            <a:off x="900000" y="5805360"/>
            <a:ext cx="1362240" cy="439920"/>
            <a:chOff x="900000" y="5805360"/>
            <a:chExt cx="1362240" cy="439920"/>
          </a:xfrm>
        </p:grpSpPr>
        <p:sp>
          <p:nvSpPr>
            <p:cNvPr id="150" name=""/>
            <p:cNvSpPr/>
            <p:nvPr/>
          </p:nvSpPr>
          <p:spPr>
            <a:xfrm>
              <a:off x="1333440" y="580536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前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00000" y="5805360"/>
              <a:ext cx="439920" cy="4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"/>
          <p:cNvSpPr/>
          <p:nvPr/>
        </p:nvSpPr>
        <p:spPr>
          <a:xfrm>
            <a:off x="3924360" y="4221000"/>
            <a:ext cx="3081240" cy="1944720"/>
          </a:xfrm>
          <a:prstGeom prst="cloudCallout">
            <a:avLst>
              <a:gd name="adj1" fmla="val 68907"/>
              <a:gd name="adj2" fmla="val -4649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絶対、ゆるさないからねっ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あんな子とは、一生口をきかないからねっ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もっともっとＹ子の悪口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「チャット」で言いふらしてやるぞっ！　そして学校では・・・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4221000"/>
            <a:ext cx="3240360" cy="1552680"/>
          </a:xfrm>
          <a:prstGeom prst="cloudCallout">
            <a:avLst>
              <a:gd name="adj1" fmla="val 513"/>
              <a:gd name="adj2" fmla="val -90694"/>
            </a:avLst>
          </a:pr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絶対、ゆるさないからねっ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みんなで、Ｂ子を無視してやるからなっ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そして、さらに・・・・・・・・・・！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348000" y="3357720"/>
            <a:ext cx="831960" cy="352440"/>
          </a:xfrm>
          <a:prstGeom prst="rect">
            <a:avLst/>
          </a:prstGeom>
        </p:spPr>
        <p:txBody>
          <a:bodyPr wrap="none" lIns="74160" rIns="74160" tIns="8640" bIns="8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ＭＳ Ｐゴシック"/>
              </a:rPr>
              <a:t>Ｙ子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155" name=""/>
          <p:cNvSpPr/>
          <p:nvPr/>
        </p:nvSpPr>
        <p:spPr>
          <a:xfrm>
            <a:off x="3513240" y="620640"/>
            <a:ext cx="3198600" cy="1752840"/>
          </a:xfrm>
          <a:prstGeom prst="wedgeRoundRectCallout">
            <a:avLst>
              <a:gd name="adj1" fmla="val 819"/>
              <a:gd name="adj2" fmla="val 78078"/>
              <a:gd name="adj3" fmla="val 16667"/>
            </a:avLst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entury"/>
                <a:ea typeface="ＭＳ 明朝"/>
              </a:rPr>
              <a:t>とうとう大変なことになってしまいまし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entury"/>
                <a:ea typeface="ＭＳ 明朝"/>
              </a:rPr>
              <a:t>なぜ、こんなことになったのでしょう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entury"/>
                <a:ea typeface="ＭＳ 明朝"/>
              </a:rPr>
              <a:t>何がいけなかったのでしょう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entury"/>
                <a:ea typeface="ＭＳ 明朝"/>
              </a:rPr>
              <a:t>誰がいけなかったのでしょう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316080" y="1371600"/>
            <a:ext cx="2693880" cy="2044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6585120" y="1130400"/>
            <a:ext cx="2165040" cy="2857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533560" y="3297240"/>
            <a:ext cx="79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B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1547640" y="5805360"/>
            <a:ext cx="1362240" cy="439920"/>
            <a:chOff x="1547640" y="5805360"/>
            <a:chExt cx="1362240" cy="439920"/>
          </a:xfrm>
        </p:grpSpPr>
        <p:sp>
          <p:nvSpPr>
            <p:cNvPr id="160" name="">
              <a:hlinkClick r:id="rId1" action="ppaction://hlinksldjump"/>
            </p:cNvPr>
            <p:cNvSpPr/>
            <p:nvPr/>
          </p:nvSpPr>
          <p:spPr>
            <a:xfrm>
              <a:off x="1981080" y="580536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前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1547640" y="5805360"/>
              <a:ext cx="439920" cy="4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"/>
          <p:cNvSpPr/>
          <p:nvPr/>
        </p:nvSpPr>
        <p:spPr>
          <a:xfrm>
            <a:off x="539640" y="981000"/>
            <a:ext cx="7920000" cy="5040360"/>
          </a:xfrm>
          <a:prstGeom prst="horizontalScroll">
            <a:avLst>
              <a:gd name="adj" fmla="val 10129"/>
            </a:avLst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404640"/>
            <a:ext cx="6408720" cy="7923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解説＞チャットでの悪口は絶対ダ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12920" y="1844640"/>
            <a:ext cx="68594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●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チャットは、仲良し同士、または知り合った人同士が、さらに仲良くなるた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　 に、発言を繰り返すものです。 相手の悪口は絶対書いてはいけません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●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インターネットや携帯メール、公共の電波に、他人の悪口（難しい言葉で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「誹謗・中傷」といいます） をのせることは、決してしてはいけないこと（ル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ル）ですし、人間としても最低の行為、いや人間以下の行為です。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●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こんなチャットから、大変な事件が起こったことを知っていますか？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TW" sz="1600" spc="-1" strike="noStrike">
                <a:solidFill>
                  <a:srgbClr val="000000"/>
                </a:solidFill>
                <a:latin typeface="Tahoma"/>
              </a:rPr>
              <a:t>（例：長崎小６女児事件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　チャットでの言い争いから、人の命まで奪ってしまった、その人の一生が台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しになってしまった、家族や周りの人々を苦しめたり悲しませたりすること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なってしまった・・・、ということもあったのです。ですから、チャットでの悪口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言い争いは絶対してはいけないことなので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4:25:06Z</dcterms:created>
  <dc:creator>shimizu</dc:creator>
  <dc:description/>
  <dc:language>en-US</dc:language>
  <cp:lastModifiedBy>shimizu</cp:lastModifiedBy>
  <dcterms:modified xsi:type="dcterms:W3CDTF">2007-04-10T08:41:39Z</dcterms:modified>
  <cp:revision>21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