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FD8-BAA0-4B14-B7AA-2BE6FD5B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B77-E240-4519-8606-677E5B9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95A-A3AE-410C-9004-6E83F6F6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8F8-54A4-40E0-BA08-6C77FCC4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64F-2544-47C4-A4F5-FB2E8270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12B2-1A96-4A14-8D09-36D2A38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C276-B789-413F-A2D8-5A5667A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FB2-25B2-4008-9F2B-7660154B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38BE-242C-4AA9-94A2-AEE72A5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CC0-72F0-4C5E-8734-044FC08D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C76-53C4-4AB4-9330-FDA8AD1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6B6-476F-43A1-87DD-5164CF0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D02-91DC-4F73-82D6-D90757D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EAD-B655-4152-AB28-8E793DB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A67-7132-44FE-916B-75689D9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CE5-214D-4DA3-998A-E493AA3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14C-7C26-46B6-9F8D-E2B3C455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1D1-B4F5-487D-8B3E-0A73597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377-9BEC-498A-96BC-915726B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534-0EE7-4D29-B7EC-9A655601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DCB-150E-4AA1-847C-9CC2088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4D6-F695-40A6-BCB1-255D8F8E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CDD-4BDE-449A-BDD5-28BD696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0C3-AC4A-431A-A372-88A9B6C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E729-C480-4211-98D3-3EDF44D8CD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222A-3D56-43A4-9EC0-8958979EE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549360"/>
            <a:ext cx="7274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「チャットの相手から お誘い・・・</a:t>
            </a:r>
            <a:r>
              <a:rPr b="0" i="1" lang="zh-CN" sz="32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！？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236000" y="15228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205000"/>
            <a:ext cx="3240000" cy="2592360"/>
          </a:xfrm>
          <a:prstGeom prst="wedgeRoundRectCallout">
            <a:avLst>
              <a:gd name="adj1" fmla="val -54898"/>
              <a:gd name="adj2" fmla="val 72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子さんは、出会いサイトのチャットで見知らぬ男性と親しくなり、定期的に会話をするよう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08720" y="5661000"/>
            <a:ext cx="831600" cy="35244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B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539640" y="2060640"/>
            <a:ext cx="4608720" cy="36766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06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09" name="">
              <a:hlinkClick r:id="rId1" action="ppaction://hlinksldjump"/>
            </p:cNvPr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laptop"/>
          <p:cNvSpPr/>
          <p:nvPr/>
        </p:nvSpPr>
        <p:spPr>
          <a:xfrm>
            <a:off x="179280" y="404640"/>
            <a:ext cx="7883640" cy="5185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49520" y="595440"/>
            <a:ext cx="493056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子　 ＞　</a:t>
            </a: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男さん元気？今日は学校で無視されてとて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いやな気がした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男　 ＞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それは大変だったね。ぼくもそんな経験あるよ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　　　　　　その時は、こんな風にしたらうまくいった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　　　　　　聞きた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子　 ＞</a:t>
            </a: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教えて教え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男　 ＞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それはね・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2280" y="3643200"/>
            <a:ext cx="2735280" cy="1801800"/>
          </a:xfrm>
          <a:prstGeom prst="wedgeRoundRectCallout">
            <a:avLst>
              <a:gd name="adj1" fmla="val 51333"/>
              <a:gd name="adj2" fmla="val -74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学校であったことを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子は、いつもの相手とチャット上で相談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2908440"/>
            <a:ext cx="2197080" cy="234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834160" y="1587600"/>
            <a:ext cx="2916000" cy="21715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17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20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23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laptop"/>
          <p:cNvSpPr/>
          <p:nvPr/>
        </p:nvSpPr>
        <p:spPr>
          <a:xfrm>
            <a:off x="324000" y="404640"/>
            <a:ext cx="7883280" cy="5185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81280" y="663480"/>
            <a:ext cx="496872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男　 ＞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実は、友達から歌手の○○のサイン入り生写真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　　　　　らったんだ。見せてあげよう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子　　＞</a:t>
            </a: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わーみたいみたい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Ａ男　　＞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本ものだよ。欲しかったらあげる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　　　　　　ところでどこに住んでいるの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子　 ＞</a:t>
            </a:r>
            <a:r>
              <a:rPr b="0" lang="ja-JP" sz="1400" spc="-1" strike="noStrike">
                <a:solidFill>
                  <a:srgbClr val="ff0000"/>
                </a:solidFill>
                <a:latin typeface="Tahoma"/>
              </a:rPr>
              <a:t>わたしは○○町にすんで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男　 ＞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なーんだ。ぼくもすぐ近くなので、明日の夜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11</a:t>
            </a: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時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Tahoma"/>
              </a:rPr>
              <a:t>　　　　　公園で会わないか？・・・・・・・サイン持って行く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1197000"/>
            <a:ext cx="2735280" cy="1079640"/>
          </a:xfrm>
          <a:prstGeom prst="wedgeRoundRectCallout">
            <a:avLst>
              <a:gd name="adj1" fmla="val -42629"/>
              <a:gd name="adj2" fmla="val 4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あるときこんな会話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59400" y="3182760"/>
            <a:ext cx="2519640" cy="1944720"/>
          </a:xfrm>
          <a:prstGeom prst="cloudCallout">
            <a:avLst>
              <a:gd name="adj1" fmla="val -61407"/>
              <a:gd name="adj2" fmla="val 5106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どうして夜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時なんだろ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2959200"/>
            <a:ext cx="1914480" cy="212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>
            <a:alphaModFix amt="65000"/>
          </a:blip>
          <a:stretch/>
        </p:blipFill>
        <p:spPr>
          <a:xfrm>
            <a:off x="0" y="2959200"/>
            <a:ext cx="1914480" cy="21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592440" y="3994200"/>
            <a:ext cx="226872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409920" y="3835440"/>
            <a:ext cx="25081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34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3610080" y="760320"/>
            <a:ext cx="3009960" cy="1828800"/>
          </a:xfrm>
          <a:prstGeom prst="cloudCallout">
            <a:avLst>
              <a:gd name="adj1" fmla="val 46203"/>
              <a:gd name="adj2" fmla="val 58856"/>
            </a:avLst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昨日、こんなさそいがあったんだけどどうしよう・・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06760" y="4206960"/>
            <a:ext cx="3311280" cy="1512720"/>
          </a:xfrm>
          <a:prstGeom prst="cloudCallout">
            <a:avLst>
              <a:gd name="adj1" fmla="val -47412"/>
              <a:gd name="adj2" fmla="val -68675"/>
            </a:avLst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夜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時なんて変だよ。会わない方がいいんじゃない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96880" y="1674720"/>
            <a:ext cx="831960" cy="41616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329600" y="4762440"/>
            <a:ext cx="803160" cy="39060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Ｂ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40" name=""/>
          <p:cNvSpPr/>
          <p:nvPr/>
        </p:nvSpPr>
        <p:spPr>
          <a:xfrm>
            <a:off x="1060920" y="61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翌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86280" y="2863800"/>
            <a:ext cx="2065320" cy="17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20560" y="3149640"/>
            <a:ext cx="2006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2006640" cy="179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86280" y="2863800"/>
            <a:ext cx="2065320" cy="17398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46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49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3708360" y="907920"/>
            <a:ext cx="3009960" cy="1828800"/>
          </a:xfrm>
          <a:prstGeom prst="cloudCallout">
            <a:avLst>
              <a:gd name="adj1" fmla="val 65296"/>
              <a:gd name="adj2" fmla="val 48699"/>
            </a:avLst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昨日、こんな誘いがあったんだけどどうしよう・・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3933720"/>
            <a:ext cx="3311280" cy="1513080"/>
          </a:xfrm>
          <a:prstGeom prst="cloudCallout">
            <a:avLst>
              <a:gd name="adj1" fmla="val -17976"/>
              <a:gd name="adj2" fmla="val -96486"/>
            </a:avLst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夜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時なんて変だよ。会わない方がいいんじゃない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268280"/>
            <a:ext cx="831960" cy="35244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C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720" y="4221000"/>
            <a:ext cx="803160" cy="31464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Ｂ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55" name=""/>
          <p:cNvSpPr/>
          <p:nvPr/>
        </p:nvSpPr>
        <p:spPr>
          <a:xfrm>
            <a:off x="756360" y="8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翌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637000"/>
            <a:ext cx="7488360" cy="3168360"/>
          </a:xfrm>
          <a:prstGeom prst="horizontalScroll">
            <a:avLst>
              <a:gd name="adj" fmla="val 12500"/>
            </a:avLst>
          </a:prstGeom>
          <a:solidFill>
            <a:srgbClr val="0000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子さんが、会わないほうがよい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子さん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アドバイスしたのは、なぜでしょう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628640" y="6227640"/>
            <a:ext cx="1362240" cy="439920"/>
            <a:chOff x="1628640" y="6227640"/>
            <a:chExt cx="1362240" cy="439920"/>
          </a:xfrm>
        </p:grpSpPr>
        <p:sp>
          <p:nvSpPr>
            <p:cNvPr id="158" name=""/>
            <p:cNvSpPr/>
            <p:nvPr/>
          </p:nvSpPr>
          <p:spPr>
            <a:xfrm>
              <a:off x="2062080" y="622764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1628640" y="622764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539640" y="968400"/>
            <a:ext cx="7920000" cy="5661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04640"/>
            <a:ext cx="662472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&lt;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解説＞文字だけのコミュニケーションで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相手の人の本当の姿は分かりませ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172548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実際に会うことの危険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実際に会ってみると、性別や年なども全然違うこともあり、小学生のふりをしていても大人だと言うこともあります。絶対直接会ってはいけません。どうしても必要なときには家の方に相談しましょう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手は自分のよき理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チャットやメール交換を続けていると、相手が自分のことをよく分かってくれるように思いがちです。でも文字だけのコミュニケーションで知ることは、その人のほんの一部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4:25:06Z</dcterms:created>
  <dc:creator>shimizu</dc:creator>
  <dc:description/>
  <dc:language>en-US</dc:language>
  <cp:lastModifiedBy>shimizu</cp:lastModifiedBy>
  <dcterms:modified xsi:type="dcterms:W3CDTF">2007-04-10T08:40:42Z</dcterms:modified>
  <cp:revision>2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