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1AB-DD7A-4940-8C2D-91927463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4EA-77F4-4A92-B19F-2C83DDFF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A892-0C39-44E0-A634-4588B815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75E-554A-426E-A9CB-3435948D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3747-6F9C-4B9D-AC4E-21B6C83BD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251E-2064-4E0C-9E90-EDC4C54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A3BC-9BE5-4EAA-809A-FE4C3642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4AF3-135A-4D3E-A97C-433D914B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F521-5ADC-4932-BBF0-C0D26FCA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C706-85E7-4BED-9C48-6EC38E35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DD157-AF5C-4471-94B2-95F62EF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740-AD3D-438E-A484-8EBCD8E5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3492-568A-4936-A9DB-B864FCB0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55EB-3CEC-4695-9244-EC538BBC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96D5-093A-4153-96C5-046B357D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83D2-0371-49B3-AA0A-5C749AA9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615F-2F99-4D0B-9543-C728895B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FB3-F886-49E2-8598-BBCB463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C1E2-BD88-46AE-B7A2-FFE35C44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7F7C-5639-49F7-9B73-B6A97BA8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796-4351-417A-9074-ED674AE4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806-DFEF-437A-85D9-8BEA6A73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DDA-CA64-45FC-91B7-98E10136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563-A56D-45E8-ABF8-55E1A08D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15DD-5986-4D55-B4E2-4F55D0B015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1E56-018E-4AB1-961E-DE67D32F6C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00160" y="717480"/>
            <a:ext cx="8474040" cy="764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みかちゃん-P"/>
              </a:rPr>
              <a:t>「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みかちゃん-P"/>
              </a:rPr>
              <a:t>メール文の書き方には気をつけよう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みかちゃん-P"/>
              </a:rPr>
              <a:t>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53280" y="64771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7236000" y="152280"/>
            <a:ext cx="175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03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 txBox="1"/>
          <p:nvPr/>
        </p:nvSpPr>
        <p:spPr>
          <a:xfrm>
            <a:off x="6443640" y="4941720"/>
            <a:ext cx="803160" cy="432000"/>
          </a:xfrm>
          <a:prstGeom prst="rect">
            <a:avLst/>
          </a:prstGeom>
        </p:spPr>
        <p:txBody>
          <a:bodyPr wrap="none" lIns="74160" rIns="74160" tIns="8640" bIns="8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A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ＭＳ Ｐゴシック"/>
              </a:rPr>
              <a:t>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ＭＳ Ｐゴシック"/>
              <a:ea typeface="ＭＳ Ｐゴシック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>
            <a:lum bright="16000"/>
          </a:blip>
          <a:stretch/>
        </p:blipFill>
        <p:spPr>
          <a:xfrm>
            <a:off x="755640" y="1916280"/>
            <a:ext cx="5184720" cy="3887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96000" y="2060640"/>
            <a:ext cx="2663640" cy="2016000"/>
          </a:xfrm>
          <a:prstGeom prst="wedgeRoundRectCallout">
            <a:avLst>
              <a:gd name="adj1" fmla="val -55958"/>
              <a:gd name="adj2" fmla="val 1070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複数の男女の友達にお願い事のメールを　送信しようとしてメール文を書いていま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7308720" y="5734080"/>
            <a:ext cx="1362240" cy="439560"/>
            <a:chOff x="7308720" y="5734080"/>
            <a:chExt cx="1362240" cy="439560"/>
          </a:xfrm>
        </p:grpSpPr>
        <p:sp>
          <p:nvSpPr>
            <p:cNvPr id="109" name=""/>
            <p:cNvSpPr/>
            <p:nvPr/>
          </p:nvSpPr>
          <p:spPr>
            <a:xfrm>
              <a:off x="7742160" y="5734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08720" y="5734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900000" y="5805360"/>
            <a:ext cx="1362240" cy="439920"/>
            <a:chOff x="900000" y="5805360"/>
            <a:chExt cx="1362240" cy="439920"/>
          </a:xfrm>
        </p:grpSpPr>
        <p:sp>
          <p:nvSpPr>
            <p:cNvPr id="112" name=""/>
            <p:cNvSpPr/>
            <p:nvPr/>
          </p:nvSpPr>
          <p:spPr>
            <a:xfrm>
              <a:off x="1333440" y="580536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00000" y="5805360"/>
              <a:ext cx="439920" cy="4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laptop"/>
          <p:cNvSpPr/>
          <p:nvPr/>
        </p:nvSpPr>
        <p:spPr>
          <a:xfrm>
            <a:off x="324000" y="404640"/>
            <a:ext cx="7883280" cy="51850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685800"/>
            <a:ext cx="4929120" cy="164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　ちーっす！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今度さあ、いつだっけ？ 来週だっけ？　あの社会科の「町の偉人調べ」の提出しめきり！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うちさぁ、ぜ～んぜん分かんな～い。 どんなふうに調べたらいいか分かんな～い！ってことで・・・、いい情報あったら教えろよ～っ、このこの！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ついでにさぁ、ＰＣでまとめる人いたらさぁ、それ送ってちょ～。 バレないように手直ししてから 提出させてもらうからっ！　じゃ、たのんだよっ！！！　　Ａ美より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94320" y="3344760"/>
            <a:ext cx="2735280" cy="1443240"/>
          </a:xfrm>
          <a:prstGeom prst="wedgeRoundRectCallout">
            <a:avLst>
              <a:gd name="adj1" fmla="val -94513"/>
              <a:gd name="adj2" fmla="val -540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Ａ美が打ち込ん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ール文は、こ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ようなもので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＊画面をクリ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7093080" y="5950080"/>
            <a:ext cx="1361520" cy="439560"/>
            <a:chOff x="7093080" y="5950080"/>
            <a:chExt cx="1361520" cy="439560"/>
          </a:xfrm>
        </p:grpSpPr>
        <p:sp>
          <p:nvSpPr>
            <p:cNvPr id="118" name=""/>
            <p:cNvSpPr/>
            <p:nvPr/>
          </p:nvSpPr>
          <p:spPr>
            <a:xfrm>
              <a:off x="7526160" y="59500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次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7093080" y="595008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1116000" y="5950080"/>
            <a:ext cx="1362240" cy="439560"/>
            <a:chOff x="1116000" y="5950080"/>
            <a:chExt cx="1362240" cy="439560"/>
          </a:xfrm>
        </p:grpSpPr>
        <p:sp>
          <p:nvSpPr>
            <p:cNvPr id="121" name=""/>
            <p:cNvSpPr/>
            <p:nvPr/>
          </p:nvSpPr>
          <p:spPr>
            <a:xfrm>
              <a:off x="1549440" y="595008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1116000" y="5950080"/>
              <a:ext cx="43992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aptop"/>
          <p:cNvSpPr/>
          <p:nvPr/>
        </p:nvSpPr>
        <p:spPr>
          <a:xfrm>
            <a:off x="366840" y="358920"/>
            <a:ext cx="8137440" cy="55432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674720" y="438120"/>
            <a:ext cx="5545080" cy="347184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801800" y="2255760"/>
            <a:ext cx="4608360" cy="1592280"/>
            <a:chOff x="1801800" y="2255760"/>
            <a:chExt cx="4608360" cy="1592280"/>
          </a:xfrm>
        </p:grpSpPr>
        <p:sp>
          <p:nvSpPr>
            <p:cNvPr id="126" name=""/>
            <p:cNvSpPr/>
            <p:nvPr/>
          </p:nvSpPr>
          <p:spPr>
            <a:xfrm>
              <a:off x="1801800" y="225576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子　　　　　　自分でやれ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1800" y="261612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男　　　　　　失礼です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01800" y="3047760"/>
              <a:ext cx="28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太　　　　　　無礼者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01800" y="3479760"/>
              <a:ext cx="46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1" lang="zh-CN" sz="1800" spc="-1" strike="noStrike">
                  <a:solidFill>
                    <a:srgbClr val="000000"/>
                  </a:solidFill>
                  <a:latin typeface="Tahoma"/>
                </a:rPr>
                <a:t>子　　　　　　それが人に物を頼む態度か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016680" y="3409920"/>
            <a:ext cx="2808360" cy="2376360"/>
          </a:xfrm>
          <a:prstGeom prst="cloudCallout">
            <a:avLst>
              <a:gd name="adj1" fmla="val -42708"/>
              <a:gd name="adj2" fmla="val -6569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どうしてみんな怒っているのでしょう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836640"/>
            <a:ext cx="3135240" cy="1442880"/>
          </a:xfrm>
          <a:prstGeom prst="wedgeRoundRectCallout">
            <a:avLst>
              <a:gd name="adj1" fmla="val -68481"/>
              <a:gd name="adj2" fmla="val 1022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何人もの友達からこんなメールが届きまし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692360" y="6237360"/>
            <a:ext cx="1361520" cy="439560"/>
            <a:chOff x="1692360" y="6237360"/>
            <a:chExt cx="1361520" cy="439560"/>
          </a:xfrm>
        </p:grpSpPr>
        <p:sp>
          <p:nvSpPr>
            <p:cNvPr id="133" name=""/>
            <p:cNvSpPr/>
            <p:nvPr/>
          </p:nvSpPr>
          <p:spPr>
            <a:xfrm>
              <a:off x="2125440" y="623736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HG創英角ﾎﾟｯﾌﾟ体"/>
                </a:rPr>
                <a:t>前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1692360" y="6237360"/>
              <a:ext cx="439560" cy="439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>
            <a:off x="539640" y="398520"/>
            <a:ext cx="7920000" cy="6265800"/>
          </a:xfrm>
          <a:prstGeom prst="horizontalScroll">
            <a:avLst>
              <a:gd name="adj" fmla="val 101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404640"/>
            <a:ext cx="640872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&lt;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解説＞メールの書き方には気をつけよ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1413000"/>
            <a:ext cx="6859440" cy="45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文の最初に、あいさつの言葉を書きましょう。　簡単な言葉でも良いで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333399"/>
                </a:solidFill>
                <a:latin typeface="Tahoma"/>
              </a:rPr>
              <a:t>ただし、この場合のような、「ちーっす！」は良くないで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言いたいことがきちんと伝わるように、要点をしぼって、わかりやすくまとめる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　ようにし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333399"/>
                </a:solidFill>
                <a:latin typeface="Tahoma"/>
              </a:rPr>
              <a:t>今回の、「今度さあ、いつだっけ？ 来週だっけ？　あの社会科の「町の偉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99"/>
                </a:solidFill>
                <a:latin typeface="Tahoma"/>
              </a:rPr>
              <a:t>　調べ」の提出しめきり！？・・・・・」というのは、いきなりの言い方で、相手に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99"/>
                </a:solidFill>
                <a:latin typeface="Tahoma"/>
              </a:rPr>
              <a:t>　かりやすい書き方ではないですね。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メールを受け取る相手の気持ちを考え、十分に言葉を考えて書くようにし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　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乱暴（らんぼう）な言葉、きたない言葉、相手をののしるような言葉は使わ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　いようにし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お願いする時の言葉遣いを気をつけましょう。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⇒</a:t>
            </a:r>
            <a:r>
              <a:rPr b="1" lang="ja-JP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333399"/>
                </a:solidFill>
                <a:latin typeface="Tahoma"/>
              </a:rPr>
              <a:t>今回の、「今度さあ教えろよ～っ、このこの！・・・」 や 「それ送ってちょ</a:t>
            </a:r>
            <a:r>
              <a:rPr b="1" lang="ja-JP" sz="2000" spc="-1" strike="noStrike">
                <a:solidFill>
                  <a:srgbClr val="333399"/>
                </a:solidFill>
                <a:latin typeface="Tahoma"/>
              </a:rPr>
              <a:t>～。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99"/>
                </a:solidFill>
                <a:latin typeface="Tahoma"/>
              </a:rPr>
              <a:t>　・・・」、「手直し…提出させてもらうから…」という書き方は、相手の気持ちを考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99"/>
                </a:solidFill>
                <a:latin typeface="Tahoma"/>
              </a:rPr>
              <a:t>　えた書き方ではないで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　また、お願い事をするときの言葉遣いではないですね。乱暴すぎます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●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メールを出す前に、念のためもう一度読み返して、言葉の使い方はだいじ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　うぶか、読みやすくなっているかを確かめましょ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14:25:06Z</dcterms:created>
  <dc:creator>shimizu</dc:creator>
  <dc:description/>
  <dc:language>en-US</dc:language>
  <cp:lastModifiedBy>shimizu</cp:lastModifiedBy>
  <dcterms:modified xsi:type="dcterms:W3CDTF">2007-04-10T08:41:53Z</dcterms:modified>
  <cp:revision>20</cp:revision>
  <dc:subject/>
  <dc:title>スライド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