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9F0-C3AC-4E09-926B-FA5C61D2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15C-5CF7-4FAF-BCCB-EC7ED8F8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B3B-4815-4EE5-B2F4-F9F143B6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A74-A632-4241-834F-48CA527D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26E-B6DA-4224-9F2A-6B865CF9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97FA-4B4B-48B1-9CFD-46BF790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CF73-15BA-4B14-9E80-3CC95478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06B5-12E8-4070-BCC9-1DE5A7A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8E3C-A09C-45B7-BCDC-1179AE0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A378-9A4C-4895-99AC-084D475E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E1E-0455-49C0-AD7C-4A93E95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FA9-07CE-4DE8-82A6-2CE7879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93C8-4947-4EB4-A282-6DBDC71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E9D-5D09-4D80-BE4C-808BA6FB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00D4-21D3-4D5F-A020-1B929FA1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B50-9CFB-4204-8E4A-2F689240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A83-E56C-4E0A-BA96-B97CA8A6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3C6-CC29-4C8A-96B7-7996EB57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F47-9262-45F1-BA26-64FB9FF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104-B00D-4CB6-A9E4-C3FA9B7D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7E7-11A5-438F-AE4B-73A87C0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49D-9821-42EF-BE65-6CA6C96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28C-ACDC-4041-BA23-08D8613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BD1-901A-4866-86FF-FCD9A3A8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26C3-057D-4D9B-9229-B8310D93824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4584-D82D-4996-9C4A-2622DF5C573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333399"/>
                </a:solidFill>
                <a:latin typeface="Tahoma"/>
              </a:rPr>
              <a:t>本当かな？</a:t>
            </a:r>
            <a:br>
              <a:rPr sz="4500"/>
            </a:br>
            <a:r>
              <a:rPr b="0" lang="ja-JP" sz="4500" spc="-1" strike="noStrike">
                <a:solidFill>
                  <a:srgbClr val="333399"/>
                </a:solidFill>
                <a:latin typeface="Tahoma"/>
              </a:rPr>
              <a:t>　　　　　情報を確かめよう！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487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正しい情報を選ぶには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6437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発信元は、政府や学校など公の機関のものなら、まず信頼してもよいでしょ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「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.j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」「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.j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」 「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.j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」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どで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615280" cy="4208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638680"/>
            <a:ext cx="6818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突然、次のようなメール送られてきまし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47433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457200" y="1371600"/>
            <a:ext cx="8458200" cy="4038480"/>
            <a:chOff x="457200" y="1371600"/>
            <a:chExt cx="8458200" cy="403848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rcRect l="0" t="9288" r="49219" b="64586"/>
            <a:stretch/>
          </p:blipFill>
          <p:spPr>
            <a:xfrm>
              <a:off x="457200" y="1371600"/>
              <a:ext cx="845820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676520" y="1981080"/>
              <a:ext cx="2743200" cy="3049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□□□□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＠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×××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．△△．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6520" y="2597040"/>
              <a:ext cx="2590560" cy="37800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×××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＠△△．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．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87280" y="2133720"/>
            <a:ext cx="7274160" cy="2303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ふつう学校からメールで連絡はし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急な連らくは、連絡網で伝えるか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　お知らせのお便りが配られ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880" y="2133720"/>
            <a:ext cx="4695840" cy="914400"/>
          </a:xfrm>
          <a:prstGeom prst="wedgeRoundRectCallout">
            <a:avLst>
              <a:gd name="adj1" fmla="val -21842"/>
              <a:gd name="adj2" fmla="val 15503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このメール　本当か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990720"/>
            <a:ext cx="4419720" cy="838080"/>
          </a:xfrm>
          <a:prstGeom prst="wedgeRoundRectCallout">
            <a:avLst>
              <a:gd name="adj1" fmla="val -35740"/>
              <a:gd name="adj2" fmla="val 217425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どこから送られ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343400"/>
            <a:ext cx="4419360" cy="685800"/>
          </a:xfrm>
          <a:prstGeom prst="wedgeRoundRectCallout">
            <a:avLst>
              <a:gd name="adj1" fmla="val -37319"/>
              <a:gd name="adj2" fmla="val -129861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いつ来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952880"/>
            <a:ext cx="4419360" cy="914400"/>
          </a:xfrm>
          <a:prstGeom prst="wedgeRoundRectCallout">
            <a:avLst>
              <a:gd name="adj1" fmla="val 37787"/>
              <a:gd name="adj2" fmla="val -144967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だれが送っ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次のホームページは、 どちらが信らいできるか考えてみよう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127" t="3125" r="48440" b="6251"/>
          <a:stretch/>
        </p:blipFill>
        <p:spPr>
          <a:xfrm>
            <a:off x="533520" y="1905120"/>
            <a:ext cx="3733560" cy="4952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783" t="3125" r="44535" b="6251"/>
          <a:stretch/>
        </p:blipFill>
        <p:spPr>
          <a:xfrm>
            <a:off x="4572000" y="1905120"/>
            <a:ext cx="404640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09680" y="1447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44792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5943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3127" t="3125" r="48440" b="6251"/>
          <a:stretch/>
        </p:blipFill>
        <p:spPr>
          <a:xfrm>
            <a:off x="3962520" y="228600"/>
            <a:ext cx="4883040" cy="6477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523880"/>
            <a:ext cx="3200400" cy="2286000"/>
          </a:xfrm>
          <a:prstGeom prst="wedgeEllipseCallout">
            <a:avLst>
              <a:gd name="adj1" fmla="val 34375"/>
              <a:gd name="adj2" fmla="val 6541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「朝のくだものは金」って聞いたことがあるぞ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886200"/>
            <a:ext cx="3200400" cy="2286000"/>
          </a:xfrm>
          <a:prstGeom prst="wedgeEllipseCallout">
            <a:avLst>
              <a:gd name="adj1" fmla="val 46180"/>
              <a:gd name="adj2" fmla="val 57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「栄養分もたくさんある」って聞いたぞ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5943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783" t="3125" r="44535" b="6251"/>
          <a:stretch/>
        </p:blipFill>
        <p:spPr>
          <a:xfrm>
            <a:off x="4038480" y="380880"/>
            <a:ext cx="478152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1523880"/>
            <a:ext cx="3200400" cy="2286000"/>
          </a:xfrm>
          <a:prstGeom prst="wedgeEllipseCallout">
            <a:avLst>
              <a:gd name="adj1" fmla="val 34375"/>
              <a:gd name="adj2" fmla="val 6541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やっぱり、朝くだものを食べる方がよさそうだ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191120"/>
            <a:ext cx="3505320" cy="1676160"/>
          </a:xfrm>
          <a:prstGeom prst="wedgeEllipseCallout">
            <a:avLst>
              <a:gd name="adj1" fmla="val 37814"/>
              <a:gd name="adj2" fmla="val 7803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情報の発信もとはどこか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404640"/>
            <a:ext cx="1368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82980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情報を確かめよう</a:t>
            </a: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ぺージが正しいようですが・・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だけでは判断できません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誰かに聞いたり、図書室で調べてみたりするとよいです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7242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調べた後で、どちらが信らいできるか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　　　　　グループで話し合いましょ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58860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正しい情報を選ぶには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6437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ターネット上の情報には、まちがった内容のものもあ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いくつかのホームページを見て、内容を見比べることが大切であ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発信元がどこかに注意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本や新聞でも調べ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8:25:21Z</dcterms:created>
  <dc:creator>kitade</dc:creator>
  <dc:description/>
  <dc:language>en-US</dc:language>
  <cp:lastModifiedBy>my18</cp:lastModifiedBy>
  <dcterms:modified xsi:type="dcterms:W3CDTF">2007-02-19T07:51:06Z</dcterms:modified>
  <cp:revision>55</cp:revision>
  <dc:subject/>
  <dc:title>ほんとうかな？</dc:title>
</cp:coreProperties>
</file>