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2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type.wav" ContentType="audio/x-wav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74A-05BD-4EC0-ADDD-8D72548E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FB27-B516-42FC-A694-C6D1A5E3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690-CAF9-423B-8F5B-4ED09436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230-E414-4A32-8890-5E806F76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811-6357-4DE2-93E6-FFDBF0B9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661F-53F8-43A1-8507-61992EDC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DD1-A223-4529-9F25-86C966F9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5EB-00E2-4C30-B65D-F5D6D20F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1A13-B8B7-4FBB-9E06-364A1B81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5DC-F2D4-4AF7-98FA-5842AF24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90D-F72E-4376-A6CF-26516F62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770-523B-4369-8281-70DFCDC7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66920" y="51811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4480-A27A-44C3-9580-3F6CFDD0E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077320" y="647712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7.xml"/><Relationship Id="rId3" Type="http://schemas.openxmlformats.org/officeDocument/2006/relationships/slide" Target="slide13.xml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1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8.xml"/><Relationship Id="rId3" Type="http://schemas.openxmlformats.org/officeDocument/2006/relationships/slide" Target="slide7.xml"/><Relationship Id="rId4" Type="http://schemas.openxmlformats.org/officeDocument/2006/relationships/image" Target="../media/image1.png"/><Relationship Id="rId5" Type="http://schemas.openxmlformats.org/officeDocument/2006/relationships/image" Target="../media/image23.wmf"/><Relationship Id="rId6" Type="http://schemas.openxmlformats.org/officeDocument/2006/relationships/image" Target="../media/image24.jpeg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0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HG創英角ﾎﾟｯﾌﾟ体"/>
              </a:rPr>
              <a:t>スライド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7621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HG創英角ﾎﾟｯﾌﾟ体"/>
              </a:rPr>
              <a:t>「みんなでつかうパソコン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457200"/>
            <a:ext cx="8534160" cy="601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7696080" y="5943600"/>
            <a:ext cx="1087560" cy="439560"/>
            <a:chOff x="7696080" y="5943600"/>
            <a:chExt cx="1087560" cy="439560"/>
          </a:xfrm>
        </p:grpSpPr>
        <p:sp>
          <p:nvSpPr>
            <p:cNvPr id="46" name=""/>
            <p:cNvSpPr/>
            <p:nvPr/>
          </p:nvSpPr>
          <p:spPr>
            <a:xfrm>
              <a:off x="8077320" y="5943600"/>
              <a:ext cx="70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696080" y="5943600"/>
              <a:ext cx="443160" cy="43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1143000" cy="1266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340000" y="2133720"/>
            <a:ext cx="388620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スライド１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066680"/>
            <a:ext cx="8076960" cy="4291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はじめのがめんで，かべがみのように，がめんのうしろぜんたいにあらわされる，色やえ，しゃしんなどのもようで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152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cc"/>
                </a:solidFill>
                <a:latin typeface="Arial"/>
                <a:ea typeface="HG創英角ﾎﾟｯﾌﾟ体"/>
              </a:rPr>
              <a:t>かべが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057400" y="6172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な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800600" y="33526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562720" y="6172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ゴールドラッシ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467480" y="6248520"/>
            <a:ext cx="1495440" cy="450720"/>
            <a:chOff x="7467480" y="6248520"/>
            <a:chExt cx="1495440" cy="450720"/>
          </a:xfrm>
        </p:grpSpPr>
        <p:sp>
          <p:nvSpPr>
            <p:cNvPr id="146" name="">
              <a:hlinkClick r:id="rId3" action="ppaction://hlinksldjump"/>
            </p:cNvPr>
            <p:cNvSpPr/>
            <p:nvPr/>
          </p:nvSpPr>
          <p:spPr>
            <a:xfrm>
              <a:off x="7924680" y="6248520"/>
              <a:ext cx="10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もど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67480" y="62596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533520" y="2514600"/>
            <a:ext cx="8076960" cy="4291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もようによっては，がめんが見にくくなることがあります。すききらいがあります。かってにかえないようにしましょ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60948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cc"/>
                </a:solidFill>
                <a:latin typeface="Arial"/>
                <a:ea typeface="HG創英角ﾎﾟｯﾌﾟ体"/>
              </a:rPr>
              <a:t>○</a:t>
            </a:r>
            <a:r>
              <a:rPr b="0" lang="zh-CN" sz="2200" spc="-1" strike="noStrike">
                <a:solidFill>
                  <a:srgbClr val="66ffcc"/>
                </a:solidFill>
                <a:latin typeface="Arial"/>
                <a:ea typeface="HG創英角ﾎﾟｯﾌﾟ体"/>
              </a:rPr>
              <a:t>　かべがみってなに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21337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ffcc"/>
                </a:solidFill>
                <a:latin typeface="Arial"/>
                <a:ea typeface="HG創英角ﾎﾟｯﾌﾟ体"/>
              </a:rPr>
              <a:t>○</a:t>
            </a:r>
            <a:r>
              <a:rPr b="0" lang="zh-CN" sz="2200" spc="-1" strike="noStrike">
                <a:solidFill>
                  <a:srgbClr val="66ffcc"/>
                </a:solidFill>
                <a:latin typeface="Arial"/>
                <a:ea typeface="HG創英角ﾎﾟｯﾌﾟ体"/>
              </a:rPr>
              <a:t>　かえるとどうなるの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7080">
            <a:solidFill>
              <a:srgbClr val="ffff00"/>
            </a:solidFill>
            <a:miter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35640" y="-36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スライド１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2666880"/>
            <a:ext cx="5943600" cy="429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はじめのがめんで，使いたいもののえをダブル・クリックするだけで，したいことがすぐにはじめられま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3049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HG創英角ﾎﾟｯﾌﾟ体"/>
              </a:rPr>
              <a:t>ショートカッ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209320" y="914400"/>
            <a:ext cx="1295640" cy="213372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152280"/>
            <a:ext cx="228600" cy="5791320"/>
          </a:xfrm>
          <a:custGeom>
            <a:avLst/>
            <a:gdLst>
              <a:gd name="textAreaLeft" fmla="*/ 0 w 228600"/>
              <a:gd name="textAreaRight" fmla="*/ 82440 w 22860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467480" y="6248520"/>
            <a:ext cx="1495440" cy="450720"/>
            <a:chOff x="7467480" y="6248520"/>
            <a:chExt cx="1495440" cy="450720"/>
          </a:xfrm>
        </p:grpSpPr>
        <p:sp>
          <p:nvSpPr>
            <p:cNvPr id="158" name="">
              <a:hlinkClick r:id="rId2" action="ppaction://hlinksldjump"/>
            </p:cNvPr>
            <p:cNvSpPr/>
            <p:nvPr/>
          </p:nvSpPr>
          <p:spPr>
            <a:xfrm>
              <a:off x="7924680" y="6248520"/>
              <a:ext cx="10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もど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2596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"/>
          <p:cNvSpPr/>
          <p:nvPr/>
        </p:nvSpPr>
        <p:spPr>
          <a:xfrm>
            <a:off x="2971800" y="4495680"/>
            <a:ext cx="5943600" cy="93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みんながかってにふやすと，ひらきたいショ　ートカットがさがしにくくなりま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かってにへらすと，学習でつかうものをひらけない人がでてきま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2209680"/>
            <a:ext cx="42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HG創英角ﾎﾟｯﾌﾟ体"/>
              </a:rPr>
              <a:t>○</a:t>
            </a:r>
            <a:r>
              <a:rPr b="0" lang="zh-CN" sz="2200" spc="-1" strike="noStrike">
                <a:solidFill>
                  <a:srgbClr val="ffff00"/>
                </a:solidFill>
                <a:latin typeface="Arial"/>
                <a:ea typeface="HG創英角ﾎﾟｯﾌﾟ体"/>
              </a:rPr>
              <a:t>　ショートカットってなに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403848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  <a:ea typeface="HG創英角ﾎﾟｯﾌﾟ体"/>
              </a:rPr>
              <a:t>○</a:t>
            </a:r>
            <a:r>
              <a:rPr b="0" lang="zh-CN" sz="2200" spc="-1" strike="noStrike">
                <a:solidFill>
                  <a:srgbClr val="ffff00"/>
                </a:solidFill>
                <a:latin typeface="Arial"/>
                <a:ea typeface="HG創英角ﾎﾟｯﾌﾟ体"/>
              </a:rPr>
              <a:t>　かえるとどうなるの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38080" y="189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　パソコンのはじめのがめんです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　このしゃしんは，パソコンのはじめにでてくるがめん（ディスクトップ）です。かってにかえるとどうなるかわかりました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5181480"/>
            <a:ext cx="4996080" cy="1143000"/>
          </a:xfrm>
          <a:prstGeom prst="wedgeRoundRectCallout">
            <a:avLst>
              <a:gd name="adj1" fmla="val -22671"/>
              <a:gd name="adj2" fmla="val -125416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③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はじめのがめんからダブルクリックすれば，したいことがすぐにはじめられるようにしてある絵とその名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35812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ショートカ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8120" y="3200400"/>
            <a:ext cx="1100160" cy="3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かべが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48320" y="2997360"/>
            <a:ext cx="4495680" cy="838080"/>
          </a:xfrm>
          <a:prstGeom prst="wedgeRoundRectCallout">
            <a:avLst>
              <a:gd name="adj1" fmla="val -58226"/>
              <a:gd name="adj2" fmla="val -40532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66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②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はじめのがめんのうしろをかざるしゃしんや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1523880" y="1447920"/>
            <a:ext cx="14860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スクリーンセイバ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1371600"/>
            <a:ext cx="4481640" cy="838080"/>
          </a:xfrm>
          <a:prstGeom prst="wedgeRoundRectCallout">
            <a:avLst>
              <a:gd name="adj1" fmla="val -83083"/>
              <a:gd name="adj2" fmla="val -17800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しばらくつけたままにしてお　くと，うごきだす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2195640" y="646128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次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1763640" y="6418440"/>
            <a:ext cx="439920" cy="439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HG創英角ﾎﾟｯﾌﾟ体"/>
              </a:rPr>
              <a:t>スライド１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152280" y="457200"/>
            <a:ext cx="757440" cy="838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443400" y="2133720"/>
            <a:ext cx="5700600" cy="838080"/>
          </a:xfrm>
          <a:prstGeom prst="wedgeRoundRectCallout">
            <a:avLst>
              <a:gd name="adj1" fmla="val 10569"/>
              <a:gd name="adj2" fmla="val -48486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0000"/>
                </a:solidFill>
                <a:latin typeface="Arial"/>
                <a:ea typeface="HG創英角ﾎﾟｯﾌﾟ体"/>
              </a:rPr>
              <a:t>かってにかえる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→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いきなりうごく絵がでてきて、がめんがみえなくなっ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84640" y="3860640"/>
            <a:ext cx="5859360" cy="838440"/>
          </a:xfrm>
          <a:prstGeom prst="wedgeRoundRectCallout">
            <a:avLst>
              <a:gd name="adj1" fmla="val 7708"/>
              <a:gd name="adj2" fmla="val 7199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66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HG創英角ﾎﾟｯﾌﾟ体"/>
              </a:rPr>
              <a:t>かってにかえる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→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ほかのパソコンと写真や絵がちがっていて，みにくかっ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3640" y="4869000"/>
            <a:ext cx="4140360" cy="1224000"/>
          </a:xfrm>
          <a:prstGeom prst="wedgeRoundRectCallout">
            <a:avLst>
              <a:gd name="adj1" fmla="val -42523"/>
              <a:gd name="adj2" fmla="val 48574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HG創英角ﾎﾟｯﾌﾟ体"/>
              </a:rPr>
              <a:t>かってにかえる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→　　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あるはずのショートカットがなくて学習がはじめられなかっ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632448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ひつようなときは，先生に聞き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スライド１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2865240" cy="2149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990720" y="3581280"/>
            <a:ext cx="2840040" cy="2130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257800" y="914400"/>
            <a:ext cx="2865600" cy="2149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00000" y="228600"/>
            <a:ext cx="78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こういうページがでてきたらどうし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3880" y="3124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ホームペ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57800" y="3124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メールソフトが立ち上がってき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992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けいじば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579132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名前や住所，アドレスなどが書きこめるようになっているフォー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391520" y="6095880"/>
            <a:ext cx="1361520" cy="439560"/>
            <a:chOff x="7391520" y="6095880"/>
            <a:chExt cx="1361520" cy="439560"/>
          </a:xfrm>
        </p:grpSpPr>
        <p:sp>
          <p:nvSpPr>
            <p:cNvPr id="189" name=""/>
            <p:cNvSpPr/>
            <p:nvPr/>
          </p:nvSpPr>
          <p:spPr>
            <a:xfrm>
              <a:off x="7824600" y="609588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391520" y="6095880"/>
              <a:ext cx="439560" cy="43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5181480" y="358128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189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さて、もんだい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　学校で，インターネットをつかってしらべ学習をしているとき，つぎのようなことをしてしまいました。どうすればよかったでしょう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5638680"/>
            <a:ext cx="48006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HG創英角ﾎﾟｯﾌﾟ体"/>
              </a:rPr>
              <a:t>あなたが書いたことを見るのはだれです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5334120"/>
            <a:ext cx="3886200" cy="1218960"/>
          </a:xfrm>
          <a:prstGeom prst="wedgeRoundRectCallout">
            <a:avLst>
              <a:gd name="adj1" fmla="val -490"/>
              <a:gd name="adj2" fmla="val -260675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住所や名前，電話番号を書きこむところがあったので，書い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886200"/>
            <a:ext cx="4537080" cy="1219320"/>
          </a:xfrm>
          <a:prstGeom prst="wedgeRoundRectCallout">
            <a:avLst>
              <a:gd name="adj1" fmla="val -71939"/>
              <a:gd name="adj2" fmla="val -155731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66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メールソフトが立ちあがってきたので，メッセージを書いてそうしん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1905120"/>
            <a:ext cx="4496040" cy="1218960"/>
          </a:xfrm>
          <a:prstGeom prst="wedgeRoundRectCallout">
            <a:avLst>
              <a:gd name="adj1" fmla="val -73550"/>
              <a:gd name="adj2" fmla="val -7680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メッセージをこうかんする　ページがあったので，メッセージを書きこん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09480" y="1219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362320" y="3505320"/>
            <a:ext cx="1447560" cy="914400"/>
          </a:xfrm>
          <a:prstGeom prst="wedgeRoundRectCallout">
            <a:avLst>
              <a:gd name="adj1" fmla="val -26314"/>
              <a:gd name="adj2" fmla="val -8628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どうしたらいいの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1738440" cy="19782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HG創英角ﾎﾟｯﾌﾟ体"/>
              </a:rPr>
              <a:t>スライド１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195640" y="1989000"/>
            <a:ext cx="1108080" cy="122400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7093080" y="6165720"/>
            <a:ext cx="1361520" cy="439560"/>
            <a:chOff x="7093080" y="6165720"/>
            <a:chExt cx="1361520" cy="439560"/>
          </a:xfrm>
        </p:grpSpPr>
        <p:sp>
          <p:nvSpPr>
            <p:cNvPr id="203" name=""/>
            <p:cNvSpPr/>
            <p:nvPr/>
          </p:nvSpPr>
          <p:spPr>
            <a:xfrm>
              <a:off x="7526160" y="616572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7093080" y="6165720"/>
              <a:ext cx="439560" cy="439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7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75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191120" y="3352680"/>
            <a:ext cx="480060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HG創英角ﾎﾟｯﾌﾟ体"/>
              </a:rPr>
              <a:t>あなたが書いたことを見るのはだれです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152280" y="3505320"/>
            <a:ext cx="3886200" cy="1218960"/>
          </a:xfrm>
          <a:prstGeom prst="wedgeRoundRectCallout">
            <a:avLst>
              <a:gd name="adj1" fmla="val -490"/>
              <a:gd name="adj2" fmla="val -191407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住所や名前，電話番号を書きこむところがあったので，書い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2" action="ppaction://hlinksldjump"/>
          </p:cNvPr>
          <p:cNvSpPr/>
          <p:nvPr/>
        </p:nvSpPr>
        <p:spPr>
          <a:xfrm>
            <a:off x="4267080" y="1981080"/>
            <a:ext cx="4537080" cy="1219320"/>
          </a:xfrm>
          <a:prstGeom prst="wedgeRoundRectCallout">
            <a:avLst>
              <a:gd name="adj1" fmla="val -69592"/>
              <a:gd name="adj2" fmla="val -80731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66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メールソフトが立ちあがってきたので，メッセージを書いてそうしん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3" action="ppaction://hlinksldjump"/>
          </p:cNvPr>
          <p:cNvSpPr/>
          <p:nvPr/>
        </p:nvSpPr>
        <p:spPr>
          <a:xfrm>
            <a:off x="4343400" y="609480"/>
            <a:ext cx="4495680" cy="1219320"/>
          </a:xfrm>
          <a:prstGeom prst="wedgeRoundRectCallout">
            <a:avLst>
              <a:gd name="adj1" fmla="val -72773"/>
              <a:gd name="adj2" fmla="val 29296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メッセージをこうかんする　ページがあったので，メッセージを書きこん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543800" y="6248520"/>
            <a:ext cx="1362240" cy="439560"/>
            <a:chOff x="7543800" y="6248520"/>
            <a:chExt cx="1362240" cy="439560"/>
          </a:xfrm>
        </p:grpSpPr>
        <p:sp>
          <p:nvSpPr>
            <p:cNvPr id="210" name=""/>
            <p:cNvSpPr/>
            <p:nvPr/>
          </p:nvSpPr>
          <p:spPr>
            <a:xfrm>
              <a:off x="7977240" y="624852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543800" y="6248520"/>
              <a:ext cx="43956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"/>
          <p:cNvSpPr/>
          <p:nvPr/>
        </p:nvSpPr>
        <p:spPr>
          <a:xfrm>
            <a:off x="2333160" y="3049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2438280"/>
            <a:ext cx="1447560" cy="914400"/>
          </a:xfrm>
          <a:prstGeom prst="wedgeRoundRectCallout">
            <a:avLst>
              <a:gd name="adj1" fmla="val -23902"/>
              <a:gd name="adj2" fmla="val -7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どうしたらいいの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304920" y="304920"/>
            <a:ext cx="1738080" cy="19778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04920" y="4952880"/>
            <a:ext cx="8534160" cy="1219320"/>
          </a:xfrm>
          <a:prstGeom prst="wedgeRoundRectCallout">
            <a:avLst>
              <a:gd name="adj1" fmla="val -7569"/>
              <a:gd name="adj2" fmla="val -48828"/>
              <a:gd name="adj3" fmla="val 16667"/>
            </a:avLst>
          </a:prstGeom>
          <a:solidFill>
            <a:srgbClr val="ffffff"/>
          </a:solidFill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あなたが書いたことをあいての人がわかっても，せんもんのちしきやぎじゅつのないわたしたちは，あいてがどういう人かわかりません。よくわからないところへじょうほうをおくるのはやめましょ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62485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ひつようなときは，先生に聞きましょ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HG創英角ﾎﾟｯﾌﾟ体"/>
              </a:rPr>
              <a:t>スライド１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2181240" y="1052640"/>
            <a:ext cx="1085760" cy="119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3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HG創英角ﾎﾟｯﾌﾟ体"/>
              </a:rPr>
              <a:t>スライド１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7400" y="1522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HG創英角ﾎﾟｯﾌﾟ体"/>
              </a:rPr>
              <a:t>学校のパソコン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HG創英角ﾎﾟｯﾌﾟ体"/>
              </a:rPr>
              <a:t>「みんなでつかうもの」で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4724280"/>
            <a:ext cx="8686800" cy="17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0000"/>
                </a:solidFill>
                <a:latin typeface="Arial"/>
                <a:ea typeface="HG創英角ﾎﾟｯﾌﾟ体"/>
              </a:rPr>
              <a:t>学校のパソコンをつかうときは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 u="sng">
                <a:solidFill>
                  <a:srgbClr val="008000"/>
                </a:solidFill>
                <a:uFillTx/>
                <a:latin typeface="Arial"/>
                <a:ea typeface="HG創英角ﾎﾟｯﾌﾟ体"/>
              </a:rPr>
              <a:t>・つくったもののほぞんは，せんせいのしじにしたがいましょう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 u="sng">
                <a:solidFill>
                  <a:srgbClr val="008000"/>
                </a:solidFill>
                <a:uFillTx/>
                <a:latin typeface="Arial"/>
                <a:ea typeface="HG創英角ﾎﾟｯﾌﾟ体"/>
              </a:rPr>
              <a:t>・メールやけいじばんなどひつようがあるときは，せんせいにききましょう</a:t>
            </a:r>
            <a:r>
              <a:rPr b="1" lang="zh-CN" sz="1900" spc="-1" strike="noStrike">
                <a:solidFill>
                  <a:srgbClr val="008000"/>
                </a:solidFill>
                <a:latin typeface="Arial"/>
                <a:ea typeface="HG創英角ﾎﾟｯﾌﾟ体"/>
              </a:rPr>
              <a:t>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 u="sng">
                <a:solidFill>
                  <a:srgbClr val="008000"/>
                </a:solidFill>
                <a:uFillTx/>
                <a:latin typeface="Arial"/>
                <a:ea typeface="HG創英角ﾎﾟｯﾌﾟ体"/>
              </a:rPr>
              <a:t>・つかいはじめのときとおなじにして，おわりましょう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1143000" cy="12668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429000" y="1447920"/>
            <a:ext cx="4968720" cy="863640"/>
          </a:xfrm>
          <a:prstGeom prst="wedgeRoundRectCallout">
            <a:avLst>
              <a:gd name="adj1" fmla="val -85560"/>
              <a:gd name="adj2" fmla="val -639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今，あなたがつかっているパソコンは，　　　つぎは，ほかの人がつか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084720" y="2708280"/>
            <a:ext cx="2603520" cy="1738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84360" y="1989000"/>
            <a:ext cx="2079360" cy="2514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635280" y="2492280"/>
            <a:ext cx="2278080" cy="21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304920"/>
            <a:ext cx="85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ひろちゃんはパソコンがとくいです。家では，お家の人といっしょに，楽しくパソコンをつかっています。あなたはパソコンでどんなことをしています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HG創英角ﾎﾟｯﾌﾟ体"/>
              </a:rPr>
              <a:t>スライド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3276720"/>
            <a:ext cx="3353040" cy="504720"/>
          </a:xfrm>
          <a:custGeom>
            <a:avLst/>
            <a:gdLst>
              <a:gd name="textAreaLeft" fmla="*/ 0 w 3353040"/>
              <a:gd name="textAreaRight" fmla="*/ 3353400 w 3353040"/>
              <a:gd name="textAreaTop" fmla="*/ 65160 h 504720"/>
              <a:gd name="textAreaBottom" fmla="*/ 4395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Arial"/>
                <a:ea typeface="みかちゃん-PB"/>
              </a:rPr>
              <a:t>どれかの画面をクリッ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914400"/>
            <a:ext cx="3809880" cy="426960"/>
          </a:xfrm>
          <a:prstGeom prst="wedgeRoundRectCallout">
            <a:avLst>
              <a:gd name="adj1" fmla="val -22499"/>
              <a:gd name="adj2" fmla="val 6932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ホーページをみ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914400"/>
            <a:ext cx="3886200" cy="457200"/>
          </a:xfrm>
          <a:prstGeom prst="wedgeRoundRectCallout">
            <a:avLst>
              <a:gd name="adj1" fmla="val 23162"/>
              <a:gd name="adj2" fmla="val 809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けいじばんやチャットに書きこ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886200"/>
            <a:ext cx="3429000" cy="457200"/>
          </a:xfrm>
          <a:prstGeom prst="wedgeRoundRectCallout">
            <a:avLst>
              <a:gd name="adj1" fmla="val 19490"/>
              <a:gd name="adj2" fmla="val 80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メールをこうかん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3886200"/>
            <a:ext cx="3757680" cy="457200"/>
          </a:xfrm>
          <a:prstGeom prst="wedgeRoundRectCallout">
            <a:avLst>
              <a:gd name="adj1" fmla="val 12439"/>
              <a:gd name="adj2" fmla="val 781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ゲームや音楽を楽し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7696080" y="62485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180" h="21600">
                <a:moveTo>
                  <a:pt x="23584" y="3794"/>
                </a:moveTo>
                <a:lnTo>
                  <a:pt x="37597" y="10800"/>
                </a:lnTo>
                <a:lnTo>
                  <a:pt x="23584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HG創英角ﾎﾟｯﾌﾟ体"/>
              </a:rPr>
              <a:t>次へ進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867280" y="44956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981080" y="44956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85800" y="14479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952880" y="14479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32000" y="1628640"/>
            <a:ext cx="1482840" cy="1406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7596360" y="1700280"/>
            <a:ext cx="1109520" cy="1487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0" y="4797360"/>
            <a:ext cx="1979640" cy="1333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4356000" y="4724280"/>
            <a:ext cx="1366920" cy="14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4920" y="609480"/>
            <a:ext cx="8458200" cy="1295640"/>
          </a:xfrm>
          <a:prstGeom prst="wedgeRoundRectCallout">
            <a:avLst>
              <a:gd name="adj1" fmla="val -26893"/>
              <a:gd name="adj2" fmla="val -4412"/>
              <a:gd name="adj3" fmla="val 16667"/>
            </a:avLst>
          </a:prstGeom>
          <a:solidFill>
            <a:srgbClr val="00cc00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cc"/>
                </a:solidFill>
                <a:latin typeface="Arial"/>
                <a:ea typeface="HG創英角ﾎﾟｯﾌﾟ体"/>
              </a:rPr>
              <a:t>ホームページをみ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36000" y="189000"/>
            <a:ext cx="1371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スライド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467480" y="6248520"/>
            <a:ext cx="1495440" cy="450720"/>
            <a:chOff x="7467480" y="6248520"/>
            <a:chExt cx="1495440" cy="450720"/>
          </a:xfrm>
        </p:grpSpPr>
        <p:sp>
          <p:nvSpPr>
            <p:cNvPr id="70" name="">
              <a:hlinkClick r:id="rId2" action="ppaction://hlinksldjump"/>
            </p:cNvPr>
            <p:cNvSpPr/>
            <p:nvPr/>
          </p:nvSpPr>
          <p:spPr>
            <a:xfrm>
              <a:off x="7924680" y="6248520"/>
              <a:ext cx="1038240" cy="3988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ffcc"/>
                  </a:solidFill>
                  <a:latin typeface="Arial"/>
                  <a:ea typeface="HG創英角ﾎﾟｯﾌﾟ体"/>
                </a:rPr>
                <a:t>もど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2596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093080" y="2599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スライド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3962520"/>
            <a:ext cx="8458200" cy="2286000"/>
          </a:xfrm>
          <a:prstGeom prst="wedgeRoundRectCallout">
            <a:avLst>
              <a:gd name="adj1" fmla="val -22805"/>
              <a:gd name="adj2" fmla="val -22986"/>
              <a:gd name="adj3" fmla="val 16667"/>
            </a:avLst>
          </a:prstGeom>
          <a:solidFill>
            <a:srgbClr val="00cc00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ccffcc"/>
                </a:solidFill>
                <a:latin typeface="Arial"/>
                <a:ea typeface="HG創英角ﾎﾟｯﾌﾟ体"/>
              </a:rPr>
              <a:t>けいじばん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ccffcc"/>
                </a:solidFill>
                <a:latin typeface="Arial"/>
                <a:ea typeface="HG創英角ﾎﾟｯﾌﾟ体"/>
              </a:rPr>
              <a:t>チャットにかきこ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467480" y="6248520"/>
            <a:ext cx="1495440" cy="450720"/>
            <a:chOff x="7467480" y="6248520"/>
            <a:chExt cx="1495440" cy="450720"/>
          </a:xfrm>
        </p:grpSpPr>
        <p:sp>
          <p:nvSpPr>
            <p:cNvPr id="76" name="">
              <a:hlinkClick r:id="rId2" action="ppaction://hlinksldjump"/>
            </p:cNvPr>
            <p:cNvSpPr/>
            <p:nvPr/>
          </p:nvSpPr>
          <p:spPr>
            <a:xfrm>
              <a:off x="7924680" y="6248520"/>
              <a:ext cx="1038240" cy="3988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ffcc"/>
                  </a:solidFill>
                  <a:latin typeface="Arial"/>
                  <a:ea typeface="HG創英角ﾎﾟｯﾌﾟ体"/>
                </a:rPr>
                <a:t>もど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2596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8720" y="2599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スライド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2819520"/>
            <a:ext cx="8458200" cy="2438280"/>
          </a:xfrm>
          <a:prstGeom prst="wedgeRoundRectCallout">
            <a:avLst>
              <a:gd name="adj1" fmla="val -17268"/>
              <a:gd name="adj2" fmla="val 16601"/>
              <a:gd name="adj3" fmla="val 16667"/>
            </a:avLst>
          </a:prstGeom>
          <a:solidFill>
            <a:srgbClr val="00cc00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cc"/>
                </a:solidFill>
                <a:latin typeface="Arial"/>
                <a:ea typeface="HG創英角ﾎﾟｯﾌﾟ体"/>
              </a:rPr>
              <a:t>メール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cc"/>
                </a:solidFill>
                <a:latin typeface="Arial"/>
                <a:ea typeface="HG創英角ﾎﾟｯﾌﾟ体"/>
              </a:rPr>
              <a:t>こうかんす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467480" y="6248520"/>
            <a:ext cx="1495440" cy="450720"/>
            <a:chOff x="7467480" y="6248520"/>
            <a:chExt cx="1495440" cy="450720"/>
          </a:xfrm>
        </p:grpSpPr>
        <p:sp>
          <p:nvSpPr>
            <p:cNvPr id="82" name="">
              <a:hlinkClick r:id="rId2" action="ppaction://hlinksldjump"/>
            </p:cNvPr>
            <p:cNvSpPr/>
            <p:nvPr/>
          </p:nvSpPr>
          <p:spPr>
            <a:xfrm>
              <a:off x="7924680" y="6248520"/>
              <a:ext cx="1038240" cy="3988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ffcc"/>
                  </a:solidFill>
                  <a:latin typeface="Arial"/>
                  <a:ea typeface="HG創英角ﾎﾟｯﾌﾟ体"/>
                </a:rPr>
                <a:t>もど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2596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0880" y="3200400"/>
            <a:ext cx="8458200" cy="2362320"/>
          </a:xfrm>
          <a:prstGeom prst="wedgeRoundRectCallout">
            <a:avLst>
              <a:gd name="adj1" fmla="val -24962"/>
              <a:gd name="adj2" fmla="val -25134"/>
              <a:gd name="adj3" fmla="val 16667"/>
            </a:avLst>
          </a:prstGeom>
          <a:solidFill>
            <a:srgbClr val="00cc00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ccffcc"/>
                </a:solidFill>
                <a:latin typeface="Arial"/>
                <a:ea typeface="HG創英角ﾎﾟｯﾌﾟ体"/>
              </a:rPr>
              <a:t>ゲーム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600" spc="-1" strike="noStrike">
                <a:solidFill>
                  <a:srgbClr val="ccffcc"/>
                </a:solidFill>
                <a:latin typeface="Arial"/>
                <a:ea typeface="HG創英角ﾎﾟｯﾌﾟ体"/>
              </a:rPr>
              <a:t>おんがくをたのし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36000" y="-36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スライド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467480" y="6248520"/>
            <a:ext cx="1495440" cy="450720"/>
            <a:chOff x="7467480" y="6248520"/>
            <a:chExt cx="1495440" cy="450720"/>
          </a:xfrm>
        </p:grpSpPr>
        <p:sp>
          <p:nvSpPr>
            <p:cNvPr id="88" name="">
              <a:hlinkClick r:id="rId2" action="ppaction://hlinksldjump"/>
            </p:cNvPr>
            <p:cNvSpPr/>
            <p:nvPr/>
          </p:nvSpPr>
          <p:spPr>
            <a:xfrm>
              <a:off x="7924680" y="6248520"/>
              <a:ext cx="1038240" cy="39888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ccffcc"/>
                  </a:solidFill>
                  <a:latin typeface="Arial"/>
                  <a:ea typeface="HG創英角ﾎﾟｯﾌﾟ体"/>
                </a:rPr>
                <a:t>もど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2596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HG創英角ﾎﾟｯﾌﾟ体"/>
              </a:rPr>
              <a:t>スライド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20120" y="6248520"/>
            <a:ext cx="1361520" cy="439560"/>
            <a:chOff x="7620120" y="6248520"/>
            <a:chExt cx="1361520" cy="439560"/>
          </a:xfrm>
        </p:grpSpPr>
        <p:sp>
          <p:nvSpPr>
            <p:cNvPr id="92" name=""/>
            <p:cNvSpPr/>
            <p:nvPr/>
          </p:nvSpPr>
          <p:spPr>
            <a:xfrm>
              <a:off x="8053200" y="624852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620120" y="6248520"/>
              <a:ext cx="439560" cy="439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1143000" cy="1266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1447920"/>
            <a:ext cx="4968720" cy="863640"/>
          </a:xfrm>
          <a:prstGeom prst="wedgeRoundRectCallout">
            <a:avLst>
              <a:gd name="adj1" fmla="val -76518"/>
              <a:gd name="adj2" fmla="val -183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今，あなたがつかっているパソコンは，　　　　　　　つぎは，ほかの人がつか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6248520"/>
            <a:ext cx="4854600" cy="42048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どんなことに気をつけて使っています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0120" y="2819520"/>
            <a:ext cx="863640" cy="504720"/>
          </a:xfrm>
          <a:custGeom>
            <a:avLst/>
            <a:gdLst>
              <a:gd name="textAreaLeft" fmla="*/ 0 w 863640"/>
              <a:gd name="textAreaRight" fmla="*/ 864000 w 863640"/>
              <a:gd name="textAreaTop" fmla="*/ 65160 h 504720"/>
              <a:gd name="textAreaBottom" fmla="*/ 4395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みかちゃん-PB"/>
              </a:rPr>
              <a:t>クリッ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1522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HG創英角ﾎﾟｯﾌﾟ体"/>
              </a:rPr>
              <a:t>学校のパソコンは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HG創英角ﾎﾟｯﾌﾟ体"/>
              </a:rPr>
              <a:t>「みんなでつかうもの」で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2666880"/>
            <a:ext cx="4552920" cy="833400"/>
          </a:xfrm>
          <a:prstGeom prst="wedgeRoundRectCallout">
            <a:avLst>
              <a:gd name="adj1" fmla="val -69805"/>
              <a:gd name="adj2" fmla="val -15381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学校で，みんなでつかうものは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ほかに，どんなものがありますか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みかちゃん-PB"/>
              </a:rPr>
              <a:t>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8360" y="3429000"/>
            <a:ext cx="2079720" cy="2514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771640" y="3716280"/>
            <a:ext cx="2349720" cy="2189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435640" y="3573360"/>
            <a:ext cx="2270160" cy="235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　　　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さて、もんだい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HG創英角ﾎﾟｯﾌﾟ体"/>
                <a:ea typeface="HG創英角ﾎﾟｯﾌﾟ体"/>
              </a:rPr>
              <a:t>　ひろちゃんは，学校でパソコンをつかうとき，家でしているように，つぎのようなことをしたいと思っています。してもよいでしょう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41972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ショートカッ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4191120"/>
            <a:ext cx="1100160" cy="31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かべが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4495680" y="2666880"/>
            <a:ext cx="4496040" cy="1524240"/>
          </a:xfrm>
          <a:prstGeom prst="wedgeRoundRectCallout">
            <a:avLst>
              <a:gd name="adj1" fmla="val -69597"/>
              <a:gd name="adj2" fmla="val 59166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66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②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HG創英角ﾎﾟｯﾌﾟ体"/>
              </a:rPr>
              <a:t>自分のすきな写しんや絵にかえた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かえるとどうなる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1828800" y="1371600"/>
            <a:ext cx="1490760" cy="69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スクリーンセイバ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4" action="ppaction://hlinksldjump"/>
          </p:cNvPr>
          <p:cNvSpPr/>
          <p:nvPr/>
        </p:nvSpPr>
        <p:spPr>
          <a:xfrm>
            <a:off x="4495680" y="1143000"/>
            <a:ext cx="4496040" cy="1447920"/>
          </a:xfrm>
          <a:prstGeom prst="wedgeRoundRectCallout">
            <a:avLst>
              <a:gd name="adj1" fmla="val -82310"/>
              <a:gd name="adj2" fmla="val -5375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①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HG創英角ﾎﾟｯﾌﾟ体"/>
              </a:rPr>
              <a:t>デザインや待ち時間をかえた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かえるとどうなる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HG創英角ﾎﾟｯﾌﾟ体"/>
              </a:rPr>
              <a:t>スライド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52280" y="457200"/>
            <a:ext cx="757440" cy="838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52480" y="1371600"/>
            <a:ext cx="0" cy="2590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3962520"/>
            <a:ext cx="1600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3962520"/>
            <a:ext cx="0" cy="1981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5943600"/>
            <a:ext cx="228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1371600"/>
            <a:ext cx="0" cy="2590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2133720"/>
            <a:ext cx="1067040" cy="304560"/>
          </a:xfrm>
          <a:custGeom>
            <a:avLst/>
            <a:gdLst>
              <a:gd name="textAreaLeft" fmla="*/ 0 w 1067040"/>
              <a:gd name="textAreaRight" fmla="*/ 1067400 w 1067040"/>
              <a:gd name="textAreaTop" fmla="*/ 39240 h 304560"/>
              <a:gd name="textAreaBottom" fmla="*/ 2653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みかちゃん-PB"/>
              </a:rPr>
              <a:t>クリッ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3657600"/>
            <a:ext cx="1066680" cy="304920"/>
          </a:xfrm>
          <a:custGeom>
            <a:avLst/>
            <a:gdLst>
              <a:gd name="textAreaLeft" fmla="*/ 0 w 1066680"/>
              <a:gd name="textAreaRight" fmla="*/ 1067040 w 1066680"/>
              <a:gd name="textAreaTop" fmla="*/ 39240 h 304920"/>
              <a:gd name="textAreaBottom" fmla="*/ 2656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みかちゃん-PB"/>
              </a:rPr>
              <a:t>クリッ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6" action="ppaction://hlinksldjump"/>
          </p:cNvPr>
          <p:cNvSpPr/>
          <p:nvPr/>
        </p:nvSpPr>
        <p:spPr>
          <a:xfrm>
            <a:off x="4495680" y="4267080"/>
            <a:ext cx="4496040" cy="1905120"/>
          </a:xfrm>
          <a:prstGeom prst="wedgeRoundRectCallout">
            <a:avLst>
              <a:gd name="adj1" fmla="val -102083"/>
              <a:gd name="adj2" fmla="val -21416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③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HG創英角ﾎﾟｯﾌﾟ体"/>
              </a:rPr>
              <a:t>自分がつかいやすいように，ふやしたり，へらしたりした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かえるとどうなる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5715000"/>
            <a:ext cx="1067040" cy="304920"/>
          </a:xfrm>
          <a:custGeom>
            <a:avLst/>
            <a:gdLst>
              <a:gd name="textAreaLeft" fmla="*/ 0 w 1067040"/>
              <a:gd name="textAreaRight" fmla="*/ 1067400 w 1067040"/>
              <a:gd name="textAreaTop" fmla="*/ 39240 h 304920"/>
              <a:gd name="textAreaBottom" fmla="*/ 2656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みかちゃん-PB"/>
              </a:rPr>
              <a:t>クリッ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391520" y="6248520"/>
            <a:ext cx="1600200" cy="439560"/>
            <a:chOff x="7391520" y="6248520"/>
            <a:chExt cx="1600200" cy="439560"/>
          </a:xfrm>
        </p:grpSpPr>
        <p:sp>
          <p:nvSpPr>
            <p:cNvPr id="123" name=""/>
            <p:cNvSpPr/>
            <p:nvPr/>
          </p:nvSpPr>
          <p:spPr>
            <a:xfrm>
              <a:off x="7772400" y="62485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まとめ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7391520" y="6248520"/>
              <a:ext cx="439560" cy="439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スライド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33520" y="1066680"/>
            <a:ext cx="8076960" cy="4291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パソコンをつけておくと，えが，がめんぜんたいに動きます。がめんをまもるためです。えきしょうではひつようありません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152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Arial"/>
                <a:ea typeface="HG創英角ﾎﾟｯﾌﾟ体"/>
              </a:rPr>
              <a:t>スクリーン・セーバ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6172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野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6172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ミステリ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467480" y="6248520"/>
            <a:ext cx="1495440" cy="450720"/>
            <a:chOff x="7467480" y="6248520"/>
            <a:chExt cx="1495440" cy="450720"/>
          </a:xfrm>
        </p:grpSpPr>
        <p:sp>
          <p:nvSpPr>
            <p:cNvPr id="132" name="">
              <a:hlinkClick r:id="rId2" action="ppaction://hlinksldjump"/>
            </p:cNvPr>
            <p:cNvSpPr/>
            <p:nvPr/>
          </p:nvSpPr>
          <p:spPr>
            <a:xfrm>
              <a:off x="7924680" y="6248520"/>
              <a:ext cx="103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もど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467480" y="62596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533520" y="2590920"/>
            <a:ext cx="8076960" cy="4291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  <a:ea typeface="HG創英角ﾎﾟｯﾌﾟ体"/>
              </a:rPr>
              <a:t>がめんのもじを読んでいるときにでてきて，読めなくなったり，音がなりだしたりして，こまることがありま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685800"/>
            <a:ext cx="495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99"/>
                </a:solidFill>
                <a:latin typeface="Arial"/>
                <a:ea typeface="HG創英角ﾎﾟｯﾌﾟ体"/>
              </a:rPr>
              <a:t>○</a:t>
            </a:r>
            <a:r>
              <a:rPr b="0" lang="zh-CN" sz="2200" spc="-1" strike="noStrike">
                <a:solidFill>
                  <a:srgbClr val="ff6699"/>
                </a:solidFill>
                <a:latin typeface="Arial"/>
                <a:ea typeface="HG創英角ﾎﾟｯﾌﾟ体"/>
              </a:rPr>
              <a:t>　スクリーン・セーバーってなに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133720"/>
            <a:ext cx="365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99"/>
                </a:solidFill>
                <a:latin typeface="Arial"/>
                <a:ea typeface="HG創英角ﾎﾟｯﾌﾟ体"/>
              </a:rPr>
              <a:t>○</a:t>
            </a:r>
            <a:r>
              <a:rPr b="0" lang="zh-CN" sz="2200" spc="-1" strike="noStrike">
                <a:solidFill>
                  <a:srgbClr val="ff6699"/>
                </a:solidFill>
                <a:latin typeface="Arial"/>
                <a:ea typeface="HG創英角ﾎﾟｯﾌﾟ体"/>
              </a:rPr>
              <a:t>　かえるとどうなるの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4876920" y="342900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00:45:26Z</dcterms:created>
  <dc:creator/>
  <dc:description/>
  <dc:language>en-US</dc:language>
  <cp:lastModifiedBy/>
  <dcterms:modified xsi:type="dcterms:W3CDTF">2007-04-11T05:21:58Z</dcterms:modified>
  <cp:revision>198</cp:revision>
  <dc:subject/>
  <dc:title>情報モラルって何？</dc:title>
</cp:coreProperties>
</file>