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61D-5D86-4ED5-9747-392C3BE2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8E9-605F-46A2-8FA5-36D9BE3B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6B9-75A0-42DB-AE38-D5E44B3D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D4C-741A-4EC0-A9B2-8970BB81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EE7C-1728-40A0-8E18-9D416A1E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32F4-F979-4C36-86D9-4A033451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862D-48A6-4895-9ACF-9D376706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B05E-B3B1-43EA-914B-998156AB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D587-D7C3-4B9A-A68E-8AF5C914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9205-69F0-4B57-91D2-8D785189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E620-A6F7-424E-B590-17DDC273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352-15FA-4D2F-A214-770C2F84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3A8E-1763-4226-BEB0-D0FC90C0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B364-B16D-4AE5-85BA-A1C2E4FC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7F36-7CA7-4DAC-841F-64EE6D31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A152-BDEB-4201-93EC-30A34232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A575-6BDE-45EE-B582-42C730D7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A35-4B4B-445D-BC83-BB7D6915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39A-8DD4-425C-86EB-062BFD64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B56-C51F-4958-8A38-FCC3FD5D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EFC-78F4-43A2-B078-DBBBBF3B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CFF-C1C4-48A4-A217-D5D22601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85E-E94A-4430-A241-FAE05192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E73-8C42-493E-9824-A36E9CC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F12B-3BFB-4D09-B62A-D5689B5E0B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3E9F-FEDA-415A-B891-8E1BA3F3AD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a.wikipedia.org/wiki/&#20449;&#29992;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tiphishing.jp/home.html" TargetMode="External"/><Relationship Id="rId2" Type="http://schemas.openxmlformats.org/officeDocument/2006/relationships/hyperlink" Target="http://www.antiphishing.jp/home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  <a:ea typeface="ＭＳ ゴシック"/>
              </a:rPr>
              <a:t>フィッシング詐欺にご用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  <a:ea typeface="ＭＳ ゴシック"/>
              </a:rPr>
              <a:t>１　クレジットカードの普及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" descr="クレジットカード払い"/>
          <p:cNvPicPr/>
          <p:nvPr/>
        </p:nvPicPr>
        <p:blipFill>
          <a:blip r:embed="rId1"/>
          <a:stretch/>
        </p:blipFill>
        <p:spPr>
          <a:xfrm>
            <a:off x="3274920" y="-14420880"/>
            <a:ext cx="268632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クレジットカードの利用できる加盟店で、商品の購入に際しクレジットカードを提示すると、一旦、クレジットカード会社が加盟店への支払いを肩代わりし、後でカードの使用者に請求する仕組み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クレジットカード会社が、</a:t>
            </a:r>
            <a:r>
              <a:rPr b="1" lang="zh-CN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会員を</a:t>
            </a:r>
            <a:r>
              <a:rPr b="0" lang="zh-CN" sz="2400" spc="-1" strike="noStrike" u="sng">
                <a:solidFill>
                  <a:srgbClr val="990033"/>
                </a:solidFill>
                <a:uFillTx/>
                <a:latin typeface="ＭＳ 明朝"/>
                <a:ea typeface="ＭＳ 明朝"/>
                <a:hlinkClick r:id="rId2"/>
              </a:rPr>
              <a:t>信用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(credit)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するという意味</a:t>
            </a:r>
            <a:r>
              <a:rPr b="0" lang="zh-CN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で「クレジット」と名付けら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世界的に普及しており，支払いがスムーズに行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ビザ，マスターカードなどが世界的に有名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ネット売買でも代金決済に用いら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  <a:ea typeface="ＭＳ ゴシック"/>
              </a:rPr>
              <a:t>２　フィッシング詐欺と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700280"/>
            <a:ext cx="78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フィッシング（ｐｈｉｓｈｉｎｇ）とは，金融機関やオンラインショップなどからのＥメールを装い，住所，氏名，クレジットカード番号，暗証番号などの個人情報を入力させてそれらの情報を入手し，詐取（さしゅ）する行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4941720"/>
            <a:ext cx="684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ィッシングは「釣る」という意味のｆｉｓｈｉｎｇと，洗練されたという意味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ｓｏｐｈｉｓｔｉｃａｔｅｄをあわせた造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  <a:ea typeface="ＭＳ ゴシック"/>
              </a:rPr>
              <a:t>３　フィッシング詐欺の手口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Ｗｅｂサイトや電子メールを偽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66cc"/>
                </a:solidFill>
                <a:latin typeface="Arial"/>
              </a:rPr>
              <a:t>ニセのメールで，ニセのサイトに誘い込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情報やクレジットカード番号を盗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66cc"/>
                </a:solidFill>
                <a:latin typeface="Arial"/>
              </a:rPr>
              <a:t>ニセの入力フォームで情報を入力させ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情報を用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66cc"/>
                </a:solidFill>
                <a:latin typeface="Arial"/>
              </a:rPr>
              <a:t>個人情報やクレジット番号で買い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４　フィッシング対策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25200" y="1599840"/>
            <a:ext cx="77612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個人情報は電子メールで返信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電子メール中のリンクはクリック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電子メールに記載されたＷｅｂサイトのアドレスは直接入力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ィッシング詐欺の事例を知ってお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フィッシング対策協議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</a:t>
            </a:r>
            <a:r>
              <a:rPr b="0" lang="ja-JP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antiphishing.jp/home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9:58:00Z</dcterms:created>
  <dc:creator>sa-ara</dc:creator>
  <dc:description/>
  <dc:language>en-US</dc:language>
  <cp:lastModifiedBy>sa-ara</cp:lastModifiedBy>
  <dcterms:modified xsi:type="dcterms:W3CDTF">2008-02-20T00:21:15Z</dcterms:modified>
  <cp:revision>16</cp:revision>
  <dc:subject/>
  <dc:title>フィッシング</dc:title>
</cp:coreProperties>
</file>