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9EA-A863-4754-9028-43BEABC4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632-25DA-458C-9096-3E4B66BC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C91-9818-41F6-AF1C-2A5719EC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FB5-6FE9-406F-8207-96048859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CA80-CFAB-46D5-A5BE-B3675E37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551-8EC4-4C75-919A-471D22A0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FCF5-D05A-47C1-B8BB-0C7A0AF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74A-AF51-4074-97CB-54C496D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72D-D068-4543-B553-9C4561D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656F-16EE-4BB3-8A53-955F2A44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3324-D50D-4442-9813-AAFA67C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BE9-34E8-4AEF-A417-BBD5E466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B0D6-D592-40E5-AB40-A20FCDC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18C-DD79-46B7-AD16-E3AFB7F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267A-7839-436F-8CFA-B607558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35AA-BC9A-4A7C-9E1F-14C6C915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013-ABA8-438D-B942-B910E9D3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3BAD-5472-4F44-B3C4-8EF3EECB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55B1-6116-4220-82FE-B9C78B72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5799-C918-4600-9244-8CEC134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18FE-814A-49F6-B9C5-95738DF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D784-ADFB-4662-BA4A-374BF8C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D38-8D0F-42AE-8620-16943BB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5E4A-7167-42B3-9762-A715BDF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F77E-5993-40AD-AFE2-151C197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0308-5B00-4965-8379-19E74D9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5C41-C767-4C48-B25B-E6BB6AE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CB7E-D425-4967-83CF-926A3DFF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3A68-C6D1-4894-A0DD-5ACEE49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A1A0-A46E-4396-BABC-12AE9F7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596F-2CC6-4B05-87E9-93958648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71B4-74BE-4E5E-8311-F938456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8DE4-2101-4C55-BE6D-085F6D99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C9E-2555-4CF2-95A4-6939E94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042A-C3EB-4278-95BF-4F47C1E7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6ABD-EECB-45B9-846D-558BF87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4FA9-5B28-4878-86E7-C467D799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2456-983A-4FFF-8F2C-ADB901F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5E67-5A3E-4409-A1A4-C1584FC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AF63-EC6A-4F3A-BCB4-A8DC65E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BD89-437A-412D-AE5F-18E216C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217C-AE2C-4F93-B25E-D5C68BEE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1F25-917E-4AC6-8B22-21AA1B6F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CD25-BD6E-4643-AFE7-1DD9EF76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5CD-083F-4126-AF4D-A5C18BF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6EF6-9FFF-4C7B-9E2A-B4CF9DA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3209-1F6F-4F92-B7DD-A3544CA8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20F4-F27E-41AE-A1C2-45D1D4AE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16BA-C904-4225-9E6B-432BCA4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1791-646F-4AD4-9595-50CAA00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FC22-B6DA-4315-96FF-109FC7B9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123E-94E2-4DA9-9D22-090E8E6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D8F5-6296-4208-ACB8-CBD34F8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4882-B138-4DEE-AF7A-A63922C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63F4-AB65-4421-BCC0-F914FB7E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838-2322-434E-8ACC-3AEAA84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0863-41E9-45FB-BF06-B266836B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3950-7B61-465B-909F-B3AB16B7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6F01-030B-4E26-907B-AD968277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FBE4-6B7A-4AF2-B27B-DE0F294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2548-C18F-4617-9C31-FC7C617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E05F-A6F2-422F-8D20-AB556A13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8055-174E-47BF-B4F6-5BBEB3F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DB22-67AF-415D-B5B1-BA95ACD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B549-5031-4A7F-B394-242965E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898E-1058-413F-878A-90D5721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01F-553C-48C2-83F4-9891B82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7A5B-35CB-42CC-B856-63982B5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D1D6-B6B5-41B6-89D5-A2F232C0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42445-1747-44EC-A104-7B5DAC5A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DD54C-21F6-4B6D-BCB1-C9E69769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396E-AAA3-4144-82E3-19B83B7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3B93-9559-4EC9-85D2-3085624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CD38-A755-4488-BFA5-942F204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2346D-50DD-4E95-AC88-ECD58FFF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4D9D3-DB2F-4F08-9C42-6E5A722F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D70B3-64D7-486D-9D85-B27053A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601-C199-45AB-BDC1-A2F9AD3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AE6D-C037-400A-A41F-38545B1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677E5-0A31-40CA-9680-3232621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E74C-5F38-4EFD-8A06-6AB5946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6D44-9919-486D-A5B4-E31AD055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F213-F66B-4942-917F-158E95A7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BD1D-0CB9-43C3-BB5E-8E371D62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41C51-CC30-4178-98E9-C8FCA47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0307-CDCB-4A2D-994E-8EF6313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44EE-6FB2-422E-AFF2-04CA0DD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DC06-B78E-4FE8-88C5-3ABB40F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BEF-129D-4A1A-BC93-37F3CC9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D635-1152-4DDC-8C24-6CE945FD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B3B8-9AE5-4303-A57F-86E5BC4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ACF35-95C4-40CC-972C-6ED52EC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D7654-EB51-453D-99F6-94823A12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FEBEB-D60B-49EE-B674-A5DD375F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081E2-D29F-4B0C-80A0-E810A6CD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1695-E525-4F32-A010-4180EEE7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944-F135-4FD4-B4F9-157CA8D172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グループ化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フリーフォーム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フリーフォーム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フリーフォーム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フリーフォーム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コネクタ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D69-2778-469C-B3B4-47204A6B153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フリーフォーム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フリーフォーム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コネクタ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山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山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7A6-788B-448C-BB6D-293AABDE9B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フリーフォーム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フリーフォーム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線コネクタ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7C94-6203-472E-80A1-58C5372E9D1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4342-9AB8-4A95-9704-B755625920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フリーフォーム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リーフォーム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線コネクタ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260B-2F0A-4B50-9C4A-43CCCF60B3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9CC-8D27-496F-8CCA-DC70AD973A8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フリーフォーム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線コネクタ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山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山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20A-BAF6-47A1-AF43-F9E69B0F5B8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タイトル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64646"/>
                </a:solidFill>
                <a:latin typeface="Lucida Sans Unicode"/>
                <a:ea typeface="ＭＳ Ｐゴシック"/>
              </a:rPr>
              <a:t>～　インターネット依存症　～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どのようにしたら「インターネット依存症」にならずにすむ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もう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度グループに分かれて考えてみよう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ネットゲームやチャット，メール，掲示板などネットワークを使う時間は１日何時間と決めて使うようにする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家庭でも家の人と話し合ってルールを作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一日に使う時間を決めて節度を守りながらコンピュータやネットワークを使うよう心がけることが必要である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タイトル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ＷＥＢの閲覧やメール、チャット、ネットゲームなどにはまり、連日長時間行うことによって他人に迷惑をかけたり、社会生活に何らかの支障を生じさせる状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最近コンピュータを買ってもらった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A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君は，オンラインゲームに夢中になり，毎日，夜遅くまでパソコンの前に向かっています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D:\Users\Shimemura Seiichi\Documents\情報倫理プロジェクト\tng056a-s.jpg"/>
          <p:cNvPicPr/>
          <p:nvPr/>
        </p:nvPicPr>
        <p:blipFill>
          <a:blip r:embed="rId2"/>
          <a:stretch/>
        </p:blipFill>
        <p:spPr>
          <a:xfrm>
            <a:off x="4429080" y="2714760"/>
            <a:ext cx="3911760" cy="3708360"/>
          </a:xfrm>
          <a:prstGeom prst="rect">
            <a:avLst/>
          </a:prstGeom>
          <a:ln w="0">
            <a:noFill/>
          </a:ln>
        </p:spPr>
      </p:pic>
      <p:grpSp>
        <p:nvGrpSpPr>
          <p:cNvPr id="377" name="グループ化 12"/>
          <p:cNvGrpSpPr/>
          <p:nvPr/>
        </p:nvGrpSpPr>
        <p:grpSpPr>
          <a:xfrm>
            <a:off x="2214720" y="2786040"/>
            <a:ext cx="2357280" cy="1716120"/>
            <a:chOff x="2214720" y="2786040"/>
            <a:chExt cx="2357280" cy="1716120"/>
          </a:xfrm>
        </p:grpSpPr>
        <p:sp>
          <p:nvSpPr>
            <p:cNvPr id="378" name="正方形/長方形 4"/>
            <p:cNvSpPr/>
            <p:nvPr/>
          </p:nvSpPr>
          <p:spPr>
            <a:xfrm>
              <a:off x="2214720" y="2786040"/>
              <a:ext cx="2357280" cy="1714680"/>
            </a:xfrm>
            <a:prstGeom prst="rect">
              <a:avLst/>
            </a:prstGeom>
            <a:solidFill>
              <a:srgbClr val="002060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線コネクタ 7"/>
            <p:cNvSpPr/>
            <p:nvPr/>
          </p:nvSpPr>
          <p:spPr>
            <a:xfrm>
              <a:off x="3392640" y="2787480"/>
              <a:ext cx="1440" cy="171468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円/楕円 10"/>
            <p:cNvSpPr/>
            <p:nvPr/>
          </p:nvSpPr>
          <p:spPr>
            <a:xfrm>
              <a:off x="3753000" y="2928600"/>
              <a:ext cx="725400" cy="725400"/>
            </a:xfrm>
            <a:prstGeom prst="ellips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月 13"/>
          <p:cNvSpPr/>
          <p:nvPr/>
        </p:nvSpPr>
        <p:spPr>
          <a:xfrm rot="19914000">
            <a:off x="3786120" y="3000240"/>
            <a:ext cx="35712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星 5 14"/>
          <p:cNvSpPr/>
          <p:nvPr/>
        </p:nvSpPr>
        <p:spPr>
          <a:xfrm>
            <a:off x="2857680" y="3071880"/>
            <a:ext cx="142560" cy="142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星 5 15"/>
          <p:cNvSpPr/>
          <p:nvPr/>
        </p:nvSpPr>
        <p:spPr>
          <a:xfrm>
            <a:off x="2500200" y="3286080"/>
            <a:ext cx="214560" cy="214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星 5 16"/>
          <p:cNvSpPr/>
          <p:nvPr/>
        </p:nvSpPr>
        <p:spPr>
          <a:xfrm>
            <a:off x="2857680" y="3714840"/>
            <a:ext cx="142560" cy="142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そのため，学校では授業に集中できません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D:\Users\Shimemura Seiichi\Documents\情報倫理プロジェクト\clas011-s.jpg"/>
          <p:cNvPicPr/>
          <p:nvPr/>
        </p:nvPicPr>
        <p:blipFill>
          <a:blip r:embed="rId2"/>
          <a:stretch/>
        </p:blipFill>
        <p:spPr>
          <a:xfrm>
            <a:off x="4786200" y="3357720"/>
            <a:ext cx="3283200" cy="2428560"/>
          </a:xfrm>
          <a:prstGeom prst="rect">
            <a:avLst/>
          </a:prstGeom>
          <a:ln w="0">
            <a:noFill/>
          </a:ln>
        </p:spPr>
      </p:pic>
      <p:grpSp>
        <p:nvGrpSpPr>
          <p:cNvPr id="388" name="グループ化 8"/>
          <p:cNvGrpSpPr/>
          <p:nvPr/>
        </p:nvGrpSpPr>
        <p:grpSpPr>
          <a:xfrm>
            <a:off x="1785960" y="2571840"/>
            <a:ext cx="3071880" cy="2571840"/>
            <a:chOff x="1785960" y="2571840"/>
            <a:chExt cx="3071880" cy="2571840"/>
          </a:xfrm>
        </p:grpSpPr>
        <p:sp>
          <p:nvSpPr>
            <p:cNvPr id="389" name="雲形吹き出し 4"/>
            <p:cNvSpPr/>
            <p:nvPr/>
          </p:nvSpPr>
          <p:spPr>
            <a:xfrm>
              <a:off x="1785960" y="2571840"/>
              <a:ext cx="3071880" cy="2571840"/>
            </a:xfrm>
            <a:prstGeom prst="cloudCallout">
              <a:avLst>
                <a:gd name="adj1" fmla="val 68851"/>
                <a:gd name="adj2" fmla="val 22583"/>
              </a:avLst>
            </a:prstGeom>
            <a:solidFill>
              <a:srgbClr val="ffffff"/>
            </a:solidFill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4" descr="D:\Users\Shimemura Seiichi\Documents\情報倫理プロジェクト\ilm01_ba04012-s.jpg"/>
            <p:cNvPicPr/>
            <p:nvPr/>
          </p:nvPicPr>
          <p:blipFill>
            <a:blip r:embed="rId3"/>
            <a:stretch/>
          </p:blipFill>
          <p:spPr>
            <a:xfrm>
              <a:off x="2500200" y="2857320"/>
              <a:ext cx="170136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遅刻・欠席も多くなり，友達に誘われても，一緒に遊ばないようになりました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Users\Shimemura Seiichi\Documents\情報倫理プロジェクト\ilm03_aa03004-s.jpg"/>
          <p:cNvPicPr/>
          <p:nvPr/>
        </p:nvPicPr>
        <p:blipFill>
          <a:blip r:embed="rId2"/>
          <a:stretch/>
        </p:blipFill>
        <p:spPr>
          <a:xfrm>
            <a:off x="5214960" y="3643200"/>
            <a:ext cx="3263760" cy="2487600"/>
          </a:xfrm>
          <a:prstGeom prst="rect">
            <a:avLst/>
          </a:prstGeom>
          <a:ln w="0">
            <a:noFill/>
          </a:ln>
        </p:spPr>
      </p:pic>
      <p:grpSp>
        <p:nvGrpSpPr>
          <p:cNvPr id="394" name="グループ化 7"/>
          <p:cNvGrpSpPr/>
          <p:nvPr/>
        </p:nvGrpSpPr>
        <p:grpSpPr>
          <a:xfrm>
            <a:off x="1357200" y="2500200"/>
            <a:ext cx="3071880" cy="2571840"/>
            <a:chOff x="1357200" y="2500200"/>
            <a:chExt cx="3071880" cy="2571840"/>
          </a:xfrm>
        </p:grpSpPr>
        <p:sp>
          <p:nvSpPr>
            <p:cNvPr id="395" name="雲形吹き出し 8"/>
            <p:cNvSpPr/>
            <p:nvPr/>
          </p:nvSpPr>
          <p:spPr>
            <a:xfrm>
              <a:off x="1357200" y="2500200"/>
              <a:ext cx="3071880" cy="2571840"/>
            </a:xfrm>
            <a:prstGeom prst="cloudCallout">
              <a:avLst>
                <a:gd name="adj1" fmla="val 79333"/>
                <a:gd name="adj2" fmla="val 12569"/>
              </a:avLst>
            </a:prstGeom>
            <a:solidFill>
              <a:srgbClr val="ffffff"/>
            </a:solidFill>
            <a:ln w="55080">
              <a:solidFill>
                <a:srgbClr val="7d3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4" descr="D:\Users\Shimemura Seiichi\Documents\情報倫理プロジェクト\ilm01_ba04012-s.jpg"/>
            <p:cNvPicPr/>
            <p:nvPr/>
          </p:nvPicPr>
          <p:blipFill>
            <a:blip r:embed="rId3"/>
            <a:stretch/>
          </p:blipFill>
          <p:spPr>
            <a:xfrm>
              <a:off x="2071440" y="2785680"/>
              <a:ext cx="170136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家では，自分の部屋に閉じこもることが多くなり，家族が声をかけても応じようとしないので，とても心配しています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D:\Users\Shimemura Seiichi\Documents\情報倫理プロジェクト\tng056a-s.jpg"/>
          <p:cNvPicPr/>
          <p:nvPr/>
        </p:nvPicPr>
        <p:blipFill>
          <a:blip r:embed="rId2"/>
          <a:stretch/>
        </p:blipFill>
        <p:spPr>
          <a:xfrm>
            <a:off x="1214280" y="2714760"/>
            <a:ext cx="3015000" cy="2857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D:\Users\Shimemura Seiichi\Documents\情報倫理プロジェクト\ilm08_cd09007-s.jpg"/>
          <p:cNvPicPr/>
          <p:nvPr/>
        </p:nvPicPr>
        <p:blipFill>
          <a:blip r:embed="rId3"/>
          <a:stretch/>
        </p:blipFill>
        <p:spPr>
          <a:xfrm>
            <a:off x="5786280" y="32860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401" name="直線コネクタ 6"/>
          <p:cNvSpPr/>
          <p:nvPr/>
        </p:nvSpPr>
        <p:spPr>
          <a:xfrm flipH="1">
            <a:off x="4643280" y="2643120"/>
            <a:ext cx="1214640" cy="314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どうしてこのようなことになったか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A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君にどのような変化が起こっているか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を，グループに分かれて考えてみよ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人間不振にな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思考能力がなくな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攻撃的にな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現実の社会とのかかわりが面倒にな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寝不足で朝起きられな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学校へ行けない（登校拒否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現実の人間とのコミュニケーションができなくな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タイトル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3:04:27Z</dcterms:created>
  <dc:creator> </dc:creator>
  <dc:description/>
  <dc:language>en-US</dc:language>
  <cp:lastModifiedBy>石川県教育センター</cp:lastModifiedBy>
  <dcterms:modified xsi:type="dcterms:W3CDTF">2008-02-20T05:47:21Z</dcterms:modified>
  <cp:revision>29</cp:revision>
  <dc:subject/>
  <dc:title>心身と健康</dc:title>
</cp:coreProperties>
</file>