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06EC-7116-4F6C-BD3C-C0784929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8645-6DC3-43B8-A8BB-47017B4C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5EDB-CA7D-4DE0-9724-94956EDF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1327-2FBF-4847-BA11-7B193907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D65C-0522-4972-B4E0-85758984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A2A5-2F0C-40E0-A885-9D535600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FAC2-1B05-4B48-8164-7434EA96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FFF8-8A03-4868-B86E-95A7B3A5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5FBB-2851-46A2-A71F-3BD6B141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994B-14DC-40AF-939F-7ED82578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5C3D-6A3F-4B1F-A2BF-25E317EE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91BB-7649-431F-B279-3B880E7F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A645-C7ED-45C5-9CFA-D3F13E0B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3854-6DCE-432A-97F6-DF2320D9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8B5B-D7EE-4209-B766-8CBA67FA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15A6-D87C-489C-9387-C14DE079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B277-9DD9-4EF2-BA71-68FDDF7A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1590-204D-4A1E-99D3-B3F760ED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9574-20FA-4407-8E57-6D1911A7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455D-188E-4801-853D-4085B90D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83FC-EA57-4A93-9808-BF1B78A0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D1D4-915E-4A4D-8B91-D959748C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DFB0-25AF-48A9-A24F-510B1AD8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AB1C-6F2C-473F-8381-E561AC42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FD78-D1E1-424E-835B-F4E5AFCBA20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AB11-2E18-4C0E-960D-36F96F93F1F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omic Sans MS"/>
              </a:rPr>
              <a:t>　気をつけよう！</a:t>
            </a:r>
            <a:br>
              <a:rPr sz="5400"/>
            </a:br>
            <a:r>
              <a:rPr b="0" lang="zh-CN" sz="5400" spc="-1" strike="noStrike">
                <a:solidFill>
                  <a:srgbClr val="ff0000"/>
                </a:solidFill>
                <a:latin typeface="Comic Sans MS"/>
              </a:rPr>
              <a:t>　　　自分勝手なケイタイ利用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2843280" y="4508640"/>
            <a:ext cx="5148360" cy="1225440"/>
          </a:xfrm>
          <a:prstGeom prst="rect">
            <a:avLst/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　通話やメールをする場合は、歩いていたら立ち止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　り、自転車の運転中なら止まってからにし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　他人に迷惑をかけず、自分の安全も確保し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2" action="ppaction://hlinksldjump"/>
          </p:cNvPr>
          <p:cNvSpPr/>
          <p:nvPr/>
        </p:nvSpPr>
        <p:spPr>
          <a:xfrm>
            <a:off x="2843280" y="1916280"/>
            <a:ext cx="5184720" cy="718920"/>
          </a:xfrm>
          <a:prstGeom prst="rect">
            <a:avLst/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　飛行機に乗る前に、電源は切っておきましょう。また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　飛行機を降りるまで、電源を入れてはいけません。 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3" action="ppaction://hlinksldjump"/>
          </p:cNvPr>
          <p:cNvSpPr/>
          <p:nvPr/>
        </p:nvSpPr>
        <p:spPr>
          <a:xfrm>
            <a:off x="2843280" y="3645000"/>
            <a:ext cx="5148360" cy="718920"/>
          </a:xfrm>
          <a:prstGeom prst="rect">
            <a:avLst/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　病院に入る前に、携帯電話の電源を切るように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　がけ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4" action="ppaction://hlinksldjump"/>
          </p:cNvPr>
          <p:cNvSpPr/>
          <p:nvPr/>
        </p:nvSpPr>
        <p:spPr>
          <a:xfrm>
            <a:off x="2843280" y="2781360"/>
            <a:ext cx="5184720" cy="718920"/>
          </a:xfrm>
          <a:prstGeom prst="rect">
            <a:avLst/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　映画館やコンサート会場に入る前に、携帯電話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　電源は切るように心がけ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9880" y="260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Comic Sans MS"/>
                <a:ea typeface="HGP創英角ﾎﾟｯﾌﾟ体"/>
              </a:rPr>
              <a:t>まと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5" action="ppaction://hlinksldjump"/>
          </p:cNvPr>
          <p:cNvSpPr/>
          <p:nvPr/>
        </p:nvSpPr>
        <p:spPr>
          <a:xfrm>
            <a:off x="2843280" y="1052640"/>
            <a:ext cx="5184720" cy="718920"/>
          </a:xfrm>
          <a:prstGeom prst="rect">
            <a:avLst/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　バスや電車の中は、マナーモードに設定し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　通話は、電車やバスを降りてから行い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56520" y="5805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Comic Sans MS"/>
                <a:ea typeface="HGP創英角ﾎﾟｯﾌﾟ体"/>
              </a:rPr>
              <a:t>ＥＮ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1052640"/>
            <a:ext cx="2016360" cy="71892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HG創英角ｺﾞｼｯｸUB"/>
              </a:rPr>
              <a:t>バスや電車の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1916280"/>
            <a:ext cx="2016360" cy="71892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HG創英角ｺﾞｼｯｸUB"/>
              </a:rPr>
              <a:t>飛行機に乗ると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2781360"/>
            <a:ext cx="2016360" cy="71892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HG創英角ｺﾞｼｯｸUB"/>
              </a:rPr>
              <a:t>映画館な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3645000"/>
            <a:ext cx="2016360" cy="71892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HG創英角ｺﾞｼｯｸUB"/>
              </a:rPr>
              <a:t>病院で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4508640"/>
            <a:ext cx="2016360" cy="71892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HG創英角ｺﾞｼｯｸUB"/>
              </a:rPr>
              <a:t>通行中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50920" y="18900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Comic Sans MS"/>
                <a:ea typeface="HGP創英角ﾎﾟｯﾌﾟ体"/>
              </a:rPr>
              <a:t>携帯電話の使用が制限されてい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Comic Sans MS"/>
                <a:ea typeface="HGP創英角ﾎﾟｯﾌﾟ体"/>
              </a:rPr>
              <a:t>場所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547640" y="1341360"/>
            <a:ext cx="1584360" cy="2549520"/>
            <a:chOff x="1547640" y="1341360"/>
            <a:chExt cx="1584360" cy="254952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1547640" y="2854440"/>
              <a:ext cx="158436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1547640" y="1917720"/>
              <a:ext cx="1512720" cy="8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817640" y="13413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  <a:ea typeface="HGP創英角ﾎﾟｯﾌﾟ体"/>
                </a:rPr>
                <a:t>電車やバ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716360" y="1341360"/>
            <a:ext cx="2097000" cy="1501560"/>
            <a:chOff x="4716360" y="1341360"/>
            <a:chExt cx="2097000" cy="1501560"/>
          </a:xfrm>
        </p:grpSpPr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4716360" y="1701720"/>
              <a:ext cx="2097000" cy="11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241960" y="13413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  <a:ea typeface="HGP創英角ﾎﾟｯﾌﾟ体"/>
                </a:rPr>
                <a:t>航空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340000" y="3933720"/>
            <a:ext cx="2143080" cy="2490480"/>
            <a:chOff x="2340000" y="3933720"/>
            <a:chExt cx="2143080" cy="2490480"/>
          </a:xfrm>
        </p:grpSpPr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2340000" y="4366800"/>
              <a:ext cx="21430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531520" y="393372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  <a:ea typeface="HGP創英角ﾎﾟｯﾌﾟ体"/>
                </a:rPr>
                <a:t>コンサート会場な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796000" y="3933720"/>
            <a:ext cx="1784160" cy="2256120"/>
            <a:chOff x="5796000" y="3933720"/>
            <a:chExt cx="1784160" cy="2256120"/>
          </a:xfrm>
        </p:grpSpPr>
        <p:pic>
          <p:nvPicPr>
            <p:cNvPr id="164" name="" descr=""/>
            <p:cNvPicPr/>
            <p:nvPr/>
          </p:nvPicPr>
          <p:blipFill>
            <a:blip r:embed="rId5"/>
            <a:stretch/>
          </p:blipFill>
          <p:spPr>
            <a:xfrm>
              <a:off x="5796000" y="4367160"/>
              <a:ext cx="178416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6042960" y="3933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  <a:ea typeface="HGP創英角ﾎﾟｯﾌﾟ体"/>
                </a:rPr>
                <a:t>病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1116000" y="1844640"/>
            <a:ext cx="1800360" cy="2189160"/>
            <a:chOff x="1116000" y="1844640"/>
            <a:chExt cx="1800360" cy="218916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1116000" y="2997000"/>
              <a:ext cx="158436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>
              <a:off x="1403280" y="1844640"/>
              <a:ext cx="1513080" cy="88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"/>
          <p:cNvSpPr/>
          <p:nvPr/>
        </p:nvSpPr>
        <p:spPr>
          <a:xfrm>
            <a:off x="1370160" y="62064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Comic Sans MS"/>
                <a:ea typeface="HGP創英角ﾎﾟｯﾌﾟ体"/>
              </a:rPr>
              <a:t>電車やバスなど公共の乗り物の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59280" y="314496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人混みの中での通話は、大声で独り言を言っているのと同じです。多くの人に迷惑をかけ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940360" y="4292640"/>
            <a:ext cx="167652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2097000" cy="1141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08800" y="876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Comic Sans MS"/>
                <a:ea typeface="HGP創英角ﾎﾟｯﾌﾟ体"/>
              </a:rPr>
              <a:t>航空機の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59280" y="2697120"/>
            <a:ext cx="472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飛行機には、安全な運行のために多数の精密な電子機器が使われています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携帯電話から出る電波は、これらの電子機器の正常な動作や、管制官との交信に障害を与える可能性があります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708360" y="1628640"/>
            <a:ext cx="396252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2143080" cy="20574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542600" y="5875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Comic Sans MS"/>
                <a:ea typeface="HGP創英角ﾎﾟｯﾌﾟ体"/>
              </a:rPr>
              <a:t>コンサート会場や映画館な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32000" y="220500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静まりかえったコンサート会場では、マナーモードでも着信時のバイブレータなどが響く場合があります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また、映画のクライマックスで着信音が鳴ったら、周りの人たちはどう思うでしょう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372360" y="472428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1784520" cy="18223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496160" y="47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Comic Sans MS"/>
                <a:ea typeface="HGP創英角ﾎﾟｯﾌﾟ体"/>
              </a:rPr>
              <a:t>病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56000" y="198900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病院内では、検査や治療のために、精密な電子機器がたくさん使われています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携帯電話は、特に着信時や通話時に強い電波を出します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これらの電波は、医療用電子機器や心臓ペースメーカーなどに悪影響を与えることがあり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788000" y="4581360"/>
            <a:ext cx="1157040" cy="1944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588000" y="4508640"/>
            <a:ext cx="15066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44232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Comic Sans MS"/>
                <a:ea typeface="HGP創英角ﾎﾟｯﾌﾟ体"/>
              </a:rPr>
              <a:t>こんな光景、見かけません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651640" y="1268280"/>
            <a:ext cx="2665440" cy="2808000"/>
            <a:chOff x="5651640" y="1268280"/>
            <a:chExt cx="2665440" cy="2808000"/>
          </a:xfrm>
        </p:grpSpPr>
        <p:sp>
          <p:nvSpPr>
            <p:cNvPr id="187" name=""/>
            <p:cNvSpPr/>
            <p:nvPr/>
          </p:nvSpPr>
          <p:spPr>
            <a:xfrm>
              <a:off x="5651640" y="1268280"/>
              <a:ext cx="2665440" cy="2808000"/>
            </a:xfrm>
            <a:prstGeom prst="cloudCallout">
              <a:avLst>
                <a:gd name="adj1" fmla="val -61958"/>
                <a:gd name="adj2" fmla="val 21708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38600" y="205380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</a:rPr>
                <a:t>通学途中のＡ子さ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</a:rPr>
                <a:t>メールに夢中のよ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</a:rPr>
                <a:t>です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142960" y="5229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この後どんな危険が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46800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835280" y="3789360"/>
            <a:ext cx="66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自転車を運転しながら通話したり、メールをうつということは、片手運転をしているということです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当然、まわりに対する注意力は低下し、非常に危険です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実際に多くの事故が起きており、大けがをしたり、命を失った人もい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3527280" cy="2415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211640" y="549360"/>
            <a:ext cx="3527280" cy="2406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595520" y="3068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命を落とすことも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93640" y="306864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時には、加害者にも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248640" y="2272680"/>
            <a:ext cx="234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車両の運転者が、運転中に携帯電話を使ったことが原因で、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たくさんの交通事故が起こっています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携帯電話を使っているときは、周りへの注意力が低下すると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いう実験結果もあります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また、歩行中に携帯電話で会話やメールに熱中していて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や物にぶつかる場合もあります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たとえ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自転車でも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車両運転中の携帯電話の使用は、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処罰の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対象（道路交通法違反）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になります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620640"/>
            <a:ext cx="599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66cc"/>
                </a:solidFill>
                <a:latin typeface="Comic Sans MS"/>
                <a:ea typeface="HGP創英角ﾎﾟｯﾌﾟ体"/>
              </a:rPr>
              <a:t>危険！絶対やめよ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66cc"/>
                </a:solidFill>
                <a:latin typeface="Comic Sans MS"/>
                <a:ea typeface="HGP創英角ﾎﾟｯﾌﾟ体"/>
              </a:rPr>
              <a:t>　　ながら運転、ながら歩行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6:06:28Z</dcterms:created>
  <dc:creator>Toubu-2</dc:creator>
  <dc:description/>
  <dc:language>en-US</dc:language>
  <cp:lastModifiedBy>Toubu-2</cp:lastModifiedBy>
  <dcterms:modified xsi:type="dcterms:W3CDTF">2008-02-19T08:41:36Z</dcterms:modified>
  <cp:revision>11</cp:revision>
  <dc:subject/>
  <dc:title>　気をつけよう！ 　　　自分勝手なケイタイ利用</dc:title>
</cp:coreProperties>
</file>