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FF6B5-9D14-49AF-A9C4-8452DF971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4FD65-6E36-4C03-BED6-62EA5CEE4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FF5AE-78D9-4F92-BC86-258C911A9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3F8FF-A26B-4824-9C56-661C06EC5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B5287-D658-45BF-B5DF-DFC1055CD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4DA44-56A7-4CED-8442-3029F0B75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26E5D-A104-46A2-9F4A-29C28D0DE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F2578-DC5F-44FB-B43B-A3EFB2876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DBA3B-8A42-48D0-AEE6-11FBDDED7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12B21-8CFD-4DF2-848C-602C8DF94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9A009-40CB-47A5-9F0C-CDC3C744E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162EC-3306-46EC-A2BE-98A67598D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90871-B31D-4846-AF05-C210A1A6F583}" type="slidenum">
              <a:rPr b="0" lang="ja-JP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" Target="slide14.xm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15.xm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slide" Target="slide19.xm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slide" Target="slide18.xm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slide" Target="slide18.xm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slide" Target="slide17.xm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slide" Target="slide17.xm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6.xml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7.xml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9.xm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10.xm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" Target="slide11.xm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" Target="slide12.xm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13.xm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755640" y="620640"/>
            <a:ext cx="7416720" cy="468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ＭＳ Ｐゴシック"/>
              </a:rPr>
              <a:t>ストップ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ＭＳ Ｐゴシック"/>
              <a:ea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ＭＳ Ｐゴシック"/>
              </a:rPr>
              <a:t>ＴＨ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ＭＳ Ｐゴシック"/>
              <a:ea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ＭＳ Ｐゴシック"/>
              </a:rPr>
              <a:t>ケータイ依存症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ＭＳ Ｐゴシック"/>
              <a:ea typeface="ＭＳ Ｐゴシック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5986440" cy="28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アンケート④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HGS創英角ﾎﾟｯﾌﾟ体"/>
              </a:rPr>
              <a:t>友達と話すときは、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HGS創英角ﾎﾟｯﾌﾟ体"/>
              </a:rPr>
              <a:t>会話とメールのどちらが話しやすい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1116000" y="4149720"/>
            <a:ext cx="2665440" cy="1511280"/>
            <a:chOff x="1116000" y="4149720"/>
            <a:chExt cx="2665440" cy="1511280"/>
          </a:xfrm>
        </p:grpSpPr>
        <p:sp>
          <p:nvSpPr>
            <p:cNvPr id="110" name="">
              <a:hlinkClick r:id="rId1" action="ppaction://hlinksldjump"/>
            </p:cNvPr>
            <p:cNvSpPr/>
            <p:nvPr/>
          </p:nvSpPr>
          <p:spPr>
            <a:xfrm>
              <a:off x="1116000" y="4149720"/>
              <a:ext cx="2665440" cy="1511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 txBox="1"/>
            <p:nvPr/>
          </p:nvSpPr>
          <p:spPr>
            <a:xfrm>
              <a:off x="1619280" y="4581360"/>
              <a:ext cx="1657440" cy="609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ＭＳ 明朝"/>
                </a:rPr>
                <a:t>会話</a:t>
              </a:r>
              <a:endParaRPr b="1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ＭＳ 明朝"/>
                <a:ea typeface="ＭＳ 明朝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5148360" y="4149720"/>
            <a:ext cx="2665440" cy="1511280"/>
            <a:chOff x="5148360" y="4149720"/>
            <a:chExt cx="2665440" cy="1511280"/>
          </a:xfrm>
        </p:grpSpPr>
        <p:sp>
          <p:nvSpPr>
            <p:cNvPr id="113" name="">
              <a:hlinkClick r:id="rId2" action="ppaction://hlinksldjump"/>
            </p:cNvPr>
            <p:cNvSpPr/>
            <p:nvPr/>
          </p:nvSpPr>
          <p:spPr>
            <a:xfrm>
              <a:off x="5148360" y="4149720"/>
              <a:ext cx="2665440" cy="1511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 txBox="1"/>
            <p:nvPr/>
          </p:nvSpPr>
          <p:spPr>
            <a:xfrm>
              <a:off x="5651640" y="4581360"/>
              <a:ext cx="1657080" cy="609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ＭＳ 明朝"/>
                </a:rPr>
                <a:t>メール</a:t>
              </a:r>
              <a:endParaRPr b="1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ＭＳ 明朝"/>
                <a:ea typeface="ＭＳ 明朝"/>
              </a:endParaRPr>
            </a:p>
          </p:txBody>
        </p:sp>
      </p:grpSp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6227640" y="404640"/>
            <a:ext cx="2318040" cy="302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5986440" cy="28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アンケート④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HGS創英角ﾎﾟｯﾌﾟ体"/>
              </a:rPr>
              <a:t>友達と話すときは、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HGS創英角ﾎﾟｯﾌﾟ体"/>
              </a:rPr>
              <a:t>会話とメールのどちらが話しやすい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1116000" y="4149720"/>
            <a:ext cx="2665440" cy="1511280"/>
            <a:chOff x="1116000" y="4149720"/>
            <a:chExt cx="2665440" cy="1511280"/>
          </a:xfrm>
        </p:grpSpPr>
        <p:sp>
          <p:nvSpPr>
            <p:cNvPr id="118" name="">
              <a:hlinkClick r:id="rId1" action="ppaction://hlinksldjump"/>
            </p:cNvPr>
            <p:cNvSpPr/>
            <p:nvPr/>
          </p:nvSpPr>
          <p:spPr>
            <a:xfrm>
              <a:off x="1116000" y="4149720"/>
              <a:ext cx="2665440" cy="1511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 txBox="1"/>
            <p:nvPr/>
          </p:nvSpPr>
          <p:spPr>
            <a:xfrm>
              <a:off x="1619280" y="4581360"/>
              <a:ext cx="1657440" cy="609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ＭＳ 明朝"/>
                </a:rPr>
                <a:t>会話</a:t>
              </a:r>
              <a:endParaRPr b="1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ＭＳ 明朝"/>
                <a:ea typeface="ＭＳ 明朝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5148360" y="4149720"/>
            <a:ext cx="2665440" cy="1511280"/>
            <a:chOff x="5148360" y="4149720"/>
            <a:chExt cx="2665440" cy="1511280"/>
          </a:xfrm>
        </p:grpSpPr>
        <p:sp>
          <p:nvSpPr>
            <p:cNvPr id="121" name="">
              <a:hlinkClick r:id="rId2" action="ppaction://hlinksldjump"/>
            </p:cNvPr>
            <p:cNvSpPr/>
            <p:nvPr/>
          </p:nvSpPr>
          <p:spPr>
            <a:xfrm>
              <a:off x="5148360" y="4149720"/>
              <a:ext cx="2665440" cy="1511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 txBox="1"/>
            <p:nvPr/>
          </p:nvSpPr>
          <p:spPr>
            <a:xfrm>
              <a:off x="5651640" y="4581360"/>
              <a:ext cx="1657080" cy="609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ＭＳ 明朝"/>
                </a:rPr>
                <a:t>メール</a:t>
              </a:r>
              <a:endParaRPr b="1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ＭＳ 明朝"/>
                <a:ea typeface="ＭＳ 明朝"/>
              </a:endParaRPr>
            </a:p>
          </p:txBody>
        </p:sp>
      </p:grpSp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6227640" y="404640"/>
            <a:ext cx="2318040" cy="302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5986440" cy="28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アンケート⑤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HGS創英角ﾎﾟｯﾌﾟ体"/>
              </a:rPr>
              <a:t>携帯電話がないと、生きていけない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1116000" y="4149720"/>
            <a:ext cx="2665440" cy="1511280"/>
            <a:chOff x="1116000" y="4149720"/>
            <a:chExt cx="2665440" cy="1511280"/>
          </a:xfrm>
        </p:grpSpPr>
        <p:sp>
          <p:nvSpPr>
            <p:cNvPr id="126" name="">
              <a:hlinkClick r:id="rId1" action="ppaction://hlinksldjump"/>
            </p:cNvPr>
            <p:cNvSpPr/>
            <p:nvPr/>
          </p:nvSpPr>
          <p:spPr>
            <a:xfrm>
              <a:off x="1116000" y="4149720"/>
              <a:ext cx="2665440" cy="1511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 txBox="1"/>
            <p:nvPr/>
          </p:nvSpPr>
          <p:spPr>
            <a:xfrm>
              <a:off x="1619280" y="4581360"/>
              <a:ext cx="1657440" cy="609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ＭＳ 明朝"/>
                </a:rPr>
                <a:t>YES</a:t>
              </a:r>
              <a:endParaRPr b="1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ＭＳ 明朝"/>
                <a:ea typeface="ＭＳ 明朝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5148360" y="4149720"/>
            <a:ext cx="2665440" cy="1511280"/>
            <a:chOff x="5148360" y="4149720"/>
            <a:chExt cx="2665440" cy="1511280"/>
          </a:xfrm>
        </p:grpSpPr>
        <p:sp>
          <p:nvSpPr>
            <p:cNvPr id="129" name="">
              <a:hlinkClick r:id="rId2" action="ppaction://hlinksldjump"/>
            </p:cNvPr>
            <p:cNvSpPr/>
            <p:nvPr/>
          </p:nvSpPr>
          <p:spPr>
            <a:xfrm>
              <a:off x="5148360" y="4149720"/>
              <a:ext cx="2665440" cy="1511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 txBox="1"/>
            <p:nvPr/>
          </p:nvSpPr>
          <p:spPr>
            <a:xfrm>
              <a:off x="5651640" y="4581360"/>
              <a:ext cx="1657080" cy="609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ＭＳ 明朝"/>
                </a:rPr>
                <a:t>N O</a:t>
              </a:r>
              <a:endParaRPr b="1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ＭＳ 明朝"/>
                <a:ea typeface="ＭＳ 明朝"/>
              </a:endParaRPr>
            </a:p>
          </p:txBody>
        </p:sp>
      </p:grpSp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5940360" y="476280"/>
            <a:ext cx="2255760" cy="2879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5986440" cy="28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アンケート⑤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HGS創英角ﾎﾟｯﾌﾟ体"/>
              </a:rPr>
              <a:t>携帯電話がないと、生きていけない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1116000" y="4149720"/>
            <a:ext cx="2665440" cy="1511280"/>
            <a:chOff x="1116000" y="4149720"/>
            <a:chExt cx="2665440" cy="1511280"/>
          </a:xfrm>
        </p:grpSpPr>
        <p:sp>
          <p:nvSpPr>
            <p:cNvPr id="134" name="">
              <a:hlinkClick r:id="rId1" action="ppaction://hlinksldjump"/>
            </p:cNvPr>
            <p:cNvSpPr/>
            <p:nvPr/>
          </p:nvSpPr>
          <p:spPr>
            <a:xfrm>
              <a:off x="1116000" y="4149720"/>
              <a:ext cx="2665440" cy="1511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 txBox="1"/>
            <p:nvPr/>
          </p:nvSpPr>
          <p:spPr>
            <a:xfrm>
              <a:off x="1619280" y="4581360"/>
              <a:ext cx="1657440" cy="609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ＭＳ 明朝"/>
                </a:rPr>
                <a:t>YES</a:t>
              </a:r>
              <a:endParaRPr b="1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ＭＳ 明朝"/>
                <a:ea typeface="ＭＳ 明朝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5148360" y="4149720"/>
            <a:ext cx="2665440" cy="1511280"/>
            <a:chOff x="5148360" y="4149720"/>
            <a:chExt cx="2665440" cy="1511280"/>
          </a:xfrm>
        </p:grpSpPr>
        <p:sp>
          <p:nvSpPr>
            <p:cNvPr id="137" name="">
              <a:hlinkClick r:id="rId2" action="ppaction://hlinksldjump"/>
            </p:cNvPr>
            <p:cNvSpPr/>
            <p:nvPr/>
          </p:nvSpPr>
          <p:spPr>
            <a:xfrm>
              <a:off x="5148360" y="4149720"/>
              <a:ext cx="2665440" cy="1511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 txBox="1"/>
            <p:nvPr/>
          </p:nvSpPr>
          <p:spPr>
            <a:xfrm>
              <a:off x="5651640" y="4581360"/>
              <a:ext cx="1657080" cy="609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ＭＳ 明朝"/>
                </a:rPr>
                <a:t>N O</a:t>
              </a:r>
              <a:endParaRPr b="1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ＭＳ 明朝"/>
                <a:ea typeface="ＭＳ 明朝"/>
              </a:endParaRPr>
            </a:p>
          </p:txBody>
        </p:sp>
      </p:grpSp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5940360" y="476280"/>
            <a:ext cx="2255760" cy="2879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5986440" cy="28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アンケート⑤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HGS創英角ﾎﾟｯﾌﾟ体"/>
              </a:rPr>
              <a:t>携帯電話がないと、生きていけない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1116000" y="4149720"/>
            <a:ext cx="2665440" cy="1511280"/>
            <a:chOff x="1116000" y="4149720"/>
            <a:chExt cx="2665440" cy="1511280"/>
          </a:xfrm>
        </p:grpSpPr>
        <p:sp>
          <p:nvSpPr>
            <p:cNvPr id="142" name="">
              <a:hlinkClick r:id="rId1" action="ppaction://hlinksldjump"/>
            </p:cNvPr>
            <p:cNvSpPr/>
            <p:nvPr/>
          </p:nvSpPr>
          <p:spPr>
            <a:xfrm>
              <a:off x="1116000" y="4149720"/>
              <a:ext cx="2665440" cy="1511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 txBox="1"/>
            <p:nvPr/>
          </p:nvSpPr>
          <p:spPr>
            <a:xfrm>
              <a:off x="1619280" y="4581360"/>
              <a:ext cx="1657440" cy="609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ＭＳ 明朝"/>
                </a:rPr>
                <a:t>YES</a:t>
              </a:r>
              <a:endParaRPr b="1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ＭＳ 明朝"/>
                <a:ea typeface="ＭＳ 明朝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5148360" y="4149720"/>
            <a:ext cx="2665440" cy="1511280"/>
            <a:chOff x="5148360" y="4149720"/>
            <a:chExt cx="2665440" cy="1511280"/>
          </a:xfrm>
        </p:grpSpPr>
        <p:sp>
          <p:nvSpPr>
            <p:cNvPr id="145" name="">
              <a:hlinkClick r:id="rId2" action="ppaction://hlinksldjump"/>
            </p:cNvPr>
            <p:cNvSpPr/>
            <p:nvPr/>
          </p:nvSpPr>
          <p:spPr>
            <a:xfrm>
              <a:off x="5148360" y="4149720"/>
              <a:ext cx="2665440" cy="1511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 txBox="1"/>
            <p:nvPr/>
          </p:nvSpPr>
          <p:spPr>
            <a:xfrm>
              <a:off x="5651640" y="4581360"/>
              <a:ext cx="1657080" cy="609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ＭＳ 明朝"/>
                </a:rPr>
                <a:t>N O</a:t>
              </a:r>
              <a:endParaRPr b="1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ＭＳ 明朝"/>
                <a:ea typeface="ＭＳ 明朝"/>
              </a:endParaRPr>
            </a:p>
          </p:txBody>
        </p:sp>
      </p:grpSp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5940360" y="476280"/>
            <a:ext cx="2255760" cy="2879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5986440" cy="28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アンケート⑤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HGS創英角ﾎﾟｯﾌﾟ体"/>
              </a:rPr>
              <a:t>携帯電話がないと、生きていけない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116000" y="4149720"/>
            <a:ext cx="2665440" cy="1511280"/>
            <a:chOff x="1116000" y="4149720"/>
            <a:chExt cx="2665440" cy="1511280"/>
          </a:xfrm>
        </p:grpSpPr>
        <p:sp>
          <p:nvSpPr>
            <p:cNvPr id="150" name="">
              <a:hlinkClick r:id="rId1" action="ppaction://hlinksldjump"/>
            </p:cNvPr>
            <p:cNvSpPr/>
            <p:nvPr/>
          </p:nvSpPr>
          <p:spPr>
            <a:xfrm>
              <a:off x="1116000" y="4149720"/>
              <a:ext cx="2665440" cy="1511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 txBox="1"/>
            <p:nvPr/>
          </p:nvSpPr>
          <p:spPr>
            <a:xfrm>
              <a:off x="1619280" y="4581360"/>
              <a:ext cx="1657440" cy="609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ＭＳ 明朝"/>
                </a:rPr>
                <a:t>YES</a:t>
              </a:r>
              <a:endParaRPr b="1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ＭＳ 明朝"/>
                <a:ea typeface="ＭＳ 明朝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5148360" y="4149720"/>
            <a:ext cx="2665440" cy="1511280"/>
            <a:chOff x="5148360" y="4149720"/>
            <a:chExt cx="2665440" cy="1511280"/>
          </a:xfrm>
        </p:grpSpPr>
        <p:sp>
          <p:nvSpPr>
            <p:cNvPr id="153" name="">
              <a:hlinkClick r:id="rId2" action="ppaction://hlinksldjump"/>
            </p:cNvPr>
            <p:cNvSpPr/>
            <p:nvPr/>
          </p:nvSpPr>
          <p:spPr>
            <a:xfrm>
              <a:off x="5148360" y="4149720"/>
              <a:ext cx="2665440" cy="1511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 txBox="1"/>
            <p:nvPr/>
          </p:nvSpPr>
          <p:spPr>
            <a:xfrm>
              <a:off x="5651640" y="4581360"/>
              <a:ext cx="1657080" cy="609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ＭＳ 明朝"/>
                </a:rPr>
                <a:t>N O</a:t>
              </a:r>
              <a:endParaRPr b="1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ＭＳ 明朝"/>
                <a:ea typeface="ＭＳ 明朝"/>
              </a:endParaRPr>
            </a:p>
          </p:txBody>
        </p:sp>
      </p:grpSp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>
            <a:off x="5940360" y="476280"/>
            <a:ext cx="2255760" cy="2879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5986440" cy="28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アンケート⑤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HGS創英角ﾎﾟｯﾌﾟ体"/>
              </a:rPr>
              <a:t>携帯電話がないと、生きていけない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1116000" y="4149720"/>
            <a:ext cx="2665440" cy="1511280"/>
            <a:chOff x="1116000" y="4149720"/>
            <a:chExt cx="2665440" cy="1511280"/>
          </a:xfrm>
        </p:grpSpPr>
        <p:sp>
          <p:nvSpPr>
            <p:cNvPr id="158" name="">
              <a:hlinkClick r:id="rId1" action="ppaction://hlinksldjump"/>
            </p:cNvPr>
            <p:cNvSpPr/>
            <p:nvPr/>
          </p:nvSpPr>
          <p:spPr>
            <a:xfrm>
              <a:off x="1116000" y="4149720"/>
              <a:ext cx="2665440" cy="1511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1619280" y="4581360"/>
              <a:ext cx="1657440" cy="609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ＭＳ 明朝"/>
                </a:rPr>
                <a:t>YES</a:t>
              </a:r>
              <a:endParaRPr b="1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ＭＳ 明朝"/>
                <a:ea typeface="ＭＳ 明朝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5148360" y="4149720"/>
            <a:ext cx="2665440" cy="1511280"/>
            <a:chOff x="5148360" y="4149720"/>
            <a:chExt cx="2665440" cy="1511280"/>
          </a:xfrm>
        </p:grpSpPr>
        <p:sp>
          <p:nvSpPr>
            <p:cNvPr id="161" name="">
              <a:hlinkClick r:id="rId2" action="ppaction://hlinksldjump"/>
            </p:cNvPr>
            <p:cNvSpPr/>
            <p:nvPr/>
          </p:nvSpPr>
          <p:spPr>
            <a:xfrm>
              <a:off x="5148360" y="4149720"/>
              <a:ext cx="2665440" cy="1511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 txBox="1"/>
            <p:nvPr/>
          </p:nvSpPr>
          <p:spPr>
            <a:xfrm>
              <a:off x="5651640" y="4581360"/>
              <a:ext cx="1657080" cy="609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ＭＳ 明朝"/>
                </a:rPr>
                <a:t>N O</a:t>
              </a:r>
              <a:endParaRPr b="1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ＭＳ 明朝"/>
                <a:ea typeface="ＭＳ 明朝"/>
              </a:endParaRPr>
            </a:p>
          </p:txBody>
        </p:sp>
      </p:grpSp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5940360" y="476280"/>
            <a:ext cx="2255760" cy="2879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アンケート結果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99ff"/>
                </a:solidFill>
                <a:latin typeface="Arial"/>
                <a:ea typeface="ＭＳ ゴシック"/>
              </a:rPr>
              <a:t>　あなたに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99ff"/>
                </a:solidFill>
                <a:latin typeface="Arial"/>
                <a:ea typeface="ＭＳ ゴシック"/>
              </a:rPr>
              <a:t>ケータイ依存症の疑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99ff"/>
                </a:solidFill>
                <a:latin typeface="Arial"/>
                <a:ea typeface="ＭＳ ゴシック"/>
              </a:rPr>
              <a:t>はありません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421000" cy="306864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6470640" y="0"/>
            <a:ext cx="2673360" cy="3240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0"/>
                            </p:stCondLst>
                            <p:childTnLst>
                              <p:par>
                                <p:cTn id="11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1" dur="2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4" dur="20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7" dur="200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アンケート結果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  <a:ea typeface="ＭＳ ゴシック"/>
              </a:rPr>
              <a:t>　あなたはすでに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Arial"/>
                <a:ea typeface="HG行書体"/>
              </a:rPr>
              <a:t>ケータイ依存症予備軍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  <a:ea typeface="ＭＳ ゴシック"/>
              </a:rPr>
              <a:t>です…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900000" y="3500280"/>
            <a:ext cx="2330640" cy="2976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5000"/>
                            </p:stCondLst>
                            <p:childTnLst>
                              <p:par>
                                <p:cTn id="13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9" dur="20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2" dur="20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5" dur="20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アンケート結果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  <a:ea typeface="ＭＳ ゴシック"/>
              </a:rPr>
              <a:t>　あなたはすでに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Arial"/>
                <a:ea typeface="HG行書体"/>
              </a:rPr>
              <a:t>ケータイ依存症</a:t>
            </a:r>
            <a:r>
              <a:rPr b="0" lang="zh-CN" sz="4400" spc="-1" strike="noStrike">
                <a:solidFill>
                  <a:srgbClr val="ff0000"/>
                </a:solidFill>
                <a:latin typeface="Arial"/>
                <a:ea typeface="ＭＳ ゴシック"/>
              </a:rPr>
              <a:t>の疑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  <a:ea typeface="ＭＳ ゴシック"/>
              </a:rPr>
              <a:t>があります…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468360" y="3933720"/>
            <a:ext cx="2049480" cy="259740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6788160" y="260280"/>
            <a:ext cx="2039760" cy="266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3" dur="20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6" dur="20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9" dur="2000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5986440" cy="28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アンケート①</a:t>
            </a:r>
            <a:br>
              <a:rPr sz="2000"/>
            </a:b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HGS創英角ﾎﾟｯﾌﾟ体"/>
              </a:rPr>
              <a:t>あなたは携帯電話を持っていますか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1116000" y="4149720"/>
            <a:ext cx="2665440" cy="1511280"/>
            <a:chOff x="1116000" y="4149720"/>
            <a:chExt cx="2665440" cy="1511280"/>
          </a:xfrm>
        </p:grpSpPr>
        <p:sp>
          <p:nvSpPr>
            <p:cNvPr id="44" name="">
              <a:hlinkClick r:id="rId1" action="ppaction://hlinksldjump"/>
            </p:cNvPr>
            <p:cNvSpPr/>
            <p:nvPr/>
          </p:nvSpPr>
          <p:spPr>
            <a:xfrm>
              <a:off x="1116000" y="4149720"/>
              <a:ext cx="2665440" cy="1511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 txBox="1"/>
            <p:nvPr/>
          </p:nvSpPr>
          <p:spPr>
            <a:xfrm>
              <a:off x="1619280" y="4581360"/>
              <a:ext cx="1657440" cy="609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ＭＳ 明朝"/>
                </a:rPr>
                <a:t>YES</a:t>
              </a:r>
              <a:endParaRPr b="1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ＭＳ 明朝"/>
                <a:ea typeface="ＭＳ 明朝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48360" y="4149720"/>
            <a:ext cx="2665440" cy="1511280"/>
            <a:chOff x="5148360" y="4149720"/>
            <a:chExt cx="2665440" cy="1511280"/>
          </a:xfrm>
        </p:grpSpPr>
        <p:sp>
          <p:nvSpPr>
            <p:cNvPr id="47" name="">
              <a:hlinkClick r:id="rId2" action="ppaction://hlinksldjump"/>
            </p:cNvPr>
            <p:cNvSpPr/>
            <p:nvPr/>
          </p:nvSpPr>
          <p:spPr>
            <a:xfrm>
              <a:off x="5148360" y="4149720"/>
              <a:ext cx="2665440" cy="1511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 txBox="1"/>
            <p:nvPr/>
          </p:nvSpPr>
          <p:spPr>
            <a:xfrm>
              <a:off x="5651640" y="4581360"/>
              <a:ext cx="1657080" cy="609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ＭＳ 明朝"/>
                </a:rPr>
                <a:t>N O</a:t>
              </a:r>
              <a:endParaRPr b="1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ＭＳ 明朝"/>
                <a:ea typeface="ＭＳ 明朝"/>
              </a:endParaRPr>
            </a:p>
          </p:txBody>
        </p:sp>
      </p:grp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6012000" y="549360"/>
            <a:ext cx="2514600" cy="2495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5986440" cy="28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アンケート②</a:t>
            </a:r>
            <a:br>
              <a:rPr sz="3600"/>
            </a:b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HGS創英角ﾎﾟｯﾌﾟ体"/>
              </a:rPr>
              <a:t>夜遅くまでメールをしていませんか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116000" y="4149720"/>
            <a:ext cx="2665440" cy="1511280"/>
            <a:chOff x="1116000" y="4149720"/>
            <a:chExt cx="2665440" cy="1511280"/>
          </a:xfrm>
        </p:grpSpPr>
        <p:sp>
          <p:nvSpPr>
            <p:cNvPr id="52" name="">
              <a:hlinkClick r:id="rId1" action="ppaction://hlinksldjump"/>
            </p:cNvPr>
            <p:cNvSpPr/>
            <p:nvPr/>
          </p:nvSpPr>
          <p:spPr>
            <a:xfrm>
              <a:off x="1116000" y="4149720"/>
              <a:ext cx="2665440" cy="1511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 txBox="1"/>
            <p:nvPr/>
          </p:nvSpPr>
          <p:spPr>
            <a:xfrm>
              <a:off x="1619280" y="4581360"/>
              <a:ext cx="1657440" cy="609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ＭＳ 明朝"/>
                </a:rPr>
                <a:t>YES</a:t>
              </a:r>
              <a:endParaRPr b="1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ＭＳ 明朝"/>
                <a:ea typeface="ＭＳ 明朝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5148360" y="4149720"/>
            <a:ext cx="2665440" cy="1511280"/>
            <a:chOff x="5148360" y="4149720"/>
            <a:chExt cx="2665440" cy="1511280"/>
          </a:xfrm>
        </p:grpSpPr>
        <p:sp>
          <p:nvSpPr>
            <p:cNvPr id="55" name="">
              <a:hlinkClick r:id="rId2" action="ppaction://hlinksldjump"/>
            </p:cNvPr>
            <p:cNvSpPr/>
            <p:nvPr/>
          </p:nvSpPr>
          <p:spPr>
            <a:xfrm>
              <a:off x="5148360" y="4149720"/>
              <a:ext cx="2665440" cy="1511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 txBox="1"/>
            <p:nvPr/>
          </p:nvSpPr>
          <p:spPr>
            <a:xfrm>
              <a:off x="5651640" y="4581360"/>
              <a:ext cx="1657080" cy="609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ＭＳ 明朝"/>
                </a:rPr>
                <a:t>N O</a:t>
              </a:r>
              <a:endParaRPr b="1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ＭＳ 明朝"/>
                <a:ea typeface="ＭＳ 明朝"/>
              </a:endParaRPr>
            </a:p>
          </p:txBody>
        </p:sp>
      </p:grpSp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6300720" y="260280"/>
            <a:ext cx="1584360" cy="15843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7308720" y="1844640"/>
            <a:ext cx="1405080" cy="216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5986440" cy="28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アンケート②</a:t>
            </a:r>
            <a:br>
              <a:rPr sz="3600"/>
            </a:b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HGS創英角ﾎﾟｯﾌﾟ体"/>
              </a:rPr>
              <a:t>夜遅くまでメールをしていませんか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1116000" y="4149720"/>
            <a:ext cx="2665440" cy="1511280"/>
            <a:chOff x="1116000" y="4149720"/>
            <a:chExt cx="2665440" cy="1511280"/>
          </a:xfrm>
        </p:grpSpPr>
        <p:sp>
          <p:nvSpPr>
            <p:cNvPr id="61" name="">
              <a:hlinkClick r:id="rId1" action="ppaction://hlinksldjump"/>
            </p:cNvPr>
            <p:cNvSpPr/>
            <p:nvPr/>
          </p:nvSpPr>
          <p:spPr>
            <a:xfrm>
              <a:off x="1116000" y="4149720"/>
              <a:ext cx="2665440" cy="1511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 txBox="1"/>
            <p:nvPr/>
          </p:nvSpPr>
          <p:spPr>
            <a:xfrm>
              <a:off x="1619280" y="4581360"/>
              <a:ext cx="1657440" cy="609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ＭＳ 明朝"/>
                </a:rPr>
                <a:t>YES</a:t>
              </a:r>
              <a:endParaRPr b="1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ＭＳ 明朝"/>
                <a:ea typeface="ＭＳ 明朝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5148360" y="4149720"/>
            <a:ext cx="2665440" cy="1511280"/>
            <a:chOff x="5148360" y="4149720"/>
            <a:chExt cx="2665440" cy="1511280"/>
          </a:xfrm>
        </p:grpSpPr>
        <p:sp>
          <p:nvSpPr>
            <p:cNvPr id="64" name="">
              <a:hlinkClick r:id="rId2" action="ppaction://hlinksldjump"/>
            </p:cNvPr>
            <p:cNvSpPr/>
            <p:nvPr/>
          </p:nvSpPr>
          <p:spPr>
            <a:xfrm>
              <a:off x="5148360" y="4149720"/>
              <a:ext cx="2665440" cy="1511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 txBox="1"/>
            <p:nvPr/>
          </p:nvSpPr>
          <p:spPr>
            <a:xfrm>
              <a:off x="5651640" y="4581360"/>
              <a:ext cx="1657080" cy="609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ＭＳ 明朝"/>
                </a:rPr>
                <a:t>N O</a:t>
              </a:r>
              <a:endParaRPr b="1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ＭＳ 明朝"/>
                <a:ea typeface="ＭＳ 明朝"/>
              </a:endParaRPr>
            </a:p>
          </p:txBody>
        </p:sp>
      </p:grpSp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6300720" y="260280"/>
            <a:ext cx="1584360" cy="158436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7308720" y="1844640"/>
            <a:ext cx="1405080" cy="216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5986440" cy="28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アンケート③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HGS創英角ﾎﾟｯﾌﾟ体"/>
              </a:rPr>
              <a:t>メールの返事は何よりも先に返さなければいけない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1116000" y="4149720"/>
            <a:ext cx="2665440" cy="1511280"/>
            <a:chOff x="1116000" y="4149720"/>
            <a:chExt cx="2665440" cy="1511280"/>
          </a:xfrm>
        </p:grpSpPr>
        <p:sp>
          <p:nvSpPr>
            <p:cNvPr id="70" name="">
              <a:hlinkClick r:id="rId1" action="ppaction://hlinksldjump"/>
            </p:cNvPr>
            <p:cNvSpPr/>
            <p:nvPr/>
          </p:nvSpPr>
          <p:spPr>
            <a:xfrm>
              <a:off x="1116000" y="4149720"/>
              <a:ext cx="2665440" cy="1511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 txBox="1"/>
            <p:nvPr/>
          </p:nvSpPr>
          <p:spPr>
            <a:xfrm>
              <a:off x="1619280" y="4581360"/>
              <a:ext cx="1657440" cy="609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ＭＳ 明朝"/>
                </a:rPr>
                <a:t>YES</a:t>
              </a:r>
              <a:endParaRPr b="1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ＭＳ 明朝"/>
                <a:ea typeface="ＭＳ 明朝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5148360" y="4149720"/>
            <a:ext cx="2665440" cy="1511280"/>
            <a:chOff x="5148360" y="4149720"/>
            <a:chExt cx="2665440" cy="1511280"/>
          </a:xfrm>
        </p:grpSpPr>
        <p:sp>
          <p:nvSpPr>
            <p:cNvPr id="73" name="">
              <a:hlinkClick r:id="rId2" action="ppaction://hlinksldjump"/>
            </p:cNvPr>
            <p:cNvSpPr/>
            <p:nvPr/>
          </p:nvSpPr>
          <p:spPr>
            <a:xfrm>
              <a:off x="5148360" y="4149720"/>
              <a:ext cx="2665440" cy="1511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 txBox="1"/>
            <p:nvPr/>
          </p:nvSpPr>
          <p:spPr>
            <a:xfrm>
              <a:off x="5651640" y="4581360"/>
              <a:ext cx="1657080" cy="609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ＭＳ 明朝"/>
                </a:rPr>
                <a:t>N O</a:t>
              </a:r>
              <a:endParaRPr b="1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ＭＳ 明朝"/>
                <a:ea typeface="ＭＳ 明朝"/>
              </a:endParaRPr>
            </a:p>
          </p:txBody>
        </p:sp>
      </p:grpSp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6451560" y="189000"/>
            <a:ext cx="2365560" cy="338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5986440" cy="28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アンケート③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HGS創英角ﾎﾟｯﾌﾟ体"/>
              </a:rPr>
              <a:t>メールの返事は何よりも先に返さなければいけない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1116000" y="4149720"/>
            <a:ext cx="2665440" cy="1511280"/>
            <a:chOff x="1116000" y="4149720"/>
            <a:chExt cx="2665440" cy="1511280"/>
          </a:xfrm>
        </p:grpSpPr>
        <p:sp>
          <p:nvSpPr>
            <p:cNvPr id="78" name="">
              <a:hlinkClick r:id="rId1" action="ppaction://hlinksldjump"/>
            </p:cNvPr>
            <p:cNvSpPr/>
            <p:nvPr/>
          </p:nvSpPr>
          <p:spPr>
            <a:xfrm>
              <a:off x="1116000" y="4149720"/>
              <a:ext cx="2665440" cy="1511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 txBox="1"/>
            <p:nvPr/>
          </p:nvSpPr>
          <p:spPr>
            <a:xfrm>
              <a:off x="1619280" y="4581360"/>
              <a:ext cx="1657440" cy="609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ＭＳ 明朝"/>
                </a:rPr>
                <a:t>YES</a:t>
              </a:r>
              <a:endParaRPr b="1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ＭＳ 明朝"/>
                <a:ea typeface="ＭＳ 明朝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5148360" y="4149720"/>
            <a:ext cx="2665440" cy="1511280"/>
            <a:chOff x="5148360" y="4149720"/>
            <a:chExt cx="2665440" cy="1511280"/>
          </a:xfrm>
        </p:grpSpPr>
        <p:sp>
          <p:nvSpPr>
            <p:cNvPr id="81" name="">
              <a:hlinkClick r:id="rId2" action="ppaction://hlinksldjump"/>
            </p:cNvPr>
            <p:cNvSpPr/>
            <p:nvPr/>
          </p:nvSpPr>
          <p:spPr>
            <a:xfrm>
              <a:off x="5148360" y="4149720"/>
              <a:ext cx="2665440" cy="1511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 txBox="1"/>
            <p:nvPr/>
          </p:nvSpPr>
          <p:spPr>
            <a:xfrm>
              <a:off x="5651640" y="4581360"/>
              <a:ext cx="1657080" cy="609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ＭＳ 明朝"/>
                </a:rPr>
                <a:t>N O</a:t>
              </a:r>
              <a:endParaRPr b="1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ＭＳ 明朝"/>
                <a:ea typeface="ＭＳ 明朝"/>
              </a:endParaRPr>
            </a:p>
          </p:txBody>
        </p:sp>
      </p:grpSp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6451560" y="189000"/>
            <a:ext cx="2365560" cy="338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5986440" cy="28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アンケート③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HGS創英角ﾎﾟｯﾌﾟ体"/>
              </a:rPr>
              <a:t>メールの返事は何よりも先に返さなければいけない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1116000" y="4149720"/>
            <a:ext cx="2665440" cy="1511280"/>
            <a:chOff x="1116000" y="4149720"/>
            <a:chExt cx="2665440" cy="1511280"/>
          </a:xfrm>
        </p:grpSpPr>
        <p:sp>
          <p:nvSpPr>
            <p:cNvPr id="86" name="">
              <a:hlinkClick r:id="rId1" action="ppaction://hlinksldjump"/>
            </p:cNvPr>
            <p:cNvSpPr/>
            <p:nvPr/>
          </p:nvSpPr>
          <p:spPr>
            <a:xfrm>
              <a:off x="1116000" y="4149720"/>
              <a:ext cx="2665440" cy="1511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 txBox="1"/>
            <p:nvPr/>
          </p:nvSpPr>
          <p:spPr>
            <a:xfrm>
              <a:off x="1619280" y="4581360"/>
              <a:ext cx="1657440" cy="609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ＭＳ 明朝"/>
                </a:rPr>
                <a:t>YES</a:t>
              </a:r>
              <a:endParaRPr b="1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ＭＳ 明朝"/>
                <a:ea typeface="ＭＳ 明朝"/>
              </a:endParaRPr>
            </a:p>
          </p:txBody>
        </p:sp>
      </p:grpSp>
      <p:grpSp>
        <p:nvGrpSpPr>
          <p:cNvPr id="88" name=""/>
          <p:cNvGrpSpPr/>
          <p:nvPr/>
        </p:nvGrpSpPr>
        <p:grpSpPr>
          <a:xfrm>
            <a:off x="5148360" y="4149720"/>
            <a:ext cx="2665440" cy="1511280"/>
            <a:chOff x="5148360" y="4149720"/>
            <a:chExt cx="2665440" cy="1511280"/>
          </a:xfrm>
        </p:grpSpPr>
        <p:sp>
          <p:nvSpPr>
            <p:cNvPr id="89" name="">
              <a:hlinkClick r:id="rId2" action="ppaction://hlinksldjump"/>
            </p:cNvPr>
            <p:cNvSpPr/>
            <p:nvPr/>
          </p:nvSpPr>
          <p:spPr>
            <a:xfrm>
              <a:off x="5148360" y="4149720"/>
              <a:ext cx="2665440" cy="1511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 txBox="1"/>
            <p:nvPr/>
          </p:nvSpPr>
          <p:spPr>
            <a:xfrm>
              <a:off x="5651640" y="4581360"/>
              <a:ext cx="1657080" cy="609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ＭＳ 明朝"/>
                </a:rPr>
                <a:t>N O</a:t>
              </a:r>
              <a:endParaRPr b="1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ＭＳ 明朝"/>
                <a:ea typeface="ＭＳ 明朝"/>
              </a:endParaRPr>
            </a:p>
          </p:txBody>
        </p:sp>
      </p:grpSp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6451560" y="189000"/>
            <a:ext cx="2365560" cy="338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5986440" cy="28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アンケート④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HGS創英角ﾎﾟｯﾌﾟ体"/>
              </a:rPr>
              <a:t>友達と話すときは、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HGS創英角ﾎﾟｯﾌﾟ体"/>
              </a:rPr>
              <a:t>会話とメールのどちらが話しやすい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1116000" y="4149720"/>
            <a:ext cx="2665440" cy="1511280"/>
            <a:chOff x="1116000" y="4149720"/>
            <a:chExt cx="2665440" cy="1511280"/>
          </a:xfrm>
        </p:grpSpPr>
        <p:sp>
          <p:nvSpPr>
            <p:cNvPr id="94" name="">
              <a:hlinkClick r:id="rId1" action="ppaction://hlinksldjump"/>
            </p:cNvPr>
            <p:cNvSpPr/>
            <p:nvPr/>
          </p:nvSpPr>
          <p:spPr>
            <a:xfrm>
              <a:off x="1116000" y="4149720"/>
              <a:ext cx="2665440" cy="1511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 txBox="1"/>
            <p:nvPr/>
          </p:nvSpPr>
          <p:spPr>
            <a:xfrm>
              <a:off x="1619280" y="4581360"/>
              <a:ext cx="1657440" cy="609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ＭＳ 明朝"/>
                </a:rPr>
                <a:t>会話</a:t>
              </a:r>
              <a:endParaRPr b="1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ＭＳ 明朝"/>
                <a:ea typeface="ＭＳ 明朝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5148360" y="4149720"/>
            <a:ext cx="2665440" cy="1511280"/>
            <a:chOff x="5148360" y="4149720"/>
            <a:chExt cx="2665440" cy="1511280"/>
          </a:xfrm>
        </p:grpSpPr>
        <p:sp>
          <p:nvSpPr>
            <p:cNvPr id="97" name="">
              <a:hlinkClick r:id="rId2" action="ppaction://hlinksldjump"/>
            </p:cNvPr>
            <p:cNvSpPr/>
            <p:nvPr/>
          </p:nvSpPr>
          <p:spPr>
            <a:xfrm>
              <a:off x="5148360" y="4149720"/>
              <a:ext cx="2665440" cy="1511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 txBox="1"/>
            <p:nvPr/>
          </p:nvSpPr>
          <p:spPr>
            <a:xfrm>
              <a:off x="5651640" y="4581360"/>
              <a:ext cx="1657080" cy="609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ＭＳ 明朝"/>
                </a:rPr>
                <a:t>メール</a:t>
              </a:r>
              <a:endParaRPr b="1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ＭＳ 明朝"/>
                <a:ea typeface="ＭＳ 明朝"/>
              </a:endParaRPr>
            </a:p>
          </p:txBody>
        </p:sp>
      </p:grpSp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6227640" y="404640"/>
            <a:ext cx="2318040" cy="302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5986440" cy="28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アンケート④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HGS創英角ﾎﾟｯﾌﾟ体"/>
              </a:rPr>
              <a:t>友達と話すときは、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HGS創英角ﾎﾟｯﾌﾟ体"/>
              </a:rPr>
              <a:t>会話とメールのどちらが話しやすい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1116000" y="4149720"/>
            <a:ext cx="2665440" cy="1511280"/>
            <a:chOff x="1116000" y="4149720"/>
            <a:chExt cx="2665440" cy="1511280"/>
          </a:xfrm>
        </p:grpSpPr>
        <p:sp>
          <p:nvSpPr>
            <p:cNvPr id="102" name="">
              <a:hlinkClick r:id="rId1" action="ppaction://hlinksldjump"/>
            </p:cNvPr>
            <p:cNvSpPr/>
            <p:nvPr/>
          </p:nvSpPr>
          <p:spPr>
            <a:xfrm>
              <a:off x="1116000" y="4149720"/>
              <a:ext cx="2665440" cy="1511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 txBox="1"/>
            <p:nvPr/>
          </p:nvSpPr>
          <p:spPr>
            <a:xfrm>
              <a:off x="1619280" y="4581360"/>
              <a:ext cx="1657440" cy="609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ＭＳ 明朝"/>
                </a:rPr>
                <a:t>会話</a:t>
              </a:r>
              <a:endParaRPr b="1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ＭＳ 明朝"/>
                <a:ea typeface="ＭＳ 明朝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5148360" y="4149720"/>
            <a:ext cx="2665440" cy="1511280"/>
            <a:chOff x="5148360" y="4149720"/>
            <a:chExt cx="2665440" cy="1511280"/>
          </a:xfrm>
        </p:grpSpPr>
        <p:sp>
          <p:nvSpPr>
            <p:cNvPr id="105" name="">
              <a:hlinkClick r:id="rId2" action="ppaction://hlinksldjump"/>
            </p:cNvPr>
            <p:cNvSpPr/>
            <p:nvPr/>
          </p:nvSpPr>
          <p:spPr>
            <a:xfrm>
              <a:off x="5148360" y="4149720"/>
              <a:ext cx="2665440" cy="1511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 txBox="1"/>
            <p:nvPr/>
          </p:nvSpPr>
          <p:spPr>
            <a:xfrm>
              <a:off x="5651640" y="4581360"/>
              <a:ext cx="1657080" cy="609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ＭＳ 明朝"/>
                </a:rPr>
                <a:t>メール</a:t>
              </a:r>
              <a:endParaRPr b="1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ＭＳ 明朝"/>
                <a:ea typeface="ＭＳ 明朝"/>
              </a:endParaRPr>
            </a:p>
          </p:txBody>
        </p:sp>
      </p:grpSp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6227640" y="404640"/>
            <a:ext cx="2318040" cy="302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5T08:05:51Z</dcterms:created>
  <dc:creator>穴水中学校</dc:creator>
  <dc:description/>
  <dc:language>en-US</dc:language>
  <cp:lastModifiedBy>石川県教育センター</cp:lastModifiedBy>
  <dcterms:modified xsi:type="dcterms:W3CDTF">2008-02-20T04:38:49Z</dcterms:modified>
  <cp:revision>19</cp:revision>
  <dc:subject/>
  <dc:title>ストップ！　 ＴＨＥ　ケータイ依存症</dc:title>
</cp:coreProperties>
</file>