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3B4-9A1C-4A42-8A1D-B91CFF6B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D6D-582F-4FCF-8FFE-B9C5D6F5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37C-9220-41E5-8A2F-345CEA65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FA5-FBBA-4E39-8D4C-7BE90E3E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C3E-A7B2-4549-B2F7-F7C71F15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82B-6C71-43F8-9F1B-E61704BD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738-46A5-4F2F-8116-B61A102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5A2-3010-4C17-81F5-CD0C35F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35F-A702-417C-B4A7-6F24A35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0C5-A9D0-4DB1-BDBE-E7F4437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B68-F278-4116-B8A1-D41074D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0CD-092E-4B03-AFAA-827FB44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F990-CEBB-4F13-9A14-9B7CCFFB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620640"/>
            <a:ext cx="7416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スト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ＴＨ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ケータイ依存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10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13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18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21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26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29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34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37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42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45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50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53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61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アンケート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ＭＳ ゴシック"/>
              </a:rPr>
              <a:t>　あなたに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ＭＳ ゴシック"/>
              </a:rPr>
              <a:t>ケータイ依存症の疑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ＭＳ ゴシック"/>
              </a:rPr>
              <a:t>はありませ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(ILM05_CA02019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5229360"/>
            <a:ext cx="743040" cy="85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1000" cy="3068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470640" y="0"/>
            <a:ext cx="2673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アンケート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　あなたはすで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HG行書体"/>
              </a:rPr>
              <a:t>ケータイ依存症予備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です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(ILM05_CA02019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5229360"/>
            <a:ext cx="74304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233064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アンケート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　あなたはすで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HG行書体"/>
              </a:rPr>
              <a:t>ケータイ依存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の疑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があります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(ILM05_CA02019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5229360"/>
            <a:ext cx="74304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2049480" cy="259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788160" y="260280"/>
            <a:ext cx="203976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①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あなたは携帯電話を持っています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44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47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51460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①　解説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あなたは携帯電話を持っています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57948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携帯電話に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①電話　②メール　③インターネ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④カメラ　⑤辞書や計算機　⑥アラーム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などたくさんの機能があり、非常に便利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51460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②　解説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夜遅くまでメールをしていません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57948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夜遅くまでのメールの交換は生活リズムを乱すなど健康に悪いだけではなく、自分だけでなく相手の生活リズムを乱してしまうことがあ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524720" y="1413000"/>
            <a:ext cx="13114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　解説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57948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メールは時間や場所にしばられず、いつでも受信して、都合のよいときに返事ができるものです。互いの時間を邪魔することなくコミュニケーションが取れるはずのメールが、時間を奪い合う道具に使われていません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　解説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57948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文字だけでは誤解されやすく、伝わりにくい場合があります。実際の会話では、表情や話し方など、言葉以外のいろいろな要素があるので、相手に伝わりやす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　解説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57948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ケータイを持っていないと不安になるケータイ依存症と呼ばれる事態が進行しています。中には、ケータイに名前をつけてかわいがっている人もいるそ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携帯電話は便利であるが、生活や心身に悪影響を与える場合があり、適切な使い方を心がけなければなら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携帯電話の利用においても、コミュニケーションの相手のことを考えて配慮することが大切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1243080" cy="2133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10587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②</a:t>
            </a:r>
            <a:br>
              <a:rPr sz="36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夜遅くまでメールをしていません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52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55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0072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308720" y="1844640"/>
            <a:ext cx="1405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②</a:t>
            </a:r>
            <a:br>
              <a:rPr sz="36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夜遅くまでメールをしていません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61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64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0072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308720" y="1844640"/>
            <a:ext cx="1405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70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73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78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81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86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89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94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97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02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05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8:05:51Z</dcterms:created>
  <dc:creator>穴水中学校</dc:creator>
  <dc:description/>
  <dc:language>en-US</dc:language>
  <cp:lastModifiedBy>穴水中学校</cp:lastModifiedBy>
  <dcterms:modified xsi:type="dcterms:W3CDTF">2008-02-20T01:48:19Z</dcterms:modified>
  <cp:revision>17</cp:revision>
  <dc:subject/>
  <dc:title>ストップ！　 ＴＨＥ　ケータイ依存症</dc:title>
</cp:coreProperties>
</file>