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9C7-ED24-4380-8C33-EE665D52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B55-3182-473A-94BA-CBAB60A4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118-7254-4BA1-AE23-540319AE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B3E-ABF1-4B99-8E09-B8EDCC75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7ED-EF1A-4D14-8E23-BA189A33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3B3-7130-4C85-93FD-19A03914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1FF-F264-4D47-B2A4-CB4DD2D9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FE2-599D-4C5A-A294-EE7BC96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22A-2B2C-4F1E-99D2-7AFBEE7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985-FA9E-4B80-9315-4FD8BAE7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012-B099-42FD-8BCF-CD37300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5E0-9D1C-4934-8C51-05B045D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6920" y="5181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9F0-0678-4D86-B0BC-343A936B5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77320" y="64771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c.or.jp/net-walk/GAKUSYU_es_k/11k-unit.html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cec.or.jp/net-walk/GAKUSYU_es_k/10k-unit.html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moralnet.kashiwa.ed.jp/morals/kids/communication/index.html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とびら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「ウェブページを作ろう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53280" y="64771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7236000" y="152280"/>
            <a:ext cx="175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メニューページにもど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47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14479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11628" t="0" r="0" b="6976"/>
          <a:stretch/>
        </p:blipFill>
        <p:spPr>
          <a:xfrm>
            <a:off x="6019920" y="1447920"/>
            <a:ext cx="2514600" cy="1985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019920" y="35812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57200"/>
            <a:ext cx="8534160" cy="601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27640" y="2708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91320" y="5715000"/>
            <a:ext cx="1361520" cy="439560"/>
            <a:chOff x="5791320" y="5715000"/>
            <a:chExt cx="1361520" cy="439560"/>
          </a:xfrm>
        </p:grpSpPr>
        <p:sp>
          <p:nvSpPr>
            <p:cNvPr id="55" name=""/>
            <p:cNvSpPr/>
            <p:nvPr/>
          </p:nvSpPr>
          <p:spPr>
            <a:xfrm>
              <a:off x="6224400" y="57150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5791320" y="571500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3375000" y="1114560"/>
            <a:ext cx="5616720" cy="1008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あきら君のクラスでは、総合的な学習の時間のまとめとして、一人一人が自分のまとめのウェブページを作ることになり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あきら君はまとめをわかりやすくするために、写真を使いたいと思いましたが、ぴったりの写真があり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そんな時、ぐう然見たウェブページに、ぴったりの写真を見つけました。その写真を自分のページに使いたいと思い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4653000"/>
            <a:ext cx="5564160" cy="703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あなたにも、こんなけい験はありません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もしあなたが、あきら君だったらどうし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72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「ウェブページを作ろう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197000"/>
          <a:ext cx="2952720" cy="19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95272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1010122" descr=""/>
          <p:cNvPicPr/>
          <p:nvPr/>
        </p:nvPicPr>
        <p:blipFill>
          <a:blip r:embed="rId1"/>
          <a:stretch/>
        </p:blipFill>
        <p:spPr>
          <a:xfrm>
            <a:off x="438120" y="30492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2514600" cy="1657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2000" t="0" r="0" b="0"/>
          <a:stretch/>
        </p:blipFill>
        <p:spPr>
          <a:xfrm>
            <a:off x="5410080" y="140976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9880" y="228600"/>
            <a:ext cx="50292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ウェブページを作ろ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838080"/>
            <a:ext cx="2514600" cy="68580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91520" y="6248520"/>
            <a:ext cx="1361520" cy="439560"/>
            <a:chOff x="7391520" y="6248520"/>
            <a:chExt cx="1361520" cy="439560"/>
          </a:xfrm>
        </p:grpSpPr>
        <p:sp>
          <p:nvSpPr>
            <p:cNvPr id="68" name=""/>
            <p:cNvSpPr/>
            <p:nvPr/>
          </p:nvSpPr>
          <p:spPr>
            <a:xfrm>
              <a:off x="7824600" y="6248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7391520" y="624852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3352680"/>
            <a:ext cx="4495680" cy="337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2133720"/>
            <a:ext cx="1600200" cy="1066680"/>
          </a:xfrm>
          <a:prstGeom prst="wedgeEllipseCallout">
            <a:avLst>
              <a:gd name="adj1" fmla="val 32837"/>
              <a:gd name="adj2" fmla="val 8898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えそうな写真がある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4508640"/>
            <a:ext cx="1905120" cy="761760"/>
          </a:xfrm>
          <a:prstGeom prst="wedgeEllipseCallout">
            <a:avLst>
              <a:gd name="adj1" fmla="val -105166"/>
              <a:gd name="adj2" fmla="val 50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わかりやすくしたい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5562720"/>
            <a:ext cx="1905120" cy="761760"/>
          </a:xfrm>
          <a:prstGeom prst="wedgeEllipseCallout">
            <a:avLst>
              <a:gd name="adj1" fmla="val -91666"/>
              <a:gd name="adj2" fmla="val 1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いい写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ないか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114" t="22634" r="3726" b="0"/>
          <a:stretch/>
        </p:blipFill>
        <p:spPr>
          <a:xfrm>
            <a:off x="304920" y="1371600"/>
            <a:ext cx="4267080" cy="3214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76320"/>
            <a:ext cx="756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さて、あなたならネット上で見つけた写真を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自分のウェブページに使い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この中から一番近いものをひとつえらんでね。</a:t>
            </a: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1484280"/>
            <a:ext cx="41767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決めた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　　そのふきだしをクリックしよ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352680" y="2514600"/>
            <a:ext cx="5562720" cy="1770120"/>
            <a:chOff x="3352680" y="2514600"/>
            <a:chExt cx="5562720" cy="1770120"/>
          </a:xfrm>
        </p:grpSpPr>
        <p:sp>
          <p:nvSpPr>
            <p:cNvPr id="79" name="">
              <a:hlinkClick r:id="rId2" action="ppaction://hlinksldjump"/>
            </p:cNvPr>
            <p:cNvSpPr/>
            <p:nvPr/>
          </p:nvSpPr>
          <p:spPr>
            <a:xfrm>
              <a:off x="5075280" y="2895480"/>
              <a:ext cx="3840120" cy="1389240"/>
            </a:xfrm>
            <a:prstGeom prst="wedgeRoundRectCallout">
              <a:avLst>
                <a:gd name="adj1" fmla="val -72777"/>
                <a:gd name="adj2" fmla="val -63712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気に入った写真だからコピーして　使うよ。めんどうだからきょかは取　らない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251460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使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4267080"/>
            <a:ext cx="3778200" cy="1981440"/>
            <a:chOff x="762120" y="4267080"/>
            <a:chExt cx="3778200" cy="1981440"/>
          </a:xfrm>
        </p:grpSpPr>
        <p:sp>
          <p:nvSpPr>
            <p:cNvPr id="82" name=""/>
            <p:cNvSpPr/>
            <p:nvPr/>
          </p:nvSpPr>
          <p:spPr>
            <a:xfrm>
              <a:off x="2124000" y="4267080"/>
              <a:ext cx="122868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使わな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>
              <a:hlinkClick r:id="rId3" action="ppaction://hlinksldjump"/>
            </p:cNvPr>
            <p:cNvSpPr/>
            <p:nvPr/>
          </p:nvSpPr>
          <p:spPr>
            <a:xfrm>
              <a:off x="762120" y="5105520"/>
              <a:ext cx="3778200" cy="1143000"/>
            </a:xfrm>
            <a:prstGeom prst="wedgeRoundRectCallout">
              <a:avLst>
                <a:gd name="adj1" fmla="val 6847"/>
                <a:gd name="adj2" fmla="val -99444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66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少しくらい気にいらなくても、　やっぱり自分のとった写真を使う　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247920" y="3573360"/>
            <a:ext cx="5519880" cy="2598840"/>
            <a:chOff x="3247920" y="3573360"/>
            <a:chExt cx="5519880" cy="2598840"/>
          </a:xfrm>
        </p:grpSpPr>
        <p:sp>
          <p:nvSpPr>
            <p:cNvPr id="85" name="">
              <a:hlinkClick r:id="rId4" action="ppaction://hlinksldjump"/>
            </p:cNvPr>
            <p:cNvSpPr/>
            <p:nvPr/>
          </p:nvSpPr>
          <p:spPr>
            <a:xfrm>
              <a:off x="3247920" y="3573360"/>
              <a:ext cx="140040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きょかを取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>
              <a:hlinkClick r:id="rId5" action="ppaction://hlinksldjump"/>
            </p:cNvPr>
            <p:cNvSpPr/>
            <p:nvPr/>
          </p:nvSpPr>
          <p:spPr>
            <a:xfrm>
              <a:off x="4876920" y="4800600"/>
              <a:ext cx="3890880" cy="1371600"/>
            </a:xfrm>
            <a:prstGeom prst="wedgeRoundRectCallout">
              <a:avLst>
                <a:gd name="adj1" fmla="val -67870"/>
                <a:gd name="adj2" fmla="val -110648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気に入った写真だからコピーして　使うよ。でも、きょかを取ってから　にする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781760" y="189000"/>
            <a:ext cx="1362240" cy="439560"/>
            <a:chOff x="7781760" y="189000"/>
            <a:chExt cx="1362240" cy="439560"/>
          </a:xfrm>
        </p:grpSpPr>
        <p:sp>
          <p:nvSpPr>
            <p:cNvPr id="88" name=""/>
            <p:cNvSpPr/>
            <p:nvPr/>
          </p:nvSpPr>
          <p:spPr>
            <a:xfrm>
              <a:off x="8215200" y="189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7781760" y="18900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533520" y="5381640"/>
            <a:ext cx="3733560" cy="1247760"/>
          </a:xfrm>
          <a:prstGeom prst="wedgeRoundRectCallout">
            <a:avLst>
              <a:gd name="adj1" fmla="val 14500"/>
              <a:gd name="adj2" fmla="val -91222"/>
              <a:gd name="adj3" fmla="val 16667"/>
            </a:avLst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HG創英角ﾎﾟｯﾌﾟ体"/>
              </a:rPr>
              <a:t>②</a:t>
            </a:r>
            <a:r>
              <a:rPr b="0" lang="zh-CN" sz="1600" spc="-1" strike="noStrike">
                <a:solidFill>
                  <a:srgbClr val="b2b2b2"/>
                </a:solidFill>
                <a:latin typeface="Arial"/>
                <a:ea typeface="HG創英角ﾎﾟｯﾌﾟ体"/>
              </a:rPr>
              <a:t>少しくらい気に入らなくても、　やっぱり自分のとった写真を使う　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4495680"/>
            <a:ext cx="11653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使わ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20920" y="3886200"/>
            <a:ext cx="5465520" cy="2438280"/>
            <a:chOff x="3220920" y="3886200"/>
            <a:chExt cx="5465520" cy="2438280"/>
          </a:xfrm>
        </p:grpSpPr>
        <p:sp>
          <p:nvSpPr>
            <p:cNvPr id="94" name="">
              <a:hlinkClick r:id="rId3" action="ppaction://hlinksldjump"/>
            </p:cNvPr>
            <p:cNvSpPr/>
            <p:nvPr/>
          </p:nvSpPr>
          <p:spPr>
            <a:xfrm>
              <a:off x="4656240" y="5229360"/>
              <a:ext cx="4030200" cy="1095120"/>
            </a:xfrm>
            <a:prstGeom prst="wedgeRoundRectCallout">
              <a:avLst>
                <a:gd name="adj1" fmla="val -59601"/>
                <a:gd name="adj2" fmla="val -142027"/>
                <a:gd name="adj3" fmla="val 1666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気に入った写真だからコピーして</a:t>
              </a:r>
              <a:br>
                <a:rPr sz="1600"/>
              </a:b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使うよ。でもきょかを取ってから</a:t>
              </a:r>
              <a:br>
                <a:rPr sz="1600"/>
              </a:b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にする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20920" y="3886200"/>
              <a:ext cx="129672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きょかを取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340000" y="260280"/>
            <a:ext cx="6408720" cy="1008000"/>
          </a:xfrm>
          <a:prstGeom prst="wedgeRoundRectCallout">
            <a:avLst>
              <a:gd name="adj1" fmla="val 30157"/>
              <a:gd name="adj2" fmla="val 187166"/>
              <a:gd name="adj3" fmla="val 16667"/>
            </a:avLst>
          </a:prstGeom>
          <a:solidFill>
            <a:srgbClr val="ffffff"/>
          </a:solidFill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他人のウェブページから、無だんで写真や絵をコピーして使ってはいけません。どうしても使いたい場合は、写真をとった人や、絵をかいた人に使用きょかを取るように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88000" y="1989000"/>
            <a:ext cx="1361520" cy="439920"/>
            <a:chOff x="4788000" y="1989000"/>
            <a:chExt cx="1361520" cy="439920"/>
          </a:xfrm>
        </p:grpSpPr>
        <p:sp>
          <p:nvSpPr>
            <p:cNvPr id="98" name=""/>
            <p:cNvSpPr/>
            <p:nvPr/>
          </p:nvSpPr>
          <p:spPr>
            <a:xfrm>
              <a:off x="5221080" y="19890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4788000" y="198900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3429000" y="2514600"/>
            <a:ext cx="5562720" cy="1846440"/>
            <a:chOff x="3429000" y="2514600"/>
            <a:chExt cx="5562720" cy="1846440"/>
          </a:xfrm>
        </p:grpSpPr>
        <p:sp>
          <p:nvSpPr>
            <p:cNvPr id="101" name=""/>
            <p:cNvSpPr/>
            <p:nvPr/>
          </p:nvSpPr>
          <p:spPr>
            <a:xfrm>
              <a:off x="3429000" y="251460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使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51600" y="2971800"/>
              <a:ext cx="3840120" cy="1389240"/>
            </a:xfrm>
            <a:prstGeom prst="wedgeRoundRectCallout">
              <a:avLst>
                <a:gd name="adj1" fmla="val -71495"/>
                <a:gd name="adj2" fmla="val -60629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気に入った写真だからコピーして　使うよ。めんどうだからきょかは取　らない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352680" y="2514600"/>
            <a:ext cx="5410440" cy="1676520"/>
            <a:chOff x="3352680" y="2514600"/>
            <a:chExt cx="5410440" cy="1676520"/>
          </a:xfrm>
        </p:grpSpPr>
        <p:sp>
          <p:nvSpPr>
            <p:cNvPr id="105" name="">
              <a:hlinkClick r:id="rId2" action="ppaction://hlinksldjump"/>
            </p:cNvPr>
            <p:cNvSpPr/>
            <p:nvPr/>
          </p:nvSpPr>
          <p:spPr>
            <a:xfrm>
              <a:off x="4896000" y="2860560"/>
              <a:ext cx="3867120" cy="1330560"/>
            </a:xfrm>
            <a:prstGeom prst="wedgeRoundRectCallout">
              <a:avLst>
                <a:gd name="adj1" fmla="val -71837"/>
                <a:gd name="adj2" fmla="val -54175"/>
                <a:gd name="adj3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気に入った写真だからコピーして　使うよ。めんどうだからきょかは取　らない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2514600"/>
              <a:ext cx="91440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使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3520" y="4419720"/>
            <a:ext cx="3733560" cy="2286000"/>
            <a:chOff x="533520" y="4419720"/>
            <a:chExt cx="3733560" cy="2286000"/>
          </a:xfrm>
        </p:grpSpPr>
        <p:sp>
          <p:nvSpPr>
            <p:cNvPr id="108" name="">
              <a:hlinkClick r:id="rId3" action="ppaction://hlinksldjump"/>
            </p:cNvPr>
            <p:cNvSpPr/>
            <p:nvPr/>
          </p:nvSpPr>
          <p:spPr>
            <a:xfrm>
              <a:off x="533520" y="5381640"/>
              <a:ext cx="3733560" cy="1324080"/>
            </a:xfrm>
            <a:prstGeom prst="wedgeRoundRectCallout">
              <a:avLst>
                <a:gd name="adj1" fmla="val 9865"/>
                <a:gd name="adj2" fmla="val -99518"/>
                <a:gd name="adj3" fmla="val 1666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少しくらい気に入らなくても、</a:t>
              </a:r>
              <a:br>
                <a:rPr sz="1600"/>
              </a:b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やっぱり自分のとった写真を使う</a:t>
              </a:r>
              <a:br>
                <a:rPr sz="1600"/>
              </a:b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8360" y="4419720"/>
              <a:ext cx="1236960" cy="30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使わな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14600" y="152280"/>
            <a:ext cx="6408720" cy="1440000"/>
          </a:xfrm>
          <a:prstGeom prst="wedgeRoundRectCallout">
            <a:avLst>
              <a:gd name="adj1" fmla="val 21416"/>
              <a:gd name="adj2" fmla="val 289138"/>
              <a:gd name="adj3" fmla="val 16667"/>
            </a:avLst>
          </a:prstGeom>
          <a:solidFill>
            <a:srgbClr val="ff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きょかを取って使うのならいいでしょう。きょかのはん囲の中で使うように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そのときは、その情報の出どころを、はっきり書いておき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132000" y="3573360"/>
            <a:ext cx="5630760" cy="2675160"/>
            <a:chOff x="3132000" y="3573360"/>
            <a:chExt cx="5630760" cy="2675160"/>
          </a:xfrm>
        </p:grpSpPr>
        <p:sp>
          <p:nvSpPr>
            <p:cNvPr id="112" name="">
              <a:hlinkClick r:id="rId4" action="ppaction://hlinksldjump"/>
            </p:cNvPr>
            <p:cNvSpPr/>
            <p:nvPr/>
          </p:nvSpPr>
          <p:spPr>
            <a:xfrm>
              <a:off x="4496760" y="5157720"/>
              <a:ext cx="4266000" cy="1090800"/>
            </a:xfrm>
            <a:prstGeom prst="wedgeRoundRectCallout">
              <a:avLst>
                <a:gd name="adj1" fmla="val -60263"/>
                <a:gd name="adj2" fmla="val -159023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気に入った写真だからコピーして</a:t>
              </a:r>
              <a:br>
                <a:rPr sz="1600"/>
              </a:b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　使うよ。でも、きょかを取ってから</a:t>
              </a:r>
              <a:br>
                <a:rPr sz="1600"/>
              </a:b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　にする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2000" y="3573360"/>
              <a:ext cx="1364760" cy="3049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きょかを取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88000" y="1989000"/>
            <a:ext cx="1361520" cy="439920"/>
            <a:chOff x="4788000" y="1989000"/>
            <a:chExt cx="1361520" cy="439920"/>
          </a:xfrm>
        </p:grpSpPr>
        <p:sp>
          <p:nvSpPr>
            <p:cNvPr id="115" name=""/>
            <p:cNvSpPr/>
            <p:nvPr/>
          </p:nvSpPr>
          <p:spPr>
            <a:xfrm>
              <a:off x="5221080" y="19890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4788000" y="198900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16360" y="3573360"/>
            <a:ext cx="6048360" cy="2751120"/>
            <a:chOff x="2916360" y="3573360"/>
            <a:chExt cx="6048360" cy="2751120"/>
          </a:xfrm>
        </p:grpSpPr>
        <p:sp>
          <p:nvSpPr>
            <p:cNvPr id="120" name="">
              <a:hlinkClick r:id="rId2" action="ppaction://hlinksldjump"/>
            </p:cNvPr>
            <p:cNvSpPr/>
            <p:nvPr/>
          </p:nvSpPr>
          <p:spPr>
            <a:xfrm>
              <a:off x="4664160" y="5229360"/>
              <a:ext cx="4300560" cy="1095120"/>
            </a:xfrm>
            <a:prstGeom prst="wedgeRoundRectCallout">
              <a:avLst>
                <a:gd name="adj1" fmla="val -70782"/>
                <a:gd name="adj2" fmla="val -176087"/>
                <a:gd name="adj3" fmla="val 1666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気に入った写真だからコピーして</a:t>
              </a:r>
              <a:br>
                <a:rPr sz="1600"/>
              </a:b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使うよ。でも、きょかを取ってから</a:t>
              </a:r>
              <a:br>
                <a:rPr sz="1600"/>
              </a:b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にする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6360" y="3573360"/>
              <a:ext cx="135072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きょかを取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0920" y="260280"/>
            <a:ext cx="7200720" cy="1368360"/>
          </a:xfrm>
          <a:prstGeom prst="wedgeRoundRectCallout">
            <a:avLst>
              <a:gd name="adj1" fmla="val -33620"/>
              <a:gd name="adj2" fmla="val 307888"/>
              <a:gd name="adj3" fmla="val 16667"/>
            </a:avLst>
          </a:prstGeom>
          <a:solidFill>
            <a:srgbClr val="ff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分でとった写真を使うのは一番良いことです。ただし、人物が写っている場合は、その人がだれなのかがわからないようなものを使いましょう。だれが写っているかわかってしまうと、思わぬことにまきこまれることがあるかもし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8000" y="4267080"/>
            <a:ext cx="4427640" cy="2210040"/>
            <a:chOff x="108000" y="4267080"/>
            <a:chExt cx="4427640" cy="2210040"/>
          </a:xfrm>
        </p:grpSpPr>
        <p:sp>
          <p:nvSpPr>
            <p:cNvPr id="124" name=""/>
            <p:cNvSpPr/>
            <p:nvPr/>
          </p:nvSpPr>
          <p:spPr>
            <a:xfrm>
              <a:off x="2124000" y="4267080"/>
              <a:ext cx="1152720" cy="30492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使わな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>
              <a:hlinkClick r:id="rId3" action="ppaction://hlinksldjump"/>
            </p:cNvPr>
            <p:cNvSpPr/>
            <p:nvPr/>
          </p:nvSpPr>
          <p:spPr>
            <a:xfrm>
              <a:off x="108000" y="5229360"/>
              <a:ext cx="4427640" cy="1247760"/>
            </a:xfrm>
            <a:prstGeom prst="wedgeRoundRectCallout">
              <a:avLst>
                <a:gd name="adj1" fmla="val 12064"/>
                <a:gd name="adj2" fmla="val -106740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66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少しくらい気に入らなくても、</a:t>
              </a:r>
              <a:br>
                <a:rPr sz="1600"/>
              </a:b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　やっぱり自分のとった写真を使う</a:t>
              </a:r>
              <a:br>
                <a:rPr sz="1600"/>
              </a:b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　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424320" y="2514600"/>
            <a:ext cx="5468760" cy="1676520"/>
            <a:chOff x="3424320" y="2514600"/>
            <a:chExt cx="5468760" cy="1676520"/>
          </a:xfrm>
        </p:grpSpPr>
        <p:sp>
          <p:nvSpPr>
            <p:cNvPr id="127" name=""/>
            <p:cNvSpPr/>
            <p:nvPr/>
          </p:nvSpPr>
          <p:spPr>
            <a:xfrm>
              <a:off x="4975200" y="2924280"/>
              <a:ext cx="3917880" cy="1266840"/>
            </a:xfrm>
            <a:prstGeom prst="wedgeRoundRectCallout">
              <a:avLst>
                <a:gd name="adj1" fmla="val -73379"/>
                <a:gd name="adj2" fmla="val -57518"/>
                <a:gd name="adj3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気に入った写真だからコピーして</a:t>
              </a:r>
              <a:br>
                <a:rPr sz="1600"/>
              </a:b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使うよ。めんどうだからきょかは取　らない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>
              <a:hlinkClick r:id="rId4" action="ppaction://hlinksldjump"/>
            </p:cNvPr>
            <p:cNvSpPr/>
            <p:nvPr/>
          </p:nvSpPr>
          <p:spPr>
            <a:xfrm>
              <a:off x="3424320" y="2514600"/>
              <a:ext cx="842760" cy="3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使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788000" y="1989000"/>
            <a:ext cx="1361520" cy="439920"/>
            <a:chOff x="4788000" y="1989000"/>
            <a:chExt cx="1361520" cy="439920"/>
          </a:xfrm>
        </p:grpSpPr>
        <p:sp>
          <p:nvSpPr>
            <p:cNvPr id="130" name=""/>
            <p:cNvSpPr/>
            <p:nvPr/>
          </p:nvSpPr>
          <p:spPr>
            <a:xfrm>
              <a:off x="5221080" y="19890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788000" y="198900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549360"/>
            <a:ext cx="2720880" cy="1871640"/>
          </a:xfrm>
          <a:prstGeom prst="wedgeRoundRectCallout">
            <a:avLst>
              <a:gd name="adj1" fmla="val 6476"/>
              <a:gd name="adj2" fmla="val 95037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①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みかちゃん-P"/>
              </a:rPr>
              <a:t>気に入った写真だから　　コピーして使うよ。めんどうだからきょかは取らない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09480"/>
            <a:ext cx="2790720" cy="1944720"/>
          </a:xfrm>
          <a:prstGeom prst="wedgeRoundRectCallout">
            <a:avLst>
              <a:gd name="adj1" fmla="val 10638"/>
              <a:gd name="adj2" fmla="val 88287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②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みかちゃん-P"/>
              </a:rPr>
              <a:t>少しくらい気に入らなくて　　も、やっぱり自分のとった写真を使う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620640"/>
            <a:ext cx="2881440" cy="2016360"/>
          </a:xfrm>
          <a:prstGeom prst="wedgeRoundRectCallout">
            <a:avLst>
              <a:gd name="adj1" fmla="val -13032"/>
              <a:gd name="adj2" fmla="val 83069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bad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③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みかちゃん-P"/>
              </a:rPr>
              <a:t>気に入った写真だからコピーして使う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みかちゃん-P"/>
              </a:rPr>
              <a:t>でも、きょかを取ってからにする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18900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ＰＯＰ４B"/>
              </a:rPr>
              <a:t>使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228600"/>
            <a:ext cx="113688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ＰＯＰ４B"/>
              </a:rPr>
              <a:t>使わ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228600"/>
            <a:ext cx="1523880" cy="34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ＰＯＰ４B"/>
              </a:rPr>
              <a:t>きょかを取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3581280"/>
            <a:ext cx="2971800" cy="2590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自分でとった写真を使うのは一番良いことです。ただし、人物が写っている場合は、その人がだれなのかがわからないようなものを使いましょう。だれが写っているかわかってしまうと、思わぬことにまきこまれることがあるかもしれません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3657600"/>
            <a:ext cx="2884320" cy="2320920"/>
          </a:xfrm>
          <a:prstGeom prst="flowChartAlternateProcess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他人のウェブページから無だんで写真や絵をコピーして使ってはいけ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どうしても使いたいときは、写真をとった人や、絵をかいた人に使用きょかを取るようにし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3657600"/>
            <a:ext cx="2971800" cy="257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きょかを取って使うのならいいでしょう。きょかのはん囲の中で使うようにし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ただし、そのときは、情報の出どころをわかるように書いておき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435640" y="6165720"/>
            <a:ext cx="1361520" cy="439920"/>
            <a:chOff x="5435640" y="6165720"/>
            <a:chExt cx="1361520" cy="439920"/>
          </a:xfrm>
        </p:grpSpPr>
        <p:sp>
          <p:nvSpPr>
            <p:cNvPr id="142" name=""/>
            <p:cNvSpPr/>
            <p:nvPr/>
          </p:nvSpPr>
          <p:spPr>
            <a:xfrm>
              <a:off x="5868720" y="61657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5435640" y="616572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3733920"/>
            <a:ext cx="8839440" cy="28191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396252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ネット社会の歩き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990720"/>
            <a:ext cx="647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・絵、文章、音楽、写真、えい画などの作品を、権利を持っている人のきょかなくコピーしたり、発表に使ったり、売ったりしてはいけません。かってに作品を使われない権利をちょ作けん（著作権）と言います。ちょ作けんは、たいていは、作品を作った人などが持って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・多くの場合は、こじん的に楽しむだけなら問題はあり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でも、それ以外に使うときは、まず、作品を作った人の気持ちを考えましょう。一生けん命作った自分の作品が、他人によってかってに作り変えられたり、コピーされて使われたら、いやな気持ちになると思いません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6544080"/>
            <a:ext cx="914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28600"/>
            <a:ext cx="396216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写真やイラストなどのあつか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413000"/>
            <a:ext cx="2039760" cy="1482480"/>
          </a:xfrm>
          <a:prstGeom prst="irregularSeal2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ちょ作け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114800"/>
            <a:ext cx="609480" cy="36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952880"/>
            <a:ext cx="609480" cy="365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5867280"/>
            <a:ext cx="609480" cy="366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920" y="4724280"/>
            <a:ext cx="1530360" cy="720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関連リンク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パワーアップ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56600" y="40719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他人の絵や文章のコピーは要注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ec.or.jp/net-walk/GAKUSYU_es_k/13k-unit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480060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ネット社会の歩き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571500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情報モラル研修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74240" y="486900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音楽データ交換サイトは要注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ec.or.jp/net-walk/GAKUSYU_es_k/14k-unit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4040" y="6006960"/>
            <a:ext cx="27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ttp://www.japet.jp/moral/taiken/web/web.htm</a:t>
            </a: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58150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自作ウェブペー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20000" y="333360"/>
            <a:ext cx="1979640" cy="431640"/>
            <a:chOff x="7020000" y="333360"/>
            <a:chExt cx="1979640" cy="431640"/>
          </a:xfrm>
        </p:grpSpPr>
        <p:sp>
          <p:nvSpPr>
            <p:cNvPr id="161" name=""/>
            <p:cNvSpPr/>
            <p:nvPr/>
          </p:nvSpPr>
          <p:spPr>
            <a:xfrm>
              <a:off x="7583760" y="406080"/>
              <a:ext cx="14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メニュー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7"/>
            <a:stretch/>
          </p:blipFill>
          <p:spPr>
            <a:xfrm>
              <a:off x="7020000" y="333360"/>
              <a:ext cx="50004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45:26Z</dcterms:created>
  <dc:creator/>
  <dc:description/>
  <dc:language>en-US</dc:language>
  <cp:lastModifiedBy/>
  <dcterms:modified xsi:type="dcterms:W3CDTF">2006-04-07T04:26:35Z</dcterms:modified>
  <cp:revision>116</cp:revision>
  <dc:subject/>
  <dc:title>情報モラルって何？</dc:title>
</cp:coreProperties>
</file>