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20A-A2AB-43C1-B887-2EBA5BB3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85B-5868-48B3-BFCA-F69B7F25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1FE-7CBB-4437-858D-A2C76705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3AB-66E3-4210-96C1-63765713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6F3D-1BE2-42F0-84B7-4D0E40F0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0A38-8F71-4413-9D11-069E87E3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6DFD-37AE-4C5D-8F59-43ABB7EF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9045-1FD6-472D-9190-0993822C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8D73-C25D-43C3-9DEB-F006D480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A26D-DBAA-40CF-B0E8-5CADD6B0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B1B8-5F8D-4704-B177-1A61DBA4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266-F0B2-4DAF-B956-9751E295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7974-3446-4EEF-B42B-CCE17787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AB90-76EB-4697-82FE-39A85CD4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278B-8135-43E3-8D32-BC608045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8A7A-9BE7-4C35-B578-AE7A6459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B67E-50BA-43D8-B634-5F38F2CA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466F-CFF9-4923-A5FA-E24255DE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A60D-D362-4531-BD33-A63AEBB8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DB47-0334-4BD8-99EC-B5C16FC6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553C2-FEF6-4D91-A63A-D2A50882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217A9-06C8-4915-8B08-746257E1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38A-AEBD-40FE-B9B5-1468DA7F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942F-8500-4039-8970-10F39856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EC67-3B7E-44B0-8D3D-4FAAEB19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20A6-682C-4ED3-9924-67798B84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7FF5-FDB9-4A2D-8B09-FC38924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81F3-CAA6-40EF-BDCB-722A8E34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AC88-4B53-43FB-9B9B-09DFBC95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B5BA-4EE1-4AD0-816A-E6DC14B3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25F-C8A8-4863-B2BB-F1CD01EE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490-9BEF-47B6-8E3F-706CA000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107-8B40-45F5-90D9-E55AB950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5C7-3A4F-4C6B-AC24-7C0C8A4C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E16-F873-4E07-BD90-8537BE8D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CA3-59D4-4DDB-A8FE-D075BB5E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66920" y="5181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7D83-CF61-438F-892F-A58C45DB0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EC0D-9947-4BE9-92BD-C4E74D6248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48D4-82A8-47C3-8CB9-FD502829C32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le-02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28760" cy="1600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6000" y="1628640"/>
            <a:ext cx="6624720" cy="4032360"/>
          </a:xfrm>
          <a:prstGeom prst="ellipse">
            <a:avLst/>
          </a:prstGeom>
          <a:noFill/>
          <a:ln w="69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88920" y="3789000"/>
            <a:ext cx="176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99"/>
                </a:solidFill>
                <a:latin typeface="Arial"/>
                <a:ea typeface="みかちゃん-PB"/>
              </a:rPr>
              <a:t>メニュー</a:t>
            </a:r>
            <a:r>
              <a:rPr b="1" lang="zh-CN" sz="1000" spc="-1" strike="noStrike">
                <a:solidFill>
                  <a:srgbClr val="cc0099"/>
                </a:solidFill>
                <a:latin typeface="Arial"/>
                <a:ea typeface="みかちゃん-PB"/>
              </a:rPr>
              <a:t>ペー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77760"/>
            <a:ext cx="71946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みかちゃん-P"/>
              </a:rPr>
              <a:t>情報モラ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みかちゃん-P"/>
              </a:rPr>
              <a:t>学習ページ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みかちゃん-P"/>
              </a:rPr>
              <a:t>（小学校ば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419640" y="765000"/>
            <a:ext cx="2666520" cy="1981080"/>
            <a:chOff x="3419640" y="765000"/>
            <a:chExt cx="2666520" cy="1981080"/>
          </a:xfrm>
        </p:grpSpPr>
        <p:sp>
          <p:nvSpPr>
            <p:cNvPr id="140" name=""/>
            <p:cNvSpPr/>
            <p:nvPr/>
          </p:nvSpPr>
          <p:spPr>
            <a:xfrm>
              <a:off x="3419640" y="1222200"/>
              <a:ext cx="2514240" cy="1523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0f8f8"/>
                </a:gs>
                <a:gs pos="50000">
                  <a:srgbClr val="bbe0e3"/>
                </a:gs>
                <a:gs pos="100000">
                  <a:srgbClr val="f0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 u="sng">
                  <a:solidFill>
                    <a:srgbClr val="009999"/>
                  </a:solidFill>
                  <a:uFillTx/>
                  <a:latin typeface="Arial"/>
                  <a:ea typeface="みかちゃん-P"/>
                  <a:hlinkClick r:id="rId2"/>
                </a:rPr>
                <a:t>プレゼントほしいな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（こ人じょうほう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98840" y="111744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38600" y="765000"/>
              <a:ext cx="1447560" cy="304560"/>
            </a:xfrm>
            <a:prstGeom prst="wedgeRoundRectCallout">
              <a:avLst>
                <a:gd name="adj1" fmla="val 986"/>
                <a:gd name="adj2" fmla="val 181250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ウェブフォー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156360" y="1197000"/>
            <a:ext cx="2743200" cy="2209680"/>
            <a:chOff x="6156360" y="1197000"/>
            <a:chExt cx="2743200" cy="2209680"/>
          </a:xfrm>
        </p:grpSpPr>
        <p:sp>
          <p:nvSpPr>
            <p:cNvPr id="144" name=""/>
            <p:cNvSpPr/>
            <p:nvPr/>
          </p:nvSpPr>
          <p:spPr>
            <a:xfrm>
              <a:off x="6156360" y="1882800"/>
              <a:ext cx="2514600" cy="1523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0f8f8"/>
                </a:gs>
                <a:gs pos="50000">
                  <a:srgbClr val="bbe0e3"/>
                </a:gs>
                <a:gs pos="100000">
                  <a:srgbClr val="f0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みんな！聞いて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ゲームソフトが安いぞ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（正かくなじょうほう発信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12240" y="177804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51640" y="1197000"/>
              <a:ext cx="1447920" cy="304920"/>
            </a:xfrm>
            <a:prstGeom prst="wedgeRoundRectCallout">
              <a:avLst>
                <a:gd name="adj1" fmla="val 7787"/>
                <a:gd name="adj2" fmla="val 225523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電子けいじ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24000" y="1557360"/>
            <a:ext cx="2818800" cy="1828800"/>
            <a:chOff x="324000" y="1557360"/>
            <a:chExt cx="2818800" cy="1828800"/>
          </a:xfrm>
        </p:grpSpPr>
        <p:sp>
          <p:nvSpPr>
            <p:cNvPr id="148" name=""/>
            <p:cNvSpPr/>
            <p:nvPr/>
          </p:nvSpPr>
          <p:spPr>
            <a:xfrm>
              <a:off x="628560" y="1862280"/>
              <a:ext cx="2514240" cy="1523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0f8f8"/>
                </a:gs>
                <a:gs pos="50000">
                  <a:srgbClr val="bbe0e3"/>
                </a:gs>
                <a:gs pos="100000">
                  <a:srgbClr val="f0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テレビとインターネッ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はどうちがうの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（ネットワーク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4080" y="17575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000" y="1557360"/>
              <a:ext cx="1447560" cy="304920"/>
            </a:xfrm>
            <a:prstGeom prst="wedgeRoundRectCallout">
              <a:avLst>
                <a:gd name="adj1" fmla="val 40680"/>
                <a:gd name="adj2" fmla="val 121356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ネットのしく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300720" y="4076640"/>
            <a:ext cx="2590920" cy="2162160"/>
            <a:chOff x="6300720" y="4076640"/>
            <a:chExt cx="2590920" cy="2162160"/>
          </a:xfrm>
        </p:grpSpPr>
        <p:sp>
          <p:nvSpPr>
            <p:cNvPr id="152" name=""/>
            <p:cNvSpPr/>
            <p:nvPr/>
          </p:nvSpPr>
          <p:spPr>
            <a:xfrm>
              <a:off x="6377040" y="4181400"/>
              <a:ext cx="2514600" cy="1524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0f8f8"/>
                </a:gs>
                <a:gs pos="50000">
                  <a:srgbClr val="bbe0e3"/>
                </a:gs>
                <a:gs pos="100000">
                  <a:srgbClr val="f0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ウェブページを作ろ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（ちょ作けん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81800" y="4076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00720" y="5934240"/>
              <a:ext cx="1447920" cy="304560"/>
            </a:xfrm>
            <a:prstGeom prst="wedgeRoundRectCallout">
              <a:avLst>
                <a:gd name="adj1" fmla="val -874"/>
                <a:gd name="adj2" fmla="val -318231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ウェブページ</a:t>
              </a: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づくり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03640" y="4508640"/>
            <a:ext cx="2514600" cy="2162160"/>
            <a:chOff x="3203640" y="4508640"/>
            <a:chExt cx="2514600" cy="2162160"/>
          </a:xfrm>
        </p:grpSpPr>
        <p:sp>
          <p:nvSpPr>
            <p:cNvPr id="156" name=""/>
            <p:cNvSpPr/>
            <p:nvPr/>
          </p:nvSpPr>
          <p:spPr>
            <a:xfrm>
              <a:off x="3203640" y="4613400"/>
              <a:ext cx="2514600" cy="1523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0f8f8"/>
                </a:gs>
                <a:gs pos="50000">
                  <a:srgbClr val="bbe0e3"/>
                </a:gs>
                <a:gs pos="100000">
                  <a:srgbClr val="f0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チェーンメールが来たぞ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（発信じょうほうへの責任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59520" y="450864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５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8560" y="6365880"/>
              <a:ext cx="1447560" cy="304920"/>
            </a:xfrm>
            <a:prstGeom prst="wedgeRoundRectCallout">
              <a:avLst>
                <a:gd name="adj1" fmla="val 27629"/>
                <a:gd name="adj2" fmla="val -175000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電子メー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79280" y="4005360"/>
            <a:ext cx="2514600" cy="2238120"/>
            <a:chOff x="179280" y="4005360"/>
            <a:chExt cx="2514600" cy="2238120"/>
          </a:xfrm>
        </p:grpSpPr>
        <p:sp>
          <p:nvSpPr>
            <p:cNvPr id="160" name=""/>
            <p:cNvSpPr/>
            <p:nvPr/>
          </p:nvSpPr>
          <p:spPr>
            <a:xfrm>
              <a:off x="179280" y="4110120"/>
              <a:ext cx="2514600" cy="1523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0f8f8"/>
                </a:gs>
                <a:gs pos="50000">
                  <a:srgbClr val="bbe0e3"/>
                </a:gs>
                <a:gs pos="100000">
                  <a:srgbClr val="f0f8f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それ、ちがうんじゃないの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みかちゃん-P"/>
                </a:rPr>
                <a:t>（チャットでの相手意しき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34800" y="40053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1560" y="5938920"/>
              <a:ext cx="1447920" cy="304560"/>
            </a:xfrm>
            <a:prstGeom prst="wedgeRoundRectCallout">
              <a:avLst>
                <a:gd name="adj1" fmla="val 27629"/>
                <a:gd name="adj2" fmla="val -175000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チャッ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284720" y="3284640"/>
            <a:ext cx="533520" cy="522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58920" y="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じょう　ほ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4360" y="6381720"/>
            <a:ext cx="172872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先生・保護者の皆様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5308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明朝"/>
              </a:rPr>
              <a:t>著作　石川県教育センター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明朝"/>
              </a:rPr>
              <a:t>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このコンテンツについ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このコンテンツは、「平成１７年度　情報倫理プロジェクト」で作成したもので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著作権は、石川県教育センターにありま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石川県教育センターが、ウェブページに掲載している利用条件に同意いただ いた方のみに利用を認めていま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コンテンツ作成担当者（平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度　情報倫理プロジェクト委員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　　　　　内灘町立西荒屋小学校　　教諭　山下雅美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　　　　　白山市立東明小学校　　　 教諭　渡辺直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　　　　　　（勤務校、職名は平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度のものです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すべての問い合わせは、下記にお願いしま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　　　　　石川県教育センター情報教育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　　　　　　　電話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076-298-351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代） 　 ファック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076-298-351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6381720"/>
            <a:ext cx="172872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Arial"/>
              </a:rPr>
              <a:t>メニューに戻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0:45:26Z</dcterms:created>
  <dc:creator/>
  <dc:description/>
  <dc:language>en-US</dc:language>
  <cp:lastModifiedBy/>
  <dcterms:modified xsi:type="dcterms:W3CDTF">2006-04-07T04:32:44Z</dcterms:modified>
  <cp:revision>53</cp:revision>
  <dc:subject/>
  <dc:title>情報モラルって何？</dc:title>
</cp:coreProperties>
</file>