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DE8C-7CA9-4B68-92F0-EA4FC415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8A7E-3369-49FD-B639-FA465425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B8B5-7897-41B7-8F9A-9A4F3604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54E8-D53D-4B27-856F-D8511F1A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107A-1CEC-40D1-8823-EC379BA1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BCEC-82D7-4397-9C42-871097E8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A07-4095-4AAB-A8DF-AC0B50CB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E268-5AC9-4DC7-BCF0-3BEDFFB5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8EF8-9489-497C-A6DE-5A784B0C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6653-F131-4DA1-940E-4AC27463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322D-731F-4A06-8D86-F20155EB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97A1-4CAE-4EDE-AA73-E22D6AF4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66920" y="51811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C07B-6AA7-4E38-9B0C-21E55C6F7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077320" y="647712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hyperlink" Target="file:///ele-menu.ppt" TargetMode="External"/><Relationship Id="rId4" Type="http://schemas.openxmlformats.org/officeDocument/2006/relationships/slide" Target="slide2.xml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5.xml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" Target="slide5.xml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8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00360" y="2852640"/>
            <a:ext cx="2808360" cy="2117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みかちゃん-P"/>
              </a:rPr>
              <a:t>とびら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457200"/>
            <a:ext cx="849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みかちゃん-P"/>
              </a:rPr>
              <a:t>「テレビとインターネッ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みかちゃん-P"/>
              </a:rPr>
              <a:t>　　　　　　　はどうちがうの？」　　　　　　　　　　　　　　　　　　　　　　　　　　　　　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153280" y="64771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8534160" cy="6019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7236000" y="152280"/>
            <a:ext cx="175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メニューページにもど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7308720" y="5734080"/>
            <a:ext cx="1362240" cy="439560"/>
            <a:chOff x="7308720" y="5734080"/>
            <a:chExt cx="1362240" cy="439560"/>
          </a:xfrm>
        </p:grpSpPr>
        <p:sp>
          <p:nvSpPr>
            <p:cNvPr id="49" name=""/>
            <p:cNvSpPr/>
            <p:nvPr/>
          </p:nvSpPr>
          <p:spPr>
            <a:xfrm>
              <a:off x="7742160" y="573408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308720" y="5734080"/>
              <a:ext cx="439920" cy="439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5508720" y="3213000"/>
            <a:ext cx="3281400" cy="2311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324000" y="1628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851280" y="5013360"/>
            <a:ext cx="1143000" cy="1266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1" dur="1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" dur="1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" dur="1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2" dur="1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" dur="1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" dur="1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27640" y="270828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451640" y="6165720"/>
            <a:ext cx="1362240" cy="439920"/>
            <a:chOff x="7451640" y="6165720"/>
            <a:chExt cx="1362240" cy="439920"/>
          </a:xfrm>
        </p:grpSpPr>
        <p:sp>
          <p:nvSpPr>
            <p:cNvPr id="56" name=""/>
            <p:cNvSpPr/>
            <p:nvPr/>
          </p:nvSpPr>
          <p:spPr>
            <a:xfrm>
              <a:off x="7885080" y="616572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451640" y="6165720"/>
              <a:ext cx="439920" cy="43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324000" y="189000"/>
            <a:ext cx="8515080" cy="2256840"/>
            <a:chOff x="324000" y="189000"/>
            <a:chExt cx="8515080" cy="2256840"/>
          </a:xfrm>
        </p:grpSpPr>
        <p:sp>
          <p:nvSpPr>
            <p:cNvPr id="59" name=""/>
            <p:cNvSpPr/>
            <p:nvPr/>
          </p:nvSpPr>
          <p:spPr>
            <a:xfrm>
              <a:off x="324000" y="189000"/>
              <a:ext cx="851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明朝"/>
                  <a:ea typeface="ＭＳ 明朝"/>
                </a:rPr>
                <a:t>　４年生のひろちゃんはテレビが大すきです。小さいころから一日に３時間はかならず見ていました。あなたはどれぐらい見ていますか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774720" y="1012680"/>
              <a:ext cx="1444680" cy="14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719440" y="867960"/>
              <a:ext cx="3311640" cy="1080720"/>
            </a:xfrm>
            <a:prstGeom prst="wedgeRoundRectCallout">
              <a:avLst>
                <a:gd name="adj1" fmla="val -63902"/>
                <a:gd name="adj2" fmla="val 40013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みかちゃん-PB"/>
                </a:rPr>
                <a:t>　　戦隊ヒーロー　　アイドル　　　　　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みかちゃん-PB"/>
                </a:rPr>
                <a:t>　　バラエティ　　　　クイズ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みかちゃん-PB"/>
                </a:rPr>
                <a:t>　　　　　アニメ　　　　ドラ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みかちゃん-PB"/>
                </a:rPr>
                <a:t>　　　　　　　　　　　　　　　　　など・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95280" y="5300640"/>
            <a:ext cx="1143000" cy="1266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07840" y="4653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1057000">
            <a:off x="2692440" y="4593960"/>
            <a:ext cx="3556080" cy="1279440"/>
          </a:xfrm>
          <a:prstGeom prst="wedgeRoundRectCallout">
            <a:avLst>
              <a:gd name="adj1" fmla="val -86175"/>
              <a:gd name="adj2" fmla="val 1114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みかちゃん-PB"/>
              </a:rPr>
              <a:t>テレビとインターネット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みかちゃん-PB"/>
              </a:rPr>
              <a:t>ちがいがわかるかな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8200" y="378936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どちらも同じような画面なんだけれど・・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6732720" y="3500280"/>
            <a:ext cx="1849320" cy="2481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11200" y="2708280"/>
            <a:ext cx="812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このごろひろちゃんはテレビを見る時間が少なくな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それは、インターネットを使って、カードゲームのウェブページを見ることが多くなったから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80360" y="1989000"/>
            <a:ext cx="863640" cy="505080"/>
          </a:xfrm>
          <a:custGeom>
            <a:avLst/>
            <a:gdLst>
              <a:gd name="textAreaLeft" fmla="*/ 0 w 863640"/>
              <a:gd name="textAreaRight" fmla="*/ 864000 w 863640"/>
              <a:gd name="textAreaTop" fmla="*/ 65520 h 505080"/>
              <a:gd name="textAreaBottom" fmla="*/ 4399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みかちゃん-PB"/>
              </a:rPr>
              <a:t>クリッ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92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420"/>
                            </p:stCondLst>
                            <p:childTnLst>
                              <p:par>
                                <p:cTn id="61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3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4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420"/>
                            </p:stCondLst>
                            <p:childTnLst>
                              <p:par>
                                <p:cTn id="7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42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42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87640" y="5084640"/>
            <a:ext cx="1368720" cy="1773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みかちゃん-P"/>
              </a:rPr>
              <a:t>テレビは「放送」で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24360" y="558972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24000" y="2857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24000" y="4941720"/>
            <a:ext cx="1143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7524720" y="6237360"/>
            <a:ext cx="1362240" cy="439560"/>
            <a:chOff x="7524720" y="6237360"/>
            <a:chExt cx="1362240" cy="439560"/>
          </a:xfrm>
        </p:grpSpPr>
        <p:sp>
          <p:nvSpPr>
            <p:cNvPr id="75" name=""/>
            <p:cNvSpPr/>
            <p:nvPr/>
          </p:nvSpPr>
          <p:spPr>
            <a:xfrm>
              <a:off x="7958160" y="623736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524720" y="6237360"/>
              <a:ext cx="439920" cy="439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332000" y="692280"/>
            <a:ext cx="1143000" cy="1266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95640" y="1052640"/>
            <a:ext cx="4969080" cy="863640"/>
          </a:xfrm>
          <a:prstGeom prst="wedgeRoundRectCallout">
            <a:avLst>
              <a:gd name="adj1" fmla="val -78944"/>
              <a:gd name="adj2" fmla="val -3915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みかちゃん-PB"/>
              </a:rPr>
              <a:t>テレビは、放送局から電ぱというものに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みかちゃん-PB"/>
              </a:rPr>
              <a:t>動くがめんや声をのせて空にながし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16360" y="2133720"/>
            <a:ext cx="3960720" cy="774720"/>
          </a:xfrm>
          <a:prstGeom prst="wedgeRoundRectCallout">
            <a:avLst>
              <a:gd name="adj1" fmla="val -61745"/>
              <a:gd name="adj2" fmla="val -15184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みかちゃん-PB"/>
              </a:rPr>
              <a:t>放送局の人は、どんな人がばんぐみを見ているかわかりません。　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7451640" y="4869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7596360" y="2857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390920" y="3068640"/>
            <a:ext cx="360360" cy="223200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 rot="1870800">
            <a:off x="1476000" y="2960640"/>
            <a:ext cx="2232000" cy="93672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rot="9697800">
            <a:off x="1401840" y="4508280"/>
            <a:ext cx="2924640" cy="79848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715640" y="3141720"/>
            <a:ext cx="2737080" cy="86364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5076720" y="4220280"/>
            <a:ext cx="2664000" cy="100836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20121000">
            <a:off x="972720" y="4436640"/>
            <a:ext cx="3598920" cy="432000"/>
          </a:xfrm>
          <a:prstGeom prst="leftArrow">
            <a:avLst>
              <a:gd name="adj1" fmla="val 50000"/>
              <a:gd name="adj2" fmla="val 20827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165720"/>
            <a:ext cx="3384360" cy="5032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みかちゃん-PB"/>
              </a:rPr>
              <a:t>見ている人は、うけとるだ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51640" y="2276640"/>
            <a:ext cx="863640" cy="504720"/>
          </a:xfrm>
          <a:custGeom>
            <a:avLst/>
            <a:gdLst>
              <a:gd name="textAreaLeft" fmla="*/ 0 w 863640"/>
              <a:gd name="textAreaRight" fmla="*/ 864000 w 863640"/>
              <a:gd name="textAreaTop" fmla="*/ 65160 h 504720"/>
              <a:gd name="textAreaBottom" fmla="*/ 4395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みかちゃん-PB"/>
              </a:rPr>
              <a:t>クリッ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99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0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1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25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6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7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25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みかちゃん-P"/>
              </a:rPr>
              <a:t>インターネットは「通信」で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47640" y="3016080"/>
            <a:ext cx="836640" cy="824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596360" y="3048120"/>
            <a:ext cx="1081080" cy="761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132000" y="5805360"/>
            <a:ext cx="792360" cy="75420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7524720" y="6165720"/>
            <a:ext cx="1362240" cy="439920"/>
            <a:chOff x="7524720" y="6165720"/>
            <a:chExt cx="1362240" cy="439920"/>
          </a:xfrm>
        </p:grpSpPr>
        <p:sp>
          <p:nvSpPr>
            <p:cNvPr id="95" name=""/>
            <p:cNvSpPr/>
            <p:nvPr/>
          </p:nvSpPr>
          <p:spPr>
            <a:xfrm>
              <a:off x="7958160" y="616572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524720" y="6165720"/>
              <a:ext cx="439920" cy="439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395280" y="836640"/>
            <a:ext cx="1143000" cy="1266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43280" y="692280"/>
            <a:ext cx="4968720" cy="863640"/>
          </a:xfrm>
          <a:prstGeom prst="wedgeRoundRectCallout">
            <a:avLst>
              <a:gd name="adj1" fmla="val -75240"/>
              <a:gd name="adj2" fmla="val 406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みかちゃん-PB"/>
              </a:rPr>
              <a:t>インターネットはパソコンなどのコンピュータどうしをつなぐ「あみ」のようなもの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1628640"/>
            <a:ext cx="6409080" cy="792360"/>
          </a:xfrm>
          <a:prstGeom prst="wedgeRoundRectCallout">
            <a:avLst>
              <a:gd name="adj1" fmla="val -56736"/>
              <a:gd name="adj2" fmla="val -397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みかちゃん-PB"/>
              </a:rPr>
              <a:t>コンピュータどうしは自分の番号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みかちゃん-PB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みかちゃん-PB"/>
              </a:rPr>
              <a:t>アドレスといいます）を知らせあって、つながるしくみ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56720" y="1052640"/>
            <a:ext cx="863280" cy="504720"/>
          </a:xfrm>
          <a:custGeom>
            <a:avLst/>
            <a:gdLst>
              <a:gd name="textAreaLeft" fmla="*/ 0 w 863280"/>
              <a:gd name="textAreaRight" fmla="*/ 863640 w 863280"/>
              <a:gd name="textAreaTop" fmla="*/ 65160 h 504720"/>
              <a:gd name="textAreaBottom" fmla="*/ 4395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みかちゃん-PB"/>
              </a:rPr>
              <a:t>クリッ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6948360" y="4941720"/>
            <a:ext cx="930240" cy="878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4140360" y="2940120"/>
            <a:ext cx="1296720" cy="977760"/>
          </a:xfrm>
          <a:prstGeom prst="rect">
            <a:avLst/>
          </a:prstGeom>
          <a:ln w="0">
            <a:noFill/>
          </a:ln>
        </p:spPr>
      </p:pic>
      <p:cxnSp>
        <p:nvCxnSpPr>
          <p:cNvPr id="103" name=""/>
          <p:cNvCxnSpPr/>
          <p:nvPr/>
        </p:nvCxnSpPr>
        <p:spPr>
          <a:xfrm>
            <a:off x="2268360" y="3416040"/>
            <a:ext cx="1756800" cy="1080"/>
          </a:xfrm>
          <a:prstGeom prst="curvedConnector2">
            <a:avLst/>
          </a:prstGeom>
          <a:ln w="76320">
            <a:solidFill>
              <a:srgbClr val="ff0000"/>
            </a:solidFill>
            <a:miter/>
          </a:ln>
        </p:spPr>
      </p:cxnSp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395280" y="4941720"/>
            <a:ext cx="792000" cy="754200"/>
          </a:xfrm>
          <a:prstGeom prst="rect">
            <a:avLst/>
          </a:prstGeom>
          <a:ln w="0">
            <a:noFill/>
          </a:ln>
        </p:spPr>
      </p:pic>
      <p:cxnSp>
        <p:nvCxnSpPr>
          <p:cNvPr id="105" name=""/>
          <p:cNvCxnSpPr>
            <a:stCxn id="104" idx="3"/>
            <a:endCxn id="91" idx="1"/>
          </p:cNvCxnSpPr>
          <p:nvPr/>
        </p:nvCxnSpPr>
        <p:spPr>
          <a:xfrm flipV="1">
            <a:off x="1186920" y="3428640"/>
            <a:ext cx="361080" cy="1891440"/>
          </a:xfrm>
          <a:prstGeom prst="curvedConnector5">
            <a:avLst>
              <a:gd name="adj1" fmla="val 49700"/>
              <a:gd name="adj2" fmla="val 49990"/>
              <a:gd name="adj3" fmla="val 49700"/>
            </a:avLst>
          </a:prstGeom>
          <a:ln w="76320">
            <a:solidFill>
              <a:srgbClr val="ff0000"/>
            </a:solidFill>
            <a:miter/>
          </a:ln>
        </p:spPr>
      </p:cxnSp>
      <p:cxnSp>
        <p:nvCxnSpPr>
          <p:cNvPr id="106" name=""/>
          <p:cNvCxnSpPr>
            <a:stCxn id="93" idx="3"/>
            <a:endCxn id="101" idx="2"/>
          </p:cNvCxnSpPr>
          <p:nvPr/>
        </p:nvCxnSpPr>
        <p:spPr>
          <a:xfrm flipV="1">
            <a:off x="3924360" y="5819400"/>
            <a:ext cx="3489840" cy="364320"/>
          </a:xfrm>
          <a:prstGeom prst="curvedConnector2">
            <a:avLst/>
          </a:prstGeom>
          <a:ln w="76320">
            <a:solidFill>
              <a:srgbClr val="ff0000"/>
            </a:solidFill>
            <a:miter/>
          </a:ln>
        </p:spPr>
      </p:cxnSp>
      <p:cxnSp>
        <p:nvCxnSpPr>
          <p:cNvPr id="107" name=""/>
          <p:cNvCxnSpPr>
            <a:stCxn id="91" idx="2"/>
            <a:endCxn id="93" idx="1"/>
          </p:cNvCxnSpPr>
          <p:nvPr/>
        </p:nvCxnSpPr>
        <p:spPr>
          <a:xfrm flipH="1" rot="16200000">
            <a:off x="1377720" y="4428720"/>
            <a:ext cx="2343960" cy="1165680"/>
          </a:xfrm>
          <a:prstGeom prst="curvedConnector2">
            <a:avLst/>
          </a:prstGeom>
          <a:ln w="76320">
            <a:solidFill>
              <a:srgbClr val="ff0000"/>
            </a:solidFill>
            <a:miter/>
          </a:ln>
        </p:spPr>
      </p:cxnSp>
      <p:cxnSp>
        <p:nvCxnSpPr>
          <p:cNvPr id="108" name=""/>
          <p:cNvCxnSpPr>
            <a:stCxn id="102" idx="3"/>
            <a:endCxn id="101" idx="1"/>
          </p:cNvCxnSpPr>
          <p:nvPr/>
        </p:nvCxnSpPr>
        <p:spPr>
          <a:xfrm>
            <a:off x="5437080" y="3429000"/>
            <a:ext cx="1512000" cy="195300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76320">
            <a:solidFill>
              <a:srgbClr val="ff0000"/>
            </a:solidFill>
            <a:miter/>
          </a:ln>
        </p:spPr>
      </p:cxnSp>
      <p:cxnSp>
        <p:nvCxnSpPr>
          <p:cNvPr id="109" name=""/>
          <p:cNvCxnSpPr>
            <a:stCxn id="101" idx="3"/>
            <a:endCxn id="92" idx="2"/>
          </p:cNvCxnSpPr>
          <p:nvPr/>
        </p:nvCxnSpPr>
        <p:spPr>
          <a:xfrm flipV="1">
            <a:off x="7878240" y="3809520"/>
            <a:ext cx="259560" cy="1572480"/>
          </a:xfrm>
          <a:prstGeom prst="curvedConnector2">
            <a:avLst/>
          </a:prstGeom>
          <a:ln w="76320">
            <a:solidFill>
              <a:srgbClr val="ff0000"/>
            </a:solidFill>
            <a:miter/>
          </a:ln>
        </p:spPr>
      </p:cxnSp>
      <p:cxnSp>
        <p:nvCxnSpPr>
          <p:cNvPr id="110" name=""/>
          <p:cNvCxnSpPr>
            <a:stCxn id="93" idx="1"/>
            <a:endCxn id="102" idx="2"/>
          </p:cNvCxnSpPr>
          <p:nvPr/>
        </p:nvCxnSpPr>
        <p:spPr>
          <a:xfrm flipH="1" rot="10800000">
            <a:off x="3131640" y="3917160"/>
            <a:ext cx="1658160" cy="2265840"/>
          </a:xfrm>
          <a:prstGeom prst="curvedConnector5">
            <a:avLst>
              <a:gd name="adj1" fmla="val -13789"/>
              <a:gd name="adj2" fmla="val 29143"/>
              <a:gd name="adj3" fmla="val -13789"/>
            </a:avLst>
          </a:prstGeom>
          <a:ln w="76320">
            <a:solidFill>
              <a:srgbClr val="ff0000"/>
            </a:solidFill>
            <a:miter/>
          </a:ln>
        </p:spPr>
      </p:cxnSp>
      <p:cxnSp>
        <p:nvCxnSpPr>
          <p:cNvPr id="111" name=""/>
          <p:cNvCxnSpPr>
            <a:stCxn id="93" idx="3"/>
          </p:cNvCxnSpPr>
          <p:nvPr/>
        </p:nvCxnSpPr>
        <p:spPr>
          <a:xfrm flipV="1">
            <a:off x="3924000" y="3593880"/>
            <a:ext cx="3312360" cy="2589840"/>
          </a:xfrm>
          <a:prstGeom prst="curvedConnector5">
            <a:avLst>
              <a:gd name="adj1" fmla="val 50000"/>
              <a:gd name="adj2" fmla="val 49993"/>
              <a:gd name="adj3" fmla="val 50000"/>
            </a:avLst>
          </a:prstGeom>
          <a:ln w="76320">
            <a:solidFill>
              <a:srgbClr val="ff0000"/>
            </a:solidFill>
            <a:miter/>
          </a:ln>
        </p:spPr>
      </p:cxnSp>
      <p:cxnSp>
        <p:nvCxnSpPr>
          <p:cNvPr id="112" name=""/>
          <p:cNvCxnSpPr>
            <a:stCxn id="104" idx="2"/>
            <a:endCxn id="93" idx="2"/>
          </p:cNvCxnSpPr>
          <p:nvPr/>
        </p:nvCxnSpPr>
        <p:spPr>
          <a:xfrm flipH="1" rot="16200000">
            <a:off x="1727640" y="4758840"/>
            <a:ext cx="864360" cy="2737800"/>
          </a:xfrm>
          <a:prstGeom prst="curvedConnector5">
            <a:avLst>
              <a:gd name="adj1" fmla="val 126458"/>
              <a:gd name="adj2" fmla="val 50000"/>
              <a:gd name="adj3" fmla="val 126458"/>
            </a:avLst>
          </a:prstGeom>
          <a:ln w="76320">
            <a:solidFill>
              <a:srgbClr val="ff0000"/>
            </a:solidFill>
            <a:miter/>
          </a:ln>
        </p:spPr>
      </p:cxnSp>
      <p:sp>
        <p:nvSpPr>
          <p:cNvPr id="113" name=""/>
          <p:cNvSpPr/>
          <p:nvPr/>
        </p:nvSpPr>
        <p:spPr>
          <a:xfrm>
            <a:off x="2916360" y="4005360"/>
            <a:ext cx="5761080" cy="7038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みかちゃん-PB"/>
              </a:rPr>
              <a:t>だから、調べれば、だれが発信しているか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みかちゃん-PB"/>
              </a:rPr>
              <a:t>だれが受信しているかがわかります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みかちゃん-PB"/>
              </a:rPr>
              <a:t>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" y="5805360"/>
            <a:ext cx="1460880" cy="276480"/>
          </a:xfrm>
          <a:prstGeom prst="rect">
            <a:avLst/>
          </a:prstGeom>
          <a:solidFill>
            <a:srgbClr val="ff99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１０．１２１．１５９．１８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0800" y="2565360"/>
            <a:ext cx="1552320" cy="276480"/>
          </a:xfrm>
          <a:prstGeom prst="rect">
            <a:avLst/>
          </a:prstGeom>
          <a:solidFill>
            <a:srgbClr val="ff99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１７２．１４１．１５９．１６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95840" y="2565360"/>
            <a:ext cx="1552320" cy="276480"/>
          </a:xfrm>
          <a:prstGeom prst="rect">
            <a:avLst/>
          </a:prstGeom>
          <a:solidFill>
            <a:srgbClr val="ff99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１９２．１０１．１１９．１１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31040" y="2637000"/>
            <a:ext cx="1460880" cy="276480"/>
          </a:xfrm>
          <a:prstGeom prst="rect">
            <a:avLst/>
          </a:prstGeom>
          <a:solidFill>
            <a:srgbClr val="ff99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１０．１６１．１７９．１０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62320" y="6381720"/>
            <a:ext cx="1460880" cy="276480"/>
          </a:xfrm>
          <a:prstGeom prst="rect">
            <a:avLst/>
          </a:prstGeom>
          <a:solidFill>
            <a:srgbClr val="ff99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１７２．１１．１６９．１１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94560" y="5661000"/>
            <a:ext cx="1552320" cy="276480"/>
          </a:xfrm>
          <a:prstGeom prst="rect">
            <a:avLst/>
          </a:prstGeom>
          <a:solidFill>
            <a:srgbClr val="ff99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１９２．１２１．１５９．１７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/>
          <p:nvPr/>
        </p:nvCxnSpPr>
        <p:spPr>
          <a:xfrm>
            <a:off x="2268360" y="3428640"/>
            <a:ext cx="1756800" cy="1080"/>
          </a:xfrm>
          <a:prstGeom prst="curvedConnector2">
            <a:avLst/>
          </a:prstGeom>
          <a:ln w="76320">
            <a:solidFill>
              <a:srgbClr val="ff0000"/>
            </a:solidFill>
            <a:miter/>
          </a:ln>
        </p:spPr>
      </p:cxnSp>
    </p:spTree>
  </p:cSld>
  <p:transition>
    <p:fade thruBlk="true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77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8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500"/>
                            </p:stCondLst>
                            <p:childTnLst>
                              <p:par>
                                <p:cTn id="19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03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4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5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200"/>
                            </p:stCondLst>
                            <p:childTnLst>
                              <p:par>
                                <p:cTn id="2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400"/>
                            </p:stCondLst>
                            <p:childTnLst>
                              <p:par>
                                <p:cTn id="259" nodeType="afterEffect" fill="hold" presetClass="entr" presetID="22" presetSubtype="8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900"/>
                            </p:stCondLst>
                            <p:childTnLst>
                              <p:par>
                                <p:cTn id="263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900"/>
                            </p:stCondLst>
                            <p:childTnLst>
                              <p:par>
                                <p:cTn id="267" nodeType="afterEffect" fill="hold" presetClass="entr" presetID="22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9400"/>
                            </p:stCondLst>
                            <p:childTnLst>
                              <p:par>
                                <p:cTn id="271" nodeType="after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900"/>
                            </p:stCondLst>
                            <p:childTnLst>
                              <p:par>
                                <p:cTn id="2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1399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240000" cy="2952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95280" y="333360"/>
            <a:ext cx="820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89000"/>
            <a:ext cx="81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Ｑ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さて、もんだい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「インターネット」の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  <a:ea typeface="HG創英角ﾎﾟｯﾌﾟ体"/>
              </a:rPr>
              <a:t>しくみ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は次のどれとにていると思いますか。</a:t>
            </a:r>
            <a:r>
              <a:rPr b="0" lang="ja-JP" sz="18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　　　</a:t>
            </a:r>
            <a:r>
              <a:rPr b="0" lang="ja-JP" sz="20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　　　　　　　　　　　　　　　　　　　　　　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6360" y="1484280"/>
            <a:ext cx="417672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HG創英角ﾎﾟｯﾌﾟ体"/>
              </a:rPr>
              <a:t>決めたら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HG創英角ﾎﾟｯﾌﾟ体"/>
              </a:rPr>
              <a:t>　　そのふきだしをクリックしよ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276720" y="1989000"/>
            <a:ext cx="5688000" cy="1800360"/>
            <a:chOff x="3276720" y="1989000"/>
            <a:chExt cx="5688000" cy="1800360"/>
          </a:xfrm>
        </p:grpSpPr>
        <p:sp>
          <p:nvSpPr>
            <p:cNvPr id="126" name="">
              <a:hlinkClick r:id="rId2" action="ppaction://hlinksldjump"/>
            </p:cNvPr>
            <p:cNvSpPr/>
            <p:nvPr/>
          </p:nvSpPr>
          <p:spPr>
            <a:xfrm>
              <a:off x="4140360" y="2565360"/>
              <a:ext cx="4824360" cy="1224000"/>
            </a:xfrm>
            <a:prstGeom prst="wedgeRoundRectCallout">
              <a:avLst>
                <a:gd name="adj1" fmla="val -49833"/>
                <a:gd name="adj2" fmla="val -86185"/>
                <a:gd name="adj3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①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いつでもおもしろいし、やっぱり、テレビでしょう。だって画面がそっくりなんだもん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76720" y="1989000"/>
              <a:ext cx="914400" cy="411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テレ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08000" y="3860640"/>
            <a:ext cx="4248000" cy="2808360"/>
            <a:chOff x="108000" y="3860640"/>
            <a:chExt cx="4248000" cy="2808360"/>
          </a:xfrm>
        </p:grpSpPr>
        <p:sp>
          <p:nvSpPr>
            <p:cNvPr id="129" name=""/>
            <p:cNvSpPr/>
            <p:nvPr/>
          </p:nvSpPr>
          <p:spPr>
            <a:xfrm>
              <a:off x="611280" y="3860640"/>
              <a:ext cx="1824120" cy="505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ＤＶＤ・ビデ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>
              <a:hlinkClick r:id="rId3" action="ppaction://hlinksldjump"/>
            </p:cNvPr>
            <p:cNvSpPr/>
            <p:nvPr/>
          </p:nvSpPr>
          <p:spPr>
            <a:xfrm>
              <a:off x="108000" y="5229360"/>
              <a:ext cx="4248000" cy="1439640"/>
            </a:xfrm>
            <a:prstGeom prst="wedgeRoundRectCallout">
              <a:avLst>
                <a:gd name="adj1" fmla="val 412"/>
                <a:gd name="adj2" fmla="val -120342"/>
                <a:gd name="adj3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66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②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いろいろなおもしろいアニメや音楽が楽しめるからＤＶＤ・ビデオみたいだね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132000" y="3645000"/>
            <a:ext cx="5832360" cy="2808360"/>
            <a:chOff x="3132000" y="3645000"/>
            <a:chExt cx="5832360" cy="2808360"/>
          </a:xfrm>
        </p:grpSpPr>
        <p:sp>
          <p:nvSpPr>
            <p:cNvPr id="132" name="">
              <a:hlinkClick r:id="rId4" action="ppaction://hlinksldjump"/>
            </p:cNvPr>
            <p:cNvSpPr/>
            <p:nvPr/>
          </p:nvSpPr>
          <p:spPr>
            <a:xfrm>
              <a:off x="3132000" y="3645000"/>
              <a:ext cx="949320" cy="432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でん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>
              <a:hlinkClick r:id="rId5" action="ppaction://hlinksldjump"/>
            </p:cNvPr>
            <p:cNvSpPr/>
            <p:nvPr/>
          </p:nvSpPr>
          <p:spPr>
            <a:xfrm>
              <a:off x="4476960" y="5229360"/>
              <a:ext cx="4487400" cy="1224000"/>
            </a:xfrm>
            <a:prstGeom prst="wedgeRoundRectCallout">
              <a:avLst>
                <a:gd name="adj1" fmla="val -60689"/>
                <a:gd name="adj2" fmla="val -147148"/>
                <a:gd name="adj3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66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③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番号をはっきりさせてつながっているんだから、でんわみたいだね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7380360" y="4221000"/>
            <a:ext cx="1361520" cy="439920"/>
            <a:chOff x="7380360" y="4221000"/>
            <a:chExt cx="1361520" cy="439920"/>
          </a:xfrm>
        </p:grpSpPr>
        <p:sp>
          <p:nvSpPr>
            <p:cNvPr id="135" name=""/>
            <p:cNvSpPr/>
            <p:nvPr/>
          </p:nvSpPr>
          <p:spPr>
            <a:xfrm>
              <a:off x="7813440" y="422100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もど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380360" y="4221000"/>
              <a:ext cx="439560" cy="439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284720" cy="3214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95280" y="333360"/>
            <a:ext cx="820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260280"/>
            <a:ext cx="6408720" cy="1368360"/>
          </a:xfrm>
          <a:prstGeom prst="wedgeRoundRectCallout">
            <a:avLst>
              <a:gd name="adj1" fmla="val 30157"/>
              <a:gd name="adj2" fmla="val 124708"/>
              <a:gd name="adj3" fmla="val 16667"/>
            </a:avLst>
          </a:prstGeom>
          <a:solidFill>
            <a:srgbClr val="ffffff"/>
          </a:solidFill>
          <a:ln w="54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ちょっと、待ってください。外から見た感じじゃなくて、インターネットのしくみについて考えてみてください。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ea typeface="HG創英角ﾎﾟｯﾌﾟ体"/>
                <a:hlinkClick r:id="rId2" action="ppaction://hlinksldjump"/>
              </a:rPr>
              <a:t>ふりだしにもど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451640" y="4292640"/>
            <a:ext cx="1362240" cy="439560"/>
            <a:chOff x="7451640" y="4292640"/>
            <a:chExt cx="1362240" cy="439560"/>
          </a:xfrm>
        </p:grpSpPr>
        <p:sp>
          <p:nvSpPr>
            <p:cNvPr id="141" name=""/>
            <p:cNvSpPr/>
            <p:nvPr/>
          </p:nvSpPr>
          <p:spPr>
            <a:xfrm>
              <a:off x="7885080" y="429264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3"/>
            <a:stretch/>
          </p:blipFill>
          <p:spPr>
            <a:xfrm>
              <a:off x="7451640" y="4292640"/>
              <a:ext cx="439920" cy="4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"/>
          <p:cNvGrpSpPr/>
          <p:nvPr/>
        </p:nvGrpSpPr>
        <p:grpSpPr>
          <a:xfrm>
            <a:off x="3276720" y="1989000"/>
            <a:ext cx="5688000" cy="1800360"/>
            <a:chOff x="3276720" y="1989000"/>
            <a:chExt cx="5688000" cy="1800360"/>
          </a:xfrm>
        </p:grpSpPr>
        <p:sp>
          <p:nvSpPr>
            <p:cNvPr id="144" name="">
              <a:hlinkClick r:id="rId4" action="ppaction://hlinksldjump"/>
            </p:cNvPr>
            <p:cNvSpPr/>
            <p:nvPr/>
          </p:nvSpPr>
          <p:spPr>
            <a:xfrm>
              <a:off x="4140360" y="2565360"/>
              <a:ext cx="4824360" cy="1224000"/>
            </a:xfrm>
            <a:prstGeom prst="wedgeRoundRectCallout">
              <a:avLst>
                <a:gd name="adj1" fmla="val -49833"/>
                <a:gd name="adj2" fmla="val -86185"/>
                <a:gd name="adj3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①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いつでもおもしろいし、やっぱり、テレビでしょう。だって画面がそっくりなんだもん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76720" y="1989000"/>
              <a:ext cx="914400" cy="411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テレ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8000" y="3860640"/>
            <a:ext cx="4248000" cy="2808360"/>
            <a:chOff x="108000" y="3860640"/>
            <a:chExt cx="4248000" cy="2808360"/>
          </a:xfrm>
        </p:grpSpPr>
        <p:sp>
          <p:nvSpPr>
            <p:cNvPr id="147" name=""/>
            <p:cNvSpPr/>
            <p:nvPr/>
          </p:nvSpPr>
          <p:spPr>
            <a:xfrm>
              <a:off x="611280" y="3860640"/>
              <a:ext cx="1824120" cy="50508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808080"/>
                  </a:solidFill>
                  <a:latin typeface="Arial"/>
                  <a:ea typeface="HG創英角ﾎﾟｯﾌﾟ体"/>
                </a:rPr>
                <a:t>ＤＶＤ・ビデ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>
              <a:hlinkClick r:id="rId5" action="ppaction://hlinksldjump"/>
            </p:cNvPr>
            <p:cNvSpPr/>
            <p:nvPr/>
          </p:nvSpPr>
          <p:spPr>
            <a:xfrm>
              <a:off x="108000" y="5229360"/>
              <a:ext cx="4248000" cy="1439640"/>
            </a:xfrm>
            <a:prstGeom prst="wedgeRoundRectCallout">
              <a:avLst>
                <a:gd name="adj1" fmla="val 412"/>
                <a:gd name="adj2" fmla="val -120342"/>
                <a:gd name="adj3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  <a:ea typeface="HG創英角ﾎﾟｯﾌﾟ体"/>
                </a:rPr>
                <a:t>②</a:t>
              </a:r>
              <a:r>
                <a:rPr b="0" lang="zh-CN" sz="2000" spc="-1" strike="noStrike">
                  <a:solidFill>
                    <a:srgbClr val="808080"/>
                  </a:solidFill>
                  <a:latin typeface="Arial"/>
                  <a:ea typeface="HG創英角ﾎﾟｯﾌﾟ体"/>
                </a:rPr>
                <a:t>いろいろなおもしろいアニメや音楽が楽しめるからＤＶＤ・ビデオみたいだね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132000" y="3645000"/>
            <a:ext cx="5832360" cy="2808360"/>
            <a:chOff x="3132000" y="3645000"/>
            <a:chExt cx="5832360" cy="2808360"/>
          </a:xfrm>
        </p:grpSpPr>
        <p:sp>
          <p:nvSpPr>
            <p:cNvPr id="150" name="">
              <a:hlinkClick r:id="rId6" action="ppaction://hlinksldjump"/>
            </p:cNvPr>
            <p:cNvSpPr/>
            <p:nvPr/>
          </p:nvSpPr>
          <p:spPr>
            <a:xfrm>
              <a:off x="3132000" y="3645000"/>
              <a:ext cx="949320" cy="43200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808080"/>
                  </a:solidFill>
                  <a:latin typeface="Arial"/>
                  <a:ea typeface="HG創英角ﾎﾟｯﾌﾟ体"/>
                </a:rPr>
                <a:t>でん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>
              <a:hlinkClick r:id="rId7" action="ppaction://hlinksldjump"/>
            </p:cNvPr>
            <p:cNvSpPr/>
            <p:nvPr/>
          </p:nvSpPr>
          <p:spPr>
            <a:xfrm>
              <a:off x="4476960" y="5229360"/>
              <a:ext cx="4487400" cy="1224000"/>
            </a:xfrm>
            <a:prstGeom prst="wedgeRoundRectCallout">
              <a:avLst>
                <a:gd name="adj1" fmla="val -60689"/>
                <a:gd name="adj2" fmla="val -147148"/>
                <a:gd name="adj3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808080"/>
                  </a:solidFill>
                  <a:latin typeface="Arial"/>
                  <a:ea typeface="HG創英角ﾎﾟｯﾌﾟ体"/>
                </a:rPr>
                <a:t>③</a:t>
              </a:r>
              <a:r>
                <a:rPr b="0" lang="ja-JP" sz="2000" spc="-1" strike="noStrike">
                  <a:solidFill>
                    <a:srgbClr val="808080"/>
                  </a:solidFill>
                  <a:latin typeface="Arial"/>
                  <a:ea typeface="HG創英角ﾎﾟｯﾌﾟ体"/>
                </a:rPr>
                <a:t>番号をはっきりさせてつながっているんだから、でんわみたいだね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284720" cy="3240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95280" y="333360"/>
            <a:ext cx="820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40000" y="260280"/>
            <a:ext cx="6624720" cy="1440000"/>
          </a:xfrm>
          <a:prstGeom prst="wedgeRoundRectCallout">
            <a:avLst>
              <a:gd name="adj1" fmla="val 15754"/>
              <a:gd name="adj2" fmla="val 289138"/>
              <a:gd name="adj3" fmla="val 16667"/>
            </a:avLst>
          </a:prstGeom>
          <a:solidFill>
            <a:srgbClr val="ffffff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正かいです。電話のように相手がだれなのか、はっきりわかります。インターネットは電話とおなじ「通信」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7380360" y="4365720"/>
            <a:ext cx="1361520" cy="439560"/>
            <a:chOff x="7380360" y="4365720"/>
            <a:chExt cx="1361520" cy="439560"/>
          </a:xfrm>
        </p:grpSpPr>
        <p:sp>
          <p:nvSpPr>
            <p:cNvPr id="156" name=""/>
            <p:cNvSpPr/>
            <p:nvPr/>
          </p:nvSpPr>
          <p:spPr>
            <a:xfrm>
              <a:off x="7813440" y="436572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7380360" y="4365720"/>
              <a:ext cx="439560" cy="4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"/>
          <p:cNvGrpSpPr/>
          <p:nvPr/>
        </p:nvGrpSpPr>
        <p:grpSpPr>
          <a:xfrm>
            <a:off x="3276720" y="1989000"/>
            <a:ext cx="5688000" cy="1800360"/>
            <a:chOff x="3276720" y="1989000"/>
            <a:chExt cx="5688000" cy="1800360"/>
          </a:xfrm>
        </p:grpSpPr>
        <p:sp>
          <p:nvSpPr>
            <p:cNvPr id="159" name="">
              <a:hlinkClick r:id="rId3" action="ppaction://hlinksldjump"/>
            </p:cNvPr>
            <p:cNvSpPr/>
            <p:nvPr/>
          </p:nvSpPr>
          <p:spPr>
            <a:xfrm>
              <a:off x="4140360" y="2565360"/>
              <a:ext cx="4824360" cy="1224000"/>
            </a:xfrm>
            <a:prstGeom prst="wedgeRoundRectCallout">
              <a:avLst>
                <a:gd name="adj1" fmla="val -49833"/>
                <a:gd name="adj2" fmla="val -86185"/>
                <a:gd name="adj3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  <a:ea typeface="HG創英角ﾎﾟｯﾌﾟ体"/>
                </a:rPr>
                <a:t>①</a:t>
              </a:r>
              <a:r>
                <a:rPr b="0" lang="zh-CN" sz="2000" spc="-1" strike="noStrike">
                  <a:solidFill>
                    <a:srgbClr val="808080"/>
                  </a:solidFill>
                  <a:latin typeface="Arial"/>
                  <a:ea typeface="HG創英角ﾎﾟｯﾌﾟ体"/>
                </a:rPr>
                <a:t>いつでもおもしろいし、やっぱり、テレビでしょう。だって画面がそっくりなんだもん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76720" y="1989000"/>
              <a:ext cx="914400" cy="41148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808080"/>
                  </a:solidFill>
                  <a:latin typeface="Arial"/>
                  <a:ea typeface="HG創英角ﾎﾟｯﾌﾟ体"/>
                </a:rPr>
                <a:t>テレ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132000" y="3645000"/>
            <a:ext cx="5832360" cy="2808360"/>
            <a:chOff x="3132000" y="3645000"/>
            <a:chExt cx="5832360" cy="2808360"/>
          </a:xfrm>
        </p:grpSpPr>
        <p:sp>
          <p:nvSpPr>
            <p:cNvPr id="162" name="">
              <a:hlinkClick r:id="rId4" action="ppaction://hlinksldjump"/>
            </p:cNvPr>
            <p:cNvSpPr/>
            <p:nvPr/>
          </p:nvSpPr>
          <p:spPr>
            <a:xfrm>
              <a:off x="3132000" y="3645000"/>
              <a:ext cx="949320" cy="432000"/>
            </a:xfrm>
            <a:prstGeom prst="roundRect">
              <a:avLst>
                <a:gd name="adj" fmla="val 16667"/>
              </a:avLst>
            </a:prstGeom>
            <a:solidFill>
              <a:srgbClr val="ff6699"/>
            </a:solidFill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でん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>
              <a:hlinkClick r:id="rId5" action="ppaction://hlinksldjump"/>
            </p:cNvPr>
            <p:cNvSpPr/>
            <p:nvPr/>
          </p:nvSpPr>
          <p:spPr>
            <a:xfrm>
              <a:off x="4476960" y="5229360"/>
              <a:ext cx="4487400" cy="1224000"/>
            </a:xfrm>
            <a:prstGeom prst="wedgeRoundRectCallout">
              <a:avLst>
                <a:gd name="adj1" fmla="val -60689"/>
                <a:gd name="adj2" fmla="val -147148"/>
                <a:gd name="adj3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66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③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番号をはっきりさせてつながっているんだから、でんわみたいだね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08000" y="3860640"/>
            <a:ext cx="4248000" cy="2808360"/>
            <a:chOff x="108000" y="3860640"/>
            <a:chExt cx="4248000" cy="2808360"/>
          </a:xfrm>
        </p:grpSpPr>
        <p:sp>
          <p:nvSpPr>
            <p:cNvPr id="165" name=""/>
            <p:cNvSpPr/>
            <p:nvPr/>
          </p:nvSpPr>
          <p:spPr>
            <a:xfrm>
              <a:off x="611280" y="3860640"/>
              <a:ext cx="1824120" cy="50508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808080"/>
                  </a:solidFill>
                  <a:latin typeface="Arial"/>
                  <a:ea typeface="HG創英角ﾎﾟｯﾌﾟ体"/>
                </a:rPr>
                <a:t>ＤＶＤ・ビデ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>
              <a:hlinkClick r:id="rId6" action="ppaction://hlinksldjump"/>
            </p:cNvPr>
            <p:cNvSpPr/>
            <p:nvPr/>
          </p:nvSpPr>
          <p:spPr>
            <a:xfrm>
              <a:off x="108000" y="5229360"/>
              <a:ext cx="4248000" cy="1439640"/>
            </a:xfrm>
            <a:prstGeom prst="wedgeRoundRectCallout">
              <a:avLst>
                <a:gd name="adj1" fmla="val 412"/>
                <a:gd name="adj2" fmla="val -120342"/>
                <a:gd name="adj3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  <a:ea typeface="HG創英角ﾎﾟｯﾌﾟ体"/>
                </a:rPr>
                <a:t>②</a:t>
              </a:r>
              <a:r>
                <a:rPr b="0" lang="zh-CN" sz="2000" spc="-1" strike="noStrike">
                  <a:solidFill>
                    <a:srgbClr val="808080"/>
                  </a:solidFill>
                  <a:latin typeface="Arial"/>
                  <a:ea typeface="HG創英角ﾎﾟｯﾌﾟ体"/>
                </a:rPr>
                <a:t>いろいろなおもしろいアニメや音楽が楽しめるからＤＶＤ・ビデオみたいだね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284720" cy="3214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95280" y="333360"/>
            <a:ext cx="820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260280"/>
            <a:ext cx="7200720" cy="1368360"/>
          </a:xfrm>
          <a:prstGeom prst="wedgeRoundRectCallout">
            <a:avLst>
              <a:gd name="adj1" fmla="val -33222"/>
              <a:gd name="adj2" fmla="val 304638"/>
              <a:gd name="adj3" fmla="val 16667"/>
            </a:avLst>
          </a:prstGeom>
          <a:solidFill>
            <a:srgbClr val="ffffff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たしかに、ＤＶＤ・ビデオはおもしろいよ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でも、ほかとつながっているかどうかを考えると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インターネットとちがうね。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ea typeface="HG創英角ﾎﾟｯﾌﾟ体"/>
                <a:hlinkClick r:id="rId2" action="ppaction://hlinksldjump"/>
              </a:rPr>
              <a:t>ふり出しにもど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451640" y="4292640"/>
            <a:ext cx="1362240" cy="439560"/>
            <a:chOff x="7451640" y="4292640"/>
            <a:chExt cx="1362240" cy="439560"/>
          </a:xfrm>
        </p:grpSpPr>
        <p:sp>
          <p:nvSpPr>
            <p:cNvPr id="171" name=""/>
            <p:cNvSpPr/>
            <p:nvPr/>
          </p:nvSpPr>
          <p:spPr>
            <a:xfrm>
              <a:off x="7885080" y="429264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3"/>
            <a:stretch/>
          </p:blipFill>
          <p:spPr>
            <a:xfrm>
              <a:off x="7451640" y="4292640"/>
              <a:ext cx="439920" cy="4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" name=""/>
          <p:cNvGrpSpPr/>
          <p:nvPr/>
        </p:nvGrpSpPr>
        <p:grpSpPr>
          <a:xfrm>
            <a:off x="108000" y="3860640"/>
            <a:ext cx="4248000" cy="2808360"/>
            <a:chOff x="108000" y="3860640"/>
            <a:chExt cx="4248000" cy="2808360"/>
          </a:xfrm>
        </p:grpSpPr>
        <p:sp>
          <p:nvSpPr>
            <p:cNvPr id="174" name=""/>
            <p:cNvSpPr/>
            <p:nvPr/>
          </p:nvSpPr>
          <p:spPr>
            <a:xfrm>
              <a:off x="611280" y="3860640"/>
              <a:ext cx="1824120" cy="505080"/>
            </a:xfrm>
            <a:prstGeom prst="roundRect">
              <a:avLst>
                <a:gd name="adj" fmla="val 16667"/>
              </a:avLst>
            </a:prstGeom>
            <a:solidFill>
              <a:srgbClr val="66ffcc"/>
            </a:solidFill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ＤＶＤ・ビデ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>
              <a:hlinkClick r:id="rId4" action="ppaction://hlinksldjump"/>
            </p:cNvPr>
            <p:cNvSpPr/>
            <p:nvPr/>
          </p:nvSpPr>
          <p:spPr>
            <a:xfrm>
              <a:off x="108000" y="5229360"/>
              <a:ext cx="4248000" cy="1439640"/>
            </a:xfrm>
            <a:prstGeom prst="wedgeRoundRectCallout">
              <a:avLst>
                <a:gd name="adj1" fmla="val 412"/>
                <a:gd name="adj2" fmla="val -120342"/>
                <a:gd name="adj3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66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②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いろいろなおもしろいアニメや音楽が楽しめるからＤＶＤ・ビデオみたいだね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276720" y="1989000"/>
            <a:ext cx="5688000" cy="1800360"/>
            <a:chOff x="3276720" y="1989000"/>
            <a:chExt cx="5688000" cy="1800360"/>
          </a:xfrm>
        </p:grpSpPr>
        <p:sp>
          <p:nvSpPr>
            <p:cNvPr id="177" name="">
              <a:hlinkClick r:id="rId5" action="ppaction://hlinksldjump"/>
            </p:cNvPr>
            <p:cNvSpPr/>
            <p:nvPr/>
          </p:nvSpPr>
          <p:spPr>
            <a:xfrm>
              <a:off x="4140360" y="2565360"/>
              <a:ext cx="4824360" cy="1224000"/>
            </a:xfrm>
            <a:prstGeom prst="wedgeRoundRectCallout">
              <a:avLst>
                <a:gd name="adj1" fmla="val -49833"/>
                <a:gd name="adj2" fmla="val -86185"/>
                <a:gd name="adj3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  <a:ea typeface="HG創英角ﾎﾟｯﾌﾟ体"/>
                </a:rPr>
                <a:t>①</a:t>
              </a:r>
              <a:r>
                <a:rPr b="0" lang="zh-CN" sz="2000" spc="-1" strike="noStrike">
                  <a:solidFill>
                    <a:srgbClr val="808080"/>
                  </a:solidFill>
                  <a:latin typeface="Arial"/>
                  <a:ea typeface="HG創英角ﾎﾟｯﾌﾟ体"/>
                </a:rPr>
                <a:t>いつでもおもしろいし、やっぱり、テレビでしょう。だって画面がそっくりなんだもん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76720" y="1989000"/>
              <a:ext cx="914400" cy="41148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808080"/>
                  </a:solidFill>
                  <a:latin typeface="Arial"/>
                  <a:ea typeface="HG創英角ﾎﾟｯﾌﾟ体"/>
                </a:rPr>
                <a:t>テレ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32000" y="3645000"/>
            <a:ext cx="5832360" cy="2808360"/>
            <a:chOff x="3132000" y="3645000"/>
            <a:chExt cx="5832360" cy="2808360"/>
          </a:xfrm>
        </p:grpSpPr>
        <p:sp>
          <p:nvSpPr>
            <p:cNvPr id="180" name="">
              <a:hlinkClick r:id="rId6" action="ppaction://hlinksldjump"/>
            </p:cNvPr>
            <p:cNvSpPr/>
            <p:nvPr/>
          </p:nvSpPr>
          <p:spPr>
            <a:xfrm>
              <a:off x="3132000" y="3645000"/>
              <a:ext cx="949320" cy="43200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808080"/>
                  </a:solidFill>
                  <a:latin typeface="Arial"/>
                  <a:ea typeface="HG創英角ﾎﾟｯﾌﾟ体"/>
                </a:rPr>
                <a:t>でん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>
              <a:hlinkClick r:id="rId7" action="ppaction://hlinksldjump"/>
            </p:cNvPr>
            <p:cNvSpPr/>
            <p:nvPr/>
          </p:nvSpPr>
          <p:spPr>
            <a:xfrm>
              <a:off x="4476960" y="5229360"/>
              <a:ext cx="4487400" cy="1224000"/>
            </a:xfrm>
            <a:prstGeom prst="wedgeRoundRectCallout">
              <a:avLst>
                <a:gd name="adj1" fmla="val -60689"/>
                <a:gd name="adj2" fmla="val -147148"/>
                <a:gd name="adj3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808080"/>
                  </a:solidFill>
                  <a:latin typeface="Arial"/>
                  <a:ea typeface="HG創英角ﾎﾟｯﾌﾟ体"/>
                </a:rPr>
                <a:t>③</a:t>
              </a:r>
              <a:r>
                <a:rPr b="0" lang="ja-JP" sz="2000" spc="-1" strike="noStrike">
                  <a:solidFill>
                    <a:srgbClr val="808080"/>
                  </a:solidFill>
                  <a:latin typeface="Arial"/>
                  <a:ea typeface="HG創英角ﾎﾟｯﾌﾟ体"/>
                </a:rPr>
                <a:t>番号をはっきりさせてつながっているんだから、でんわみたいだね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280" y="3860640"/>
            <a:ext cx="8839440" cy="28195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3962520"/>
            <a:ext cx="2666880" cy="685800"/>
          </a:xfrm>
          <a:prstGeom prst="rightArrow">
            <a:avLst>
              <a:gd name="adj1" fmla="val 50000"/>
              <a:gd name="adj2" fmla="val 9721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インターネットってなに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8000" y="228600"/>
            <a:ext cx="698508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「インターネット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も相手のことを考えて使うこ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8000" y="2349360"/>
            <a:ext cx="2482920" cy="1224000"/>
          </a:xfrm>
          <a:prstGeom prst="irregularSeal2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せきに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836640"/>
            <a:ext cx="2700360" cy="1517760"/>
          </a:xfrm>
          <a:prstGeom prst="irregularSeal2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相手がわか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800600" y="4114800"/>
            <a:ext cx="609480" cy="3650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800600" y="4952880"/>
            <a:ext cx="609480" cy="3654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800600" y="5867280"/>
            <a:ext cx="609480" cy="3668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4920" y="4724280"/>
            <a:ext cx="1458720" cy="7207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関連リンク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パワーアップ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65240" y="3929040"/>
            <a:ext cx="3120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総務省情報通信白書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for Kid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http://www.kids.soumu.go.jp/internet/what/index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4800600"/>
            <a:ext cx="2666880" cy="685800"/>
          </a:xfrm>
          <a:prstGeom prst="rightArrow">
            <a:avLst>
              <a:gd name="adj1" fmla="val 50000"/>
              <a:gd name="adj2" fmla="val 9721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ハピーくんのネット教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5715000"/>
            <a:ext cx="2666880" cy="685800"/>
          </a:xfrm>
          <a:prstGeom prst="rightArrow">
            <a:avLst>
              <a:gd name="adj1" fmla="val 50000"/>
              <a:gd name="adj2" fmla="val 9721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ピーガルく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64160" y="4699080"/>
            <a:ext cx="30686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バンダイウェブサイ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bandai.co.jp/happy/netlife/net/01/01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11880" y="6006960"/>
            <a:ext cx="32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police.pref.kanagawa.jp/mes/mesd0042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23800" y="579132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神奈川県警キッズサイバーパトロー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308720" y="260280"/>
            <a:ext cx="1979640" cy="432000"/>
            <a:chOff x="7308720" y="260280"/>
            <a:chExt cx="1979640" cy="432000"/>
          </a:xfrm>
        </p:grpSpPr>
        <p:sp>
          <p:nvSpPr>
            <p:cNvPr id="198" name=""/>
            <p:cNvSpPr/>
            <p:nvPr/>
          </p:nvSpPr>
          <p:spPr>
            <a:xfrm>
              <a:off x="7872480" y="333360"/>
              <a:ext cx="14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メニュー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7308720" y="260280"/>
              <a:ext cx="500040" cy="4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2627280" y="2276640"/>
            <a:ext cx="630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・インターネットでは、自分の名前を書かずにけいじばんに書きこみをしたり、電子メールを送ったりすることができます。でも、どのコンピュータから発信したかわかります。ニックネーム（ハンドルネーム）で発信する時も、とうぜん、せきにんを持つようにしてください。手紙や電話のように相手のことを考えて発信しましょ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00360" y="1125360"/>
            <a:ext cx="619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・テレビ放送はだれが見ているかわかりません。でもインターネットではコンピュータどうしが、自分の番号を知らせあってつながるしくみになっているので、相手がだれなのかわかりま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24360" y="3500280"/>
            <a:ext cx="1295280" cy="505080"/>
          </a:xfrm>
          <a:custGeom>
            <a:avLst/>
            <a:gdLst>
              <a:gd name="textAreaLeft" fmla="*/ 0 w 1295280"/>
              <a:gd name="textAreaRight" fmla="*/ 1295640 w 1295280"/>
              <a:gd name="textAreaTop" fmla="*/ 65520 h 505080"/>
              <a:gd name="textAreaBottom" fmla="*/ 4399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みかちゃん-PB"/>
              </a:rPr>
              <a:t>ほしをクリッ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20"/>
                            </p:stCondLst>
                            <p:childTnLst>
                              <p:par>
                                <p:cTn id="356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00:45:26Z</dcterms:created>
  <dc:creator/>
  <dc:description/>
  <dc:language>en-US</dc:language>
  <cp:lastModifiedBy/>
  <dcterms:modified xsi:type="dcterms:W3CDTF">2006-04-07T02:56:53Z</dcterms:modified>
  <cp:revision>101</cp:revision>
  <dc:subject/>
  <dc:title>情報モラルって何？</dc:title>
</cp:coreProperties>
</file>