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358-2ACC-4A63-AEEE-548F3D01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EFF-3F5B-4485-897A-ED74A986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FD2-F68B-4ADD-9C43-C99F9570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88A-836B-4BD9-B0F5-68F1FE6B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B23-519C-4C61-8C61-F8D2D8B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0F0-A800-4EDF-BFF2-C147BEA5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5BC-99AC-4E6F-A1D0-D43866AF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FF3-2B2E-404C-9DD6-3969C983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37F-9466-4D6B-9AFD-C771DF0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FC4-C554-4084-BE5A-F767872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CAB-59D9-498D-BB88-488C9655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A00-9064-40AB-A06B-16115C01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6920" y="5181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98D4-C669-4450-BD96-BCC8F8C62A0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77320" y="64771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6.jpe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c.or.jp/net-walk/GAKUSYU_es_k/11k-unit.html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cec.or.jp/net-walk/GAKUSYU_es_k/10k-unit.html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moralnet.kashiwa.ed.jp/morals/kids/communication/index.html" TargetMode="External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とびら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620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それ、ちがうんじゃないの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53280" y="6477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46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457200"/>
            <a:ext cx="8731080" cy="601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115920"/>
            <a:ext cx="175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メニューページにもど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859280" y="3213000"/>
          <a:ext cx="2683080" cy="193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9280" y="3213000"/>
                    <a:ext cx="268308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35640" y="2565360"/>
          <a:ext cx="2682720" cy="193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35640" y="2565360"/>
                    <a:ext cx="268272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156360" y="1700280"/>
          <a:ext cx="2682720" cy="193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56360" y="1700280"/>
                    <a:ext cx="268272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97960" y="152280"/>
            <a:ext cx="10699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5791320" y="5715000"/>
            <a:ext cx="1361520" cy="439560"/>
            <a:chOff x="5791320" y="5715000"/>
            <a:chExt cx="1361520" cy="439560"/>
          </a:xfrm>
        </p:grpSpPr>
        <p:sp>
          <p:nvSpPr>
            <p:cNvPr id="59" name=""/>
            <p:cNvSpPr/>
            <p:nvPr/>
          </p:nvSpPr>
          <p:spPr>
            <a:xfrm>
              <a:off x="6224400" y="5715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5791320" y="571500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4191120" y="1419120"/>
            <a:ext cx="4549680" cy="703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はるかさんは、おもしろそうな話題を見つけたので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チャットコーナー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書き込むことに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書き込むと、すぐに相手からの返事が返ってきます。それがおもしろくて何回も何回も書き込みました。そのうち、相手の考えが自分とちがうことがわかり、だんだんいやな気持ちになってき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4508640"/>
            <a:ext cx="4648320" cy="398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みかちゃん-P"/>
              </a:rPr>
              <a:t>あなたにも、こんなけい験はありませんか？もし、あなたがはるかさんだったらどうし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04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「反対します！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514440"/>
            <a:ext cx="3581640" cy="268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24000" y="3789360"/>
          <a:ext cx="3600360" cy="25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789360"/>
                    <a:ext cx="3600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127008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28908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みかちゃん-P"/>
              </a:rPr>
              <a:t>反対します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43280" y="3357720"/>
          <a:ext cx="2879640" cy="20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3357720"/>
                    <a:ext cx="28796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995640" y="2349360"/>
          <a:ext cx="3057480" cy="21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2349360"/>
                    <a:ext cx="305748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7391520" y="6248520"/>
            <a:ext cx="1361520" cy="439560"/>
            <a:chOff x="7391520" y="6248520"/>
            <a:chExt cx="1361520" cy="439560"/>
          </a:xfrm>
        </p:grpSpPr>
        <p:sp>
          <p:nvSpPr>
            <p:cNvPr id="75" name=""/>
            <p:cNvSpPr/>
            <p:nvPr/>
          </p:nvSpPr>
          <p:spPr>
            <a:xfrm>
              <a:off x="7824600" y="6248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7391520" y="624852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4716360" y="260280"/>
            <a:ext cx="2667240" cy="1067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んだって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8525400">
            <a:off x="5181120" y="4724280"/>
            <a:ext cx="3657600" cy="873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17000 h 873360"/>
              <a:gd name="textAreaBottom" fmla="*/ 756360 h 87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0"/>
            <a:ext cx="2438640" cy="144792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にをいってる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8077320" y="2438280"/>
            <a:ext cx="1003320" cy="121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5029200"/>
            <a:ext cx="2895840" cy="160020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そんなことないでし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76720" y="1413000"/>
          <a:ext cx="3049560" cy="21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1413000"/>
                    <a:ext cx="30495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rot="19854000">
            <a:off x="1981080" y="1447920"/>
            <a:ext cx="3657600" cy="87300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17000 h 873000"/>
              <a:gd name="textAreaBottom" fmla="*/ 756000 h 87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1"/>
          <a:srcRect l="26315" t="10528" r="18420" b="19299"/>
          <a:stretch/>
        </p:blipFill>
        <p:spPr>
          <a:xfrm>
            <a:off x="7543800" y="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76320"/>
            <a:ext cx="756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さて、自分とちがう考えのチャット相手がいたら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あなたはどうします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　この中から、一番近いものをひとつえらんでね。</a:t>
            </a: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1484280"/>
            <a:ext cx="4176720" cy="64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決めた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　　そのふきだしをクリックしよ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2674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352680" y="2438280"/>
            <a:ext cx="5486400" cy="1371600"/>
            <a:chOff x="3352680" y="2438280"/>
            <a:chExt cx="5486400" cy="1371600"/>
          </a:xfrm>
        </p:grpSpPr>
        <p:sp>
          <p:nvSpPr>
            <p:cNvPr id="91" name="">
              <a:hlinkClick r:id="rId2" action="ppaction://hlinksldjump"/>
            </p:cNvPr>
            <p:cNvSpPr/>
            <p:nvPr/>
          </p:nvSpPr>
          <p:spPr>
            <a:xfrm>
              <a:off x="5075280" y="2971800"/>
              <a:ext cx="3763800" cy="838080"/>
            </a:xfrm>
            <a:prstGeom prst="wedgeRoundRectCallout">
              <a:avLst>
                <a:gd name="adj1" fmla="val -73240"/>
                <a:gd name="adj2" fmla="val -72726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それはちがうと思うよ。変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438280"/>
              <a:ext cx="152424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反対す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0880" y="4267080"/>
            <a:ext cx="4119840" cy="2133720"/>
            <a:chOff x="380880" y="4267080"/>
            <a:chExt cx="4119840" cy="2133720"/>
          </a:xfrm>
        </p:grpSpPr>
        <p:sp>
          <p:nvSpPr>
            <p:cNvPr id="94" name=""/>
            <p:cNvSpPr/>
            <p:nvPr/>
          </p:nvSpPr>
          <p:spPr>
            <a:xfrm>
              <a:off x="539640" y="4267080"/>
              <a:ext cx="39610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相手を傷つけないように意見を言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>
              <a:hlinkClick r:id="rId3" action="ppaction://hlinksldjump"/>
            </p:cNvPr>
            <p:cNvSpPr/>
            <p:nvPr/>
          </p:nvSpPr>
          <p:spPr>
            <a:xfrm>
              <a:off x="380880" y="5257800"/>
              <a:ext cx="3733920" cy="1143000"/>
            </a:xfrm>
            <a:prstGeom prst="wedgeRoundRectCallout">
              <a:avLst>
                <a:gd name="adj1" fmla="val 7101"/>
                <a:gd name="adj2" fmla="val -91666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66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あなたの言うそれもわかるけど、　　　　わたしはちがう考え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971800" y="3429000"/>
            <a:ext cx="5796000" cy="2743200"/>
            <a:chOff x="2971800" y="3429000"/>
            <a:chExt cx="5796000" cy="274320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971800" y="3429000"/>
              <a:ext cx="1905120" cy="46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仲間に入れ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>
              <a:hlinkClick r:id="rId5" action="ppaction://hlinksldjump"/>
            </p:cNvPr>
            <p:cNvSpPr/>
            <p:nvPr/>
          </p:nvSpPr>
          <p:spPr>
            <a:xfrm>
              <a:off x="4876920" y="4800600"/>
              <a:ext cx="3890880" cy="1371600"/>
            </a:xfrm>
            <a:prstGeom prst="wedgeRoundRectCallout">
              <a:avLst>
                <a:gd name="adj1" fmla="val -67870"/>
                <a:gd name="adj2" fmla="val -110648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何を言ってるの！あなたの言って　ることは、全然ちがうと思う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どっか行ってよ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628040" y="6284880"/>
            <a:ext cx="1361520" cy="439920"/>
            <a:chOff x="7628040" y="6284880"/>
            <a:chExt cx="1361520" cy="439920"/>
          </a:xfrm>
        </p:grpSpPr>
        <p:sp>
          <p:nvSpPr>
            <p:cNvPr id="100" name=""/>
            <p:cNvSpPr/>
            <p:nvPr/>
          </p:nvSpPr>
          <p:spPr>
            <a:xfrm>
              <a:off x="8061120" y="628488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628040" y="628488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2674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395280" y="4267080"/>
            <a:ext cx="3960720" cy="2238480"/>
            <a:chOff x="395280" y="4267080"/>
            <a:chExt cx="3960720" cy="2238480"/>
          </a:xfrm>
        </p:grpSpPr>
        <p:sp>
          <p:nvSpPr>
            <p:cNvPr id="104" name="">
              <a:hlinkClick r:id="rId2" action="ppaction://hlinksldjump"/>
            </p:cNvPr>
            <p:cNvSpPr/>
            <p:nvPr/>
          </p:nvSpPr>
          <p:spPr>
            <a:xfrm>
              <a:off x="457200" y="5257800"/>
              <a:ext cx="3733920" cy="1247760"/>
            </a:xfrm>
            <a:prstGeom prst="wedgeRoundRectCallout">
              <a:avLst>
                <a:gd name="adj1" fmla="val 14500"/>
                <a:gd name="adj2" fmla="val -91222"/>
                <a:gd name="adj3" fmla="val 1666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あなたの言うそれもわかるけど、　　わたしはちがう意見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5280" y="4267080"/>
              <a:ext cx="396072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相手を傷つけないように意見を言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48120" y="3505320"/>
            <a:ext cx="5792760" cy="2687400"/>
            <a:chOff x="3048120" y="3505320"/>
            <a:chExt cx="5792760" cy="2687400"/>
          </a:xfrm>
        </p:grpSpPr>
        <p:sp>
          <p:nvSpPr>
            <p:cNvPr id="107" name="">
              <a:hlinkClick r:id="rId3" action="ppaction://hlinksldjump"/>
            </p:cNvPr>
            <p:cNvSpPr/>
            <p:nvPr/>
          </p:nvSpPr>
          <p:spPr>
            <a:xfrm>
              <a:off x="4643280" y="4869000"/>
              <a:ext cx="4197600" cy="1323720"/>
            </a:xfrm>
            <a:prstGeom prst="wedgeRoundRectCallout">
              <a:avLst>
                <a:gd name="adj1" fmla="val -57717"/>
                <a:gd name="adj2" fmla="val -113907"/>
                <a:gd name="adj3" fmla="val 1666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何を言ってるの！あなたの言って</a:t>
              </a:r>
              <a:br>
                <a:rPr sz="1600"/>
              </a:b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ることは、全然ちがうと思う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どっか行ってよ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8120" y="3505320"/>
              <a:ext cx="180792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仲間に入れ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619280" y="260280"/>
            <a:ext cx="7148520" cy="1044720"/>
          </a:xfrm>
          <a:prstGeom prst="wedgeRoundRectCallout">
            <a:avLst>
              <a:gd name="adj1" fmla="val 18578"/>
              <a:gd name="adj2" fmla="val 225986"/>
              <a:gd name="adj3" fmla="val 16667"/>
            </a:avLst>
          </a:prstGeom>
          <a:solidFill>
            <a:srgbClr val="ffffff"/>
          </a:solidFill>
          <a:ln w="540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分の考えをもつことは大切ですが、顔も知らない相手には、どのように伝わるかがわかりません。まずは相手の気持ちをよく考え、受け止めてから、自分の気持ちを伝える努力を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788000" y="1989000"/>
            <a:ext cx="1361520" cy="439920"/>
            <a:chOff x="4788000" y="1989000"/>
            <a:chExt cx="1361520" cy="439920"/>
          </a:xfrm>
        </p:grpSpPr>
        <p:sp>
          <p:nvSpPr>
            <p:cNvPr id="111" name=""/>
            <p:cNvSpPr/>
            <p:nvPr/>
          </p:nvSpPr>
          <p:spPr>
            <a:xfrm>
              <a:off x="5221080" y="1989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4788000" y="198900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3429000" y="2666880"/>
            <a:ext cx="5486400" cy="1371600"/>
            <a:chOff x="3429000" y="2666880"/>
            <a:chExt cx="5486400" cy="1371600"/>
          </a:xfrm>
        </p:grpSpPr>
        <p:sp>
          <p:nvSpPr>
            <p:cNvPr id="114" name=""/>
            <p:cNvSpPr/>
            <p:nvPr/>
          </p:nvSpPr>
          <p:spPr>
            <a:xfrm>
              <a:off x="5151600" y="3200400"/>
              <a:ext cx="3763800" cy="838080"/>
            </a:xfrm>
            <a:prstGeom prst="wedgeRoundRectCallout">
              <a:avLst>
                <a:gd name="adj1" fmla="val -73240"/>
                <a:gd name="adj2" fmla="val -72726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それはちがうと思うよ。変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2666880"/>
              <a:ext cx="152424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反対す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2670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200400" y="2438280"/>
            <a:ext cx="5562720" cy="1295640"/>
            <a:chOff x="3200400" y="2438280"/>
            <a:chExt cx="5562720" cy="1295640"/>
          </a:xfrm>
        </p:grpSpPr>
        <p:sp>
          <p:nvSpPr>
            <p:cNvPr id="118" name="">
              <a:hlinkClick r:id="rId2" action="ppaction://hlinksldjump"/>
            </p:cNvPr>
            <p:cNvSpPr/>
            <p:nvPr/>
          </p:nvSpPr>
          <p:spPr>
            <a:xfrm>
              <a:off x="4896000" y="2860560"/>
              <a:ext cx="3867120" cy="873360"/>
            </a:xfrm>
            <a:prstGeom prst="wedgeRoundRectCallout">
              <a:avLst>
                <a:gd name="adj1" fmla="val -71837"/>
                <a:gd name="adj2" fmla="val -56365"/>
                <a:gd name="adj3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それはちがうと思うよ。変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400" y="2438280"/>
              <a:ext cx="152388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反対す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3520" y="4267080"/>
            <a:ext cx="3967200" cy="2133720"/>
            <a:chOff x="533520" y="4267080"/>
            <a:chExt cx="3967200" cy="2133720"/>
          </a:xfrm>
        </p:grpSpPr>
        <p:sp>
          <p:nvSpPr>
            <p:cNvPr id="122" name="">
              <a:hlinkClick r:id="rId3" action="ppaction://hlinksldjump"/>
            </p:cNvPr>
            <p:cNvSpPr/>
            <p:nvPr/>
          </p:nvSpPr>
          <p:spPr>
            <a:xfrm>
              <a:off x="533520" y="5334120"/>
              <a:ext cx="3733560" cy="1066680"/>
            </a:xfrm>
            <a:prstGeom prst="wedgeRoundRectCallout">
              <a:avLst>
                <a:gd name="adj1" fmla="val 9865"/>
                <a:gd name="adj2" fmla="val -111458"/>
                <a:gd name="adj3" fmla="val 1666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あなたの言うそれもわかるけど、　　わたしはちがう考え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4360" y="4267080"/>
              <a:ext cx="381636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相手を傷つけないように意見を言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88000" y="1989000"/>
            <a:ext cx="1361520" cy="439920"/>
            <a:chOff x="4788000" y="1989000"/>
            <a:chExt cx="1361520" cy="439920"/>
          </a:xfrm>
        </p:grpSpPr>
        <p:sp>
          <p:nvSpPr>
            <p:cNvPr id="125" name=""/>
            <p:cNvSpPr/>
            <p:nvPr/>
          </p:nvSpPr>
          <p:spPr>
            <a:xfrm>
              <a:off x="5221080" y="1989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4788000" y="198900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2819520" y="3505320"/>
            <a:ext cx="5796000" cy="2743200"/>
            <a:chOff x="2819520" y="3505320"/>
            <a:chExt cx="5796000" cy="2743200"/>
          </a:xfrm>
        </p:grpSpPr>
        <p:sp>
          <p:nvSpPr>
            <p:cNvPr id="128" name=""/>
            <p:cNvSpPr/>
            <p:nvPr/>
          </p:nvSpPr>
          <p:spPr>
            <a:xfrm>
              <a:off x="2819520" y="3505320"/>
              <a:ext cx="1904760" cy="465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仲間に入れ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4280" y="4876920"/>
              <a:ext cx="3891240" cy="1371600"/>
            </a:xfrm>
            <a:prstGeom prst="wedgeRoundRectCallout">
              <a:avLst>
                <a:gd name="adj1" fmla="val -67870"/>
                <a:gd name="adj2" fmla="val -110648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何を言ってるの！あなたの言って　ることは、全然ちがうと思う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どっか行ってよ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52480" y="152280"/>
            <a:ext cx="7170840" cy="1440000"/>
          </a:xfrm>
          <a:prstGeom prst="wedgeRoundRectCallout">
            <a:avLst>
              <a:gd name="adj1" fmla="val 24453"/>
              <a:gd name="adj2" fmla="val 289138"/>
              <a:gd name="adj3" fmla="val 16667"/>
            </a:avLst>
          </a:prstGeom>
          <a:solidFill>
            <a:srgbClr val="ff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分と考えがちがう人を認めず、仲間に入れず、どっかにいけばよいという考えはトラブルのもと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顔も知らない人が相手なら、もっと心配なことになりそ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ごろから、相手の気持ちや考えを受け止めるように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33336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743200" y="3581280"/>
            <a:ext cx="6221520" cy="2590920"/>
            <a:chOff x="2743200" y="3581280"/>
            <a:chExt cx="6221520" cy="2590920"/>
          </a:xfrm>
        </p:grpSpPr>
        <p:sp>
          <p:nvSpPr>
            <p:cNvPr id="134" name="">
              <a:hlinkClick r:id="rId2" action="ppaction://hlinksldjump"/>
            </p:cNvPr>
            <p:cNvSpPr/>
            <p:nvPr/>
          </p:nvSpPr>
          <p:spPr>
            <a:xfrm>
              <a:off x="4664160" y="4800600"/>
              <a:ext cx="4300560" cy="1371600"/>
            </a:xfrm>
            <a:prstGeom prst="wedgeRoundRectCallout">
              <a:avLst>
                <a:gd name="adj1" fmla="val -61592"/>
                <a:gd name="adj2" fmla="val -109490"/>
                <a:gd name="adj3" fmla="val 16667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③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何を言ってるの！あなたの言っ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ることは、全然ちがうと思う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　どっか行ってよ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358128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仲間に入れな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50920" y="260280"/>
            <a:ext cx="7826400" cy="1035000"/>
          </a:xfrm>
          <a:prstGeom prst="wedgeRoundRectCallout">
            <a:avLst>
              <a:gd name="adj1" fmla="val -28092"/>
              <a:gd name="adj2" fmla="val 318402"/>
              <a:gd name="adj3" fmla="val 16667"/>
            </a:avLst>
          </a:prstGeom>
          <a:solidFill>
            <a:srgbClr val="ff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手の気持ちや考えを、まず受け止めることが大切です。その後、言葉をよく選んで、自分の考えを伝える努力を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24080" y="2438280"/>
            <a:ext cx="5769000" cy="1295640"/>
            <a:chOff x="3124080" y="2438280"/>
            <a:chExt cx="5769000" cy="1295640"/>
          </a:xfrm>
        </p:grpSpPr>
        <p:sp>
          <p:nvSpPr>
            <p:cNvPr id="138" name=""/>
            <p:cNvSpPr/>
            <p:nvPr/>
          </p:nvSpPr>
          <p:spPr>
            <a:xfrm>
              <a:off x="4975200" y="2924280"/>
              <a:ext cx="3917880" cy="809640"/>
            </a:xfrm>
            <a:prstGeom prst="wedgeRoundRectCallout">
              <a:avLst>
                <a:gd name="adj1" fmla="val -71638"/>
                <a:gd name="adj2" fmla="val -51763"/>
                <a:gd name="adj3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①</a:t>
              </a:r>
              <a:r>
                <a:rPr b="0" lang="zh-CN" sz="1600" spc="-1" strike="noStrike">
                  <a:solidFill>
                    <a:srgbClr val="b2b2b2"/>
                  </a:solidFill>
                  <a:latin typeface="Arial"/>
                  <a:ea typeface="HG創英角ﾎﾟｯﾌﾟ体"/>
                </a:rPr>
                <a:t>それはちがうと思うよ。変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>
              <a:hlinkClick r:id="rId3" action="ppaction://hlinksldjump"/>
            </p:cNvPr>
            <p:cNvSpPr/>
            <p:nvPr/>
          </p:nvSpPr>
          <p:spPr>
            <a:xfrm>
              <a:off x="3124080" y="2438280"/>
              <a:ext cx="1447920" cy="38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反対す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788000" y="1989000"/>
            <a:ext cx="1361520" cy="439920"/>
            <a:chOff x="4788000" y="1989000"/>
            <a:chExt cx="1361520" cy="439920"/>
          </a:xfrm>
        </p:grpSpPr>
        <p:sp>
          <p:nvSpPr>
            <p:cNvPr id="141" name=""/>
            <p:cNvSpPr/>
            <p:nvPr/>
          </p:nvSpPr>
          <p:spPr>
            <a:xfrm>
              <a:off x="5221080" y="19890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4788000" y="1989000"/>
              <a:ext cx="439560" cy="43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533520" y="4343400"/>
            <a:ext cx="3894120" cy="2133720"/>
            <a:chOff x="533520" y="4343400"/>
            <a:chExt cx="3894120" cy="2133720"/>
          </a:xfrm>
        </p:grpSpPr>
        <p:sp>
          <p:nvSpPr>
            <p:cNvPr id="144" name=""/>
            <p:cNvSpPr/>
            <p:nvPr/>
          </p:nvSpPr>
          <p:spPr>
            <a:xfrm>
              <a:off x="539640" y="4343400"/>
              <a:ext cx="38880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相手を傷つけないように意見を言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520" y="5334120"/>
              <a:ext cx="3733560" cy="1143000"/>
            </a:xfrm>
            <a:prstGeom prst="wedgeRoundRectCallout">
              <a:avLst>
                <a:gd name="adj1" fmla="val 7101"/>
                <a:gd name="adj2" fmla="val -91666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66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②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あなたの言うそれもわかるけど、　　わたしはちがう考えだ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549360"/>
            <a:ext cx="2720880" cy="1871640"/>
          </a:xfrm>
          <a:prstGeom prst="wedgeRoundRectCallout">
            <a:avLst>
              <a:gd name="adj1" fmla="val 6476"/>
              <a:gd name="adj2" fmla="val 95037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みかちゃん-P"/>
              </a:rPr>
              <a:t>それはちがうと思う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みかちゃん-P"/>
              </a:rPr>
              <a:t>　　変だ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609480"/>
            <a:ext cx="2790720" cy="1944720"/>
          </a:xfrm>
          <a:prstGeom prst="wedgeRoundRectCallout">
            <a:avLst>
              <a:gd name="adj1" fmla="val 10638"/>
              <a:gd name="adj2" fmla="val 88287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みかちゃん-P"/>
              </a:rPr>
              <a:t>あなたの言うそれも　　　わかるけど、わたしは違う考えだ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4720" y="620640"/>
            <a:ext cx="2881440" cy="2016360"/>
          </a:xfrm>
          <a:prstGeom prst="wedgeRoundRectCallout">
            <a:avLst>
              <a:gd name="adj1" fmla="val -13032"/>
              <a:gd name="adj2" fmla="val 83069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bad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みかちゃん-P"/>
              </a:rPr>
              <a:t>何を言ってるの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みかちゃん-P"/>
              </a:rPr>
              <a:t>あなたの言ってることは、全然ちがうと思う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みかちゃん-P"/>
              </a:rPr>
              <a:t>どっかいってよ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89000"/>
            <a:ext cx="123048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ＰＯＰ４B"/>
              </a:rPr>
              <a:t>反対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228600"/>
            <a:ext cx="3745080" cy="32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ＰＯＰ４B"/>
              </a:rPr>
              <a:t>相手を傷つけないように意見を言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28600"/>
            <a:ext cx="190476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ＰＯＰ４B"/>
              </a:rPr>
              <a:t>仲間に入れ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81280"/>
            <a:ext cx="2971800" cy="2590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相手の気持ちや考えを、まず受け止めることが大切です。その後、言葉をよく選ん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自分の考えを伝える努力をし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3657600"/>
            <a:ext cx="2884320" cy="2320920"/>
          </a:xfrm>
          <a:prstGeom prst="flowChartAlternateProcess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自分の考えをもつことは大切ですが、顔も知らない相手には、どのように伝わるかがわかりません。まずは、相手の気持ちをよく考え、受け止めてから。自分の気持ちを伝える努力をし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9280" y="6237360"/>
            <a:ext cx="1362240" cy="439560"/>
            <a:chOff x="4859280" y="6237360"/>
            <a:chExt cx="1362240" cy="439560"/>
          </a:xfrm>
        </p:grpSpPr>
        <p:sp>
          <p:nvSpPr>
            <p:cNvPr id="155" name=""/>
            <p:cNvSpPr/>
            <p:nvPr/>
          </p:nvSpPr>
          <p:spPr>
            <a:xfrm>
              <a:off x="5292720" y="6237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859280" y="623736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6084720" y="3573360"/>
            <a:ext cx="2884680" cy="2667240"/>
          </a:xfrm>
          <a:prstGeom prst="flowChartAlternateProcess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自分と考えがちがう人を認めず、仲間に入れず、どっかにいけばよいという考えはトラブルのもと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顔も知らない人が相手なら、もっと心配なことになりそうです。日ごろから、相手の気持ちや考えを受け止めるようにし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3733920"/>
            <a:ext cx="8839440" cy="2819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ネット社会の歩き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990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・ネットワークでは顔が見えないので、その人がどのよう　に考えて行動する人なのかよく分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ですから、普段よりも気をつけて言葉を選び、ていねいに自分の考えを伝えるようにしたらよいで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・相手がなにを言いたいのかをよく考えないと、かんちがいから、トラブルが起きやすくなります。よく考えてから、自分の気持ちを伝えるように努力し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544080"/>
            <a:ext cx="914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80880"/>
            <a:ext cx="41911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相手の気持ちを考えて発言しよ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268280"/>
            <a:ext cx="2016360" cy="1609920"/>
          </a:xfrm>
          <a:prstGeom prst="irregularSeal2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S創英角ﾎﾟｯﾌﾟ体"/>
              </a:rPr>
              <a:t>チャッ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114800"/>
            <a:ext cx="60948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4952880"/>
            <a:ext cx="609480" cy="365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5867280"/>
            <a:ext cx="609480" cy="366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0920" y="4724280"/>
            <a:ext cx="1530360" cy="7207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関連リンク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パワーアップ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56600" y="396252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チャットの危険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ec.or.jp/net-walk/GAKUSYU_es_k/25k-unit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480060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ネット社会の歩き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5715000"/>
            <a:ext cx="2666880" cy="685800"/>
          </a:xfrm>
          <a:prstGeom prst="rightArrow">
            <a:avLst>
              <a:gd name="adj1" fmla="val 50000"/>
              <a:gd name="adj2" fmla="val 972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情報モラル研修教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56600" y="487692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チャットで個人情報は言わ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ec.or.jp/net-walk/GAKUSYU_es_k/24k-unit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2960" y="6006960"/>
            <a:ext cx="27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ttp://www.japet.jp/moral/taiken/chat/deai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3640" y="581508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素敵な恋人が見つか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48360" y="333360"/>
            <a:ext cx="1979640" cy="431640"/>
            <a:chOff x="6948360" y="333360"/>
            <a:chExt cx="1979640" cy="431640"/>
          </a:xfrm>
        </p:grpSpPr>
        <p:sp>
          <p:nvSpPr>
            <p:cNvPr id="175" name=""/>
            <p:cNvSpPr/>
            <p:nvPr/>
          </p:nvSpPr>
          <p:spPr>
            <a:xfrm>
              <a:off x="7512120" y="406080"/>
              <a:ext cx="14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メニュー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7"/>
            <a:stretch/>
          </p:blipFill>
          <p:spPr>
            <a:xfrm>
              <a:off x="6948360" y="333360"/>
              <a:ext cx="50004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45:26Z</dcterms:created>
  <dc:creator>通信・放送機構</dc:creator>
  <dc:description/>
  <dc:language>en-US</dc:language>
  <cp:lastModifiedBy>miyakura</cp:lastModifiedBy>
  <dcterms:modified xsi:type="dcterms:W3CDTF">2006-04-07T04:33:01Z</dcterms:modified>
  <cp:revision>126</cp:revision>
  <dc:subject/>
  <dc:title>情報モラルって何？</dc:title>
</cp:coreProperties>
</file>